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theme/theme56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theme/theme5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11.jpeg" ContentType="image/jpeg"/>
  <Override PartName="/ppt/media/image36.jpeg" ContentType="image/jpeg"/>
  <Override PartName="/ppt/media/image40.png" ContentType="image/png"/>
  <Override PartName="/ppt/media/image9.jpeg" ContentType="image/jpeg"/>
  <Override PartName="/ppt/media/image13.png" ContentType="image/png"/>
  <Override PartName="/ppt/media/image37.jpeg" ContentType="image/jpeg"/>
  <Override PartName="/ppt/media/image38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6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8.jpeg" ContentType="image/jpeg"/>
  <Override PartName="/ppt/media/image39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.png" ContentType="image/png"/>
  <Override PartName="/ppt/media/image1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</p:sldMasterIdLst>
  <p:sldIdLst>
    <p:sldId id="256" r:id="rId62"/>
    <p:sldId id="257" r:id="rId63"/>
    <p:sldId id="258" r:id="rId64"/>
    <p:sldId id="259" r:id="rId65"/>
    <p:sldId id="260" r:id="rId66"/>
    <p:sldId id="261" r:id="rId67"/>
    <p:sldId id="262" r:id="rId68"/>
    <p:sldId id="263" r:id="rId69"/>
    <p:sldId id="264" r:id="rId70"/>
    <p:sldId id="265" r:id="rId71"/>
    <p:sldId id="266" r:id="rId72"/>
    <p:sldId id="267" r:id="rId73"/>
    <p:sldId id="268" r:id="rId74"/>
    <p:sldId id="269" r:id="rId75"/>
    <p:sldId id="270" r:id="rId76"/>
    <p:sldId id="271" r:id="rId77"/>
    <p:sldId id="272" r:id="rId78"/>
    <p:sldId id="273" r:id="rId79"/>
    <p:sldId id="274" r:id="rId80"/>
    <p:sldId id="275" r:id="rId81"/>
    <p:sldId id="276" r:id="rId82"/>
    <p:sldId id="277" r:id="rId83"/>
    <p:sldId id="278" r:id="rId84"/>
    <p:sldId id="279" r:id="rId85"/>
    <p:sldId id="280" r:id="rId86"/>
    <p:sldId id="281" r:id="rId87"/>
    <p:sldId id="282" r:id="rId88"/>
    <p:sldId id="283" r:id="rId89"/>
    <p:sldId id="284" r:id="rId90"/>
    <p:sldId id="285" r:id="rId91"/>
    <p:sldId id="286" r:id="rId92"/>
    <p:sldId id="287" r:id="rId93"/>
    <p:sldId id="288" r:id="rId94"/>
    <p:sldId id="289" r:id="rId95"/>
    <p:sldId id="290" r:id="rId96"/>
    <p:sldId id="291" r:id="rId97"/>
    <p:sldId id="292" r:id="rId98"/>
    <p:sldId id="293" r:id="rId99"/>
    <p:sldId id="294" r:id="rId100"/>
    <p:sldId id="295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" Target="slides/slide1.xml"/><Relationship Id="rId63" Type="http://schemas.openxmlformats.org/officeDocument/2006/relationships/slide" Target="slides/slide2.xml"/><Relationship Id="rId64" Type="http://schemas.openxmlformats.org/officeDocument/2006/relationships/slide" Target="slides/slide3.xml"/><Relationship Id="rId65" Type="http://schemas.openxmlformats.org/officeDocument/2006/relationships/slide" Target="slides/slide4.xml"/><Relationship Id="rId66" Type="http://schemas.openxmlformats.org/officeDocument/2006/relationships/slide" Target="slides/slide5.xml"/><Relationship Id="rId67" Type="http://schemas.openxmlformats.org/officeDocument/2006/relationships/slide" Target="slides/slide6.xml"/><Relationship Id="rId68" Type="http://schemas.openxmlformats.org/officeDocument/2006/relationships/slide" Target="slides/slide7.xml"/><Relationship Id="rId69" Type="http://schemas.openxmlformats.org/officeDocument/2006/relationships/slide" Target="slides/slide8.xml"/><Relationship Id="rId70" Type="http://schemas.openxmlformats.org/officeDocument/2006/relationships/slide" Target="slides/slide9.xml"/><Relationship Id="rId71" Type="http://schemas.openxmlformats.org/officeDocument/2006/relationships/slide" Target="slides/slide10.xml"/><Relationship Id="rId72" Type="http://schemas.openxmlformats.org/officeDocument/2006/relationships/slide" Target="slides/slide11.xml"/><Relationship Id="rId73" Type="http://schemas.openxmlformats.org/officeDocument/2006/relationships/slide" Target="slides/slide12.xml"/><Relationship Id="rId74" Type="http://schemas.openxmlformats.org/officeDocument/2006/relationships/slide" Target="slides/slide13.xml"/><Relationship Id="rId75" Type="http://schemas.openxmlformats.org/officeDocument/2006/relationships/slide" Target="slides/slide14.xml"/><Relationship Id="rId76" Type="http://schemas.openxmlformats.org/officeDocument/2006/relationships/slide" Target="slides/slide15.xml"/><Relationship Id="rId77" Type="http://schemas.openxmlformats.org/officeDocument/2006/relationships/slide" Target="slides/slide16.xml"/><Relationship Id="rId78" Type="http://schemas.openxmlformats.org/officeDocument/2006/relationships/slide" Target="slides/slide17.xml"/><Relationship Id="rId79" Type="http://schemas.openxmlformats.org/officeDocument/2006/relationships/slide" Target="slides/slide18.xml"/><Relationship Id="rId80" Type="http://schemas.openxmlformats.org/officeDocument/2006/relationships/slide" Target="slides/slide19.xml"/><Relationship Id="rId81" Type="http://schemas.openxmlformats.org/officeDocument/2006/relationships/slide" Target="slides/slide20.xml"/><Relationship Id="rId82" Type="http://schemas.openxmlformats.org/officeDocument/2006/relationships/slide" Target="slides/slide21.xml"/><Relationship Id="rId83" Type="http://schemas.openxmlformats.org/officeDocument/2006/relationships/slide" Target="slides/slide22.xml"/><Relationship Id="rId84" Type="http://schemas.openxmlformats.org/officeDocument/2006/relationships/slide" Target="slides/slide23.xml"/><Relationship Id="rId85" Type="http://schemas.openxmlformats.org/officeDocument/2006/relationships/slide" Target="slides/slide24.xml"/><Relationship Id="rId86" Type="http://schemas.openxmlformats.org/officeDocument/2006/relationships/slide" Target="slides/slide25.xml"/><Relationship Id="rId87" Type="http://schemas.openxmlformats.org/officeDocument/2006/relationships/slide" Target="slides/slide26.xml"/><Relationship Id="rId88" Type="http://schemas.openxmlformats.org/officeDocument/2006/relationships/slide" Target="slides/slide27.xml"/><Relationship Id="rId89" Type="http://schemas.openxmlformats.org/officeDocument/2006/relationships/slide" Target="slides/slide28.xml"/><Relationship Id="rId90" Type="http://schemas.openxmlformats.org/officeDocument/2006/relationships/slide" Target="slides/slide29.xml"/><Relationship Id="rId91" Type="http://schemas.openxmlformats.org/officeDocument/2006/relationships/slide" Target="slides/slide30.xml"/><Relationship Id="rId92" Type="http://schemas.openxmlformats.org/officeDocument/2006/relationships/slide" Target="slides/slide31.xml"/><Relationship Id="rId93" Type="http://schemas.openxmlformats.org/officeDocument/2006/relationships/slide" Target="slides/slide32.xml"/><Relationship Id="rId94" Type="http://schemas.openxmlformats.org/officeDocument/2006/relationships/slide" Target="slides/slide33.xml"/><Relationship Id="rId95" Type="http://schemas.openxmlformats.org/officeDocument/2006/relationships/slide" Target="slides/slide34.xml"/><Relationship Id="rId96" Type="http://schemas.openxmlformats.org/officeDocument/2006/relationships/slide" Target="slides/slide35.xml"/><Relationship Id="rId97" Type="http://schemas.openxmlformats.org/officeDocument/2006/relationships/slide" Target="slides/slide36.xml"/><Relationship Id="rId98" Type="http://schemas.openxmlformats.org/officeDocument/2006/relationships/slide" Target="slides/slide37.xml"/><Relationship Id="rId99" Type="http://schemas.openxmlformats.org/officeDocument/2006/relationships/slide" Target="slides/slide38.xml"/><Relationship Id="rId100" Type="http://schemas.openxmlformats.org/officeDocument/2006/relationships/slide" Target="slides/slide39.xml"/><Relationship Id="rId101" Type="http://schemas.openxmlformats.org/officeDocument/2006/relationships/slide" Target="slides/slide40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6CFA-62E5-46F8-82B4-0C92285E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5322-D496-4E99-BF2E-B0BF5063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9F040-A28E-458A-838B-BDB7DB29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B0B07-084B-4663-925A-959675A8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FF7E7-0421-486A-A61A-F545021C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21DCC-25CA-4119-A886-1FD1175F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9BDC1-7192-4A2F-9634-A167627C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AE9AF-57B9-439A-B19E-33CA4BE2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8BFEA-2B3F-4BD3-AB3C-D3022218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DECE5-927A-4844-BF2D-0CBB985F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0DDFA-DF66-4214-880A-13D2FA8C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E55FB-C3FC-46A0-8C8B-61798E65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DBB7-E68D-4C05-9CF1-A3BCF5CC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60C25-F218-4601-BACC-1360A2B5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264F6-E055-4892-9EA2-2CBEDC66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FCB5B-0DAE-43E4-8A10-26F78C15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75157-F55B-40B0-9DA2-A20F824E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447E4-F524-4E2A-B1A7-F12BDF25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26424-F873-4DFE-B2C5-14189FBC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D7376-E98D-4EB2-B1D1-52ECCF37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68146-D214-4594-A4EE-E2179BE0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732D0-3CF4-493E-BD68-65D2C8CA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AD0F9-CF27-48F8-9F13-76AC862C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3AE0-FB17-4C65-8059-24F767DC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29F41-FF79-4DBE-A4E0-97C2FD4D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AB0B0-C26B-47FB-8D99-788CFFC9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0BC18-1C1E-4A31-B9DE-6C1E2A32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79C6B-478E-419A-90AA-FE41743C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B1FBE-B8D5-4554-86C9-BDB4FDBA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0149E-AE51-4AFA-9203-6FCD043E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CB58B-EB1D-4FCD-8BF2-6AEDC557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14178-D832-4FE1-A064-234DD73E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7BA17-35B8-42FB-9528-A2E89EB4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7627C-D87A-42EC-AF62-AA44416F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0187-FADB-4D77-96EC-63FED2A9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7B36F-18EF-4CA5-8588-3DF74744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2DFD3-BFA4-4406-A63D-56A42F14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60D9C-F02F-4C07-807D-B22AC5EE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9CC01-7C5D-4923-A057-F5C0ABB0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068FA-4F4F-4DCF-8F08-A8C451A4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3DABB-20B1-4134-9C47-8D351B3C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6B49A-3943-4359-8175-D2E16185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520B8-D805-4CE2-A8BF-E8644F62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811A8-7637-4CA3-834C-C42D4892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56DC1-1458-4B3B-B592-A2225512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E979-AB24-4D81-AD8C-DC651B37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68202-B612-4749-9B68-A42371AF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8950E-1EB2-43DD-AB00-882083AC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73B40-B199-48E9-8754-3C1023D0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2266E-5225-40EF-8DE3-BDB63F09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6F2D2-6360-4000-8A78-2C43DC0F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39CA6C-FBDB-406C-8BB6-F89C74FD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5F2447-4959-4B5F-88AF-5BE076EF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FEBC2E-F0EE-401E-A4CC-C8F2BF62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124932-CFC3-4401-932F-CB952A49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AC2E21-2B8E-4A38-8D4D-6A67C9C9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6262-9E06-4926-B37A-8A0C5177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4D3B9D-B02D-436C-B0D7-22E5B609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0F56C4-2728-4FE3-95A8-1DF77AC2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346399-0404-4ABB-8F36-80EB69E4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88E3E7-AFF7-452E-A799-0ECEF4F5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6D152F-A361-463C-9DA0-786ED667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E47A0A-2532-4B98-A61E-41B774AB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FF406F-B277-446A-83B0-8961A773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1B8644-F888-4894-9900-1A1E183E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A34C31-55D7-4905-8862-CD1436EC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12C74E-DB66-4C9D-A49A-58AF611B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CE1A-C8A5-4245-BB49-5189813F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18536B-2034-49C4-8C1A-0EE1062B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CC3D9E-DA44-413F-B7AD-5C6FD001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D48E2D-4E29-4E21-969D-DE7AA2C2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1C5525-FDBD-49EA-B266-7CAD2B14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03BC26-A582-42B0-A18C-5DE5F7E3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7B9A2F-C1CF-4B7E-82AD-4771FCF3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24F80E-DBBD-4601-A72F-0B0B0697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5C6733-550E-49BA-82ED-04A1F3E5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B3D681-6820-4443-B353-61C659BF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2290F1-ABF0-42EC-BCF6-B3A7067A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2205-7F1B-489C-8F83-2CBD619B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3C6CB2-432E-4555-8919-8562F10B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573B5A-6C86-4B12-B7EE-5449DFBA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48663C-6C24-4595-AD81-60F9966E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F3B158-D717-4E2A-8F33-BE4DB1BE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605228-F473-4C6E-9A2B-D3056505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468B28-CB8D-4A36-8B90-915CA68A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556F0F-81D1-472B-A890-69A8E3E7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540CE8-06FC-4D1E-AFE5-553841BB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36360A-D0D5-479F-AC7C-F1152DDA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680D87-5C92-49D3-B6E9-66651462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4772-2DC9-4A7C-B017-81E1A1A2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CFE4B1-AFA3-4BEE-82CA-17ACDA84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54AC16-069D-4F26-BED9-3C03084A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1D8878-6AB5-428B-B84A-C70D6DFF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409C8F-A789-4800-8B5E-706E32A9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EFCDD6-720F-4680-B8FC-A74DDE14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D8E783-C7C7-4E0B-BC28-92B3A483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2E1D53-8CD3-4421-BADE-3EE0A7B0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92AE54-008C-40A4-A0C7-21FE93EF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6B0F68-2979-404A-836B-F2191118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001225-2942-474D-A71B-FC44562E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2293-8770-4BD7-9908-A485172F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AA0412-D001-4ECA-85FF-6405D2F2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62E285-2EBC-499A-BA45-142B271E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0DF3BD-CA01-4740-97E7-C34A2181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47E9CF-D37F-433F-8BD5-26F03E86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C0CDBB-6FF2-41D6-BC23-FD65F477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35BA6F-E7C3-4506-9B72-4AFF726D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C93C99-5708-4860-A1B6-E94944C5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FF7199-7D08-4D96-917A-6CAED5E6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B8104E-1A85-4B77-90C9-6E395D71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4A648D-6D9C-4F63-9891-2761D0E3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8CA9-7738-412F-BF23-228FD018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A27D-2AC5-4AE9-89C6-1921E7BD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BC6C22-C76A-4C57-802D-35CCE6CC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46E593-83B7-41E2-8A30-591688A7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274927-8DE4-4698-8454-8CA85533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55FF6F-CAC3-408B-B1AA-36AFF513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0ABE6F-76BB-4F3A-AB0C-4A86DFC8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C76F7B-73B8-401D-8427-6B712ADA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EFAE74-5190-46F1-A826-C4C9FF3A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1D82B8-FD75-4888-ABED-FC592F0C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1F12DD-9A4B-411F-A9DF-E3638C9B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2A7C72-DB91-4C8C-86EE-1630F952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F430-A90A-4B7E-B376-3EA3AB89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B06514-06B8-428A-A5DB-09705540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4E5D5E-A883-4CB8-9833-6ABB9020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514756-579E-4897-96BC-05F2B530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AED433-9270-4BF1-8C73-9B0FA6E3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4D651C-5FAE-46EC-AF8A-F2060AAD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9B021B-A41C-4480-A72B-32D39F48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F5188A-4378-4D9C-9428-104CF0E8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F1BBDF-A5D1-4496-ACD2-36B3C317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742143-51AF-4B9D-9D64-6F286C40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0543F9-0591-4A7D-B318-D0C687AD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FFB6-2BD2-4897-8B7B-C0692445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C45173-CEA2-41D2-B1A4-FF91B62C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979505-B25E-4C5E-B6A7-C31572FF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BA3974-9AA0-4B6D-AD18-A1A79D5C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E484E5-6702-4398-8425-D020F7A8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A8B833-2F1F-4730-92E3-804865BD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332E85-BAF5-44D5-8C1A-3C4CF541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05D1A4-799C-47AF-AAA6-316124D9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9705BB-EB87-4B76-BD26-4EFF43D2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364049-32A6-401D-B55A-40E744F97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0B5533-E8A0-4A04-B59F-BCD99A44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D966-0B9E-4004-8437-CD6E9A8A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ABA0A5-20F8-44F9-B39A-5910290E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90D480-1162-4AFD-BE7F-47369E0F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CF9B58-2DEB-4B8A-ACF7-F9F599C2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27E068-4330-433D-B558-00E5155B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05CBF3-BAA5-401C-BEF8-8B5D0EA4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20A6EE-3936-458E-84D8-C9AC9091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934594-093F-4522-9745-F741E541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64A19F-52DD-48EA-AB5C-B26E401D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0DF2D8-4FF1-4FD0-A6B4-D5F4CC08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33F4CF-19E2-431F-96C8-8F934E29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5CD7-1483-41A4-AD5C-D30FB449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1949C2-DC0E-4460-A261-E3809F27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D63456-026C-4BDF-A454-90DDE7F1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3349C9-30CC-4FEF-AA1B-F4B51217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8A552E-490C-4F36-981D-20652473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E35A93-4976-4FA5-8141-FD581A8D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92AF54-B709-44E1-8134-C404C198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03D1AF-F7BB-4583-8895-2C7EF4CA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879A92-B0B4-44CD-8402-7D1D740C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8F931F-3E25-452A-963C-5CF9504A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3E0606-8296-489A-B243-65C997C1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17EF6-12BF-4B26-908F-FD2E9B9F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86BAF5-20DF-45C8-BB3E-0E844D53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39E8A8-45C1-4CFE-915F-30ED83D6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671CF6-595F-4864-AB12-88E575C9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6572F2-3669-415F-BF3C-AFD7B99B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10349A-475B-4C96-911A-907E5613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86C890-07BC-426D-BA24-D8DB2EF1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1837D6-D4DC-42B4-9044-BB3966D8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5E91BE-C7B4-4661-9EA2-B4C1A9AA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507306-84F5-4472-8553-0CF3134A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C38C6D-A212-4864-A9DB-1B944683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C84E4-B051-4D6D-A9C2-E3A3547B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E8AA72-4014-4005-B810-6572BE07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D7C483-B773-4058-A4C9-8068D40A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00950D-1CF1-4BF4-BD79-79A7CAC3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066858-48F4-44BD-AFE2-4AF9CBCA1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3F6FD0-8E44-4632-AFD9-537ADC5E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1A6C63-4CCF-482E-B03C-39C8BA89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42C4E4-9141-4E35-A4F6-97EA80E7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754ECF-43F9-4537-99E0-DB4F22EB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E52A98-3EEE-4015-9AB3-61AA7456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D59F3B-C23F-4CB8-ACEB-63CFA2E5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D43D9-E5CA-405D-BA35-F66BD46F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E13A4E-A61C-44E0-88F2-50F5CED1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9C2C3E-ACEA-46BF-8C58-80C7FB74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985B77-5F28-4C7F-B950-B562DC04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45EF9A-AB4D-467F-8594-82FC0AC3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2B89AA-9194-469C-A928-CFFA8ABB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49B9A1-91DE-4CDD-9ED5-8AF6703B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50B333-ECC0-4F38-AF97-801C8404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457B36-2328-462D-B42B-684A2FC3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D29496-AFCD-4308-8518-92AD17E2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CD7FB4-78CE-40E6-8815-9EF229A1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61F0B-D072-46D3-A28F-537C8F25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1ED980-94AD-4AFD-94EE-5B3B36B2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973B0B-BBE5-4B3B-B1C0-ED056B1C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13988C-2162-4FC2-9554-8E2F52F8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81D634-8762-405A-9171-23B35248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79FE9E-D792-4DE7-835B-4620E7E1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F551A9-C295-4D30-9F3B-B3AEB283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41E434-9338-46FE-A4CD-D0E29646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B89D0B-2DB1-459B-9EDF-3689A310C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875C64-6B4D-49C8-9950-C2AAF894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4B9D6E-D35A-4ED8-A593-43B6522A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3B250-5D88-4149-8601-D302E51B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2E29E0-BE25-486B-BAAD-55DA36DD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C8A31D-DD1B-4206-A798-BE79D2D3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2B5A0D-9764-49AF-9669-C39D6762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B618FF-EF03-4304-941C-58C5A42A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58F777-AA72-4762-B3AF-541DDBF9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4AAC7F-33C3-4D27-AB66-9495B59B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B79557-162F-4727-82DB-83ACC005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91C11F-2D5C-4B34-9C28-37FC7570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93F2B0-F681-438B-8A0D-8737257F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5A9968-BB0A-4B42-A0FA-4EA66DB7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FD34-95BD-4ACC-AD15-9FE51D76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1CF11-4D3D-45B7-A9F1-6BCB8939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E37D68-A6F9-44F4-8BB4-F4FF135C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7D72A1-140A-4345-82C0-2B8FA5DB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327B5F-668D-429C-8343-01F26B6F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33AC5E-E4FF-4A44-8F6B-987D3B1E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C868E2-3AB2-4B7B-9F8A-9B1D4E25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067E38-C7A5-4B75-B0B0-EC1BE843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6B2D39-E7F4-4F8B-A1EE-DE17F3BC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BBBE28-73C5-48C0-A8FE-28F3A001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01B4D8-ED0E-483A-9F24-A3468B0E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33F3B6-5BB7-4C8D-A88F-2475F64E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24A08-F92A-46F0-BEDE-4FB9B0BB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2B0866-B5FD-4820-8DD6-FF238BA8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5DB613-AF88-4D06-967F-5F336940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E16D07-B4C0-49FC-9D8D-B3C9DBBF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936A45-BE82-4E74-91A3-CC219BA4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16E3D9-FEF0-4BFF-96BD-ED982B7E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165ADC-4F97-4193-8E23-216F7E71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D6A93D-2086-4E81-B9BE-B1563F8F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328A08-7DB2-42D8-B836-93B50277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073694-239C-4067-9592-5D232750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713890-4C95-417F-AEE3-F2C2BA6A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860D0-0E48-4C8D-BD12-B158F9ED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E20998-3B3F-4EF9-9360-51F67428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49A9BB-2057-44AF-9D6F-5FE6C6E3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DB2E00-17ED-41BE-8FE0-29913394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E880BF-0079-45C5-B15B-6E6A8830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B44C3D-45F9-4DAF-B91E-5EE219AE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427BAA-E6E1-4E46-B926-31A07B7E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4DBA72-7FCF-4FD0-8BA7-1FD0D1F7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53AB72-28D0-448F-9F68-E318FD74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876FEE-6167-4A2C-8A3C-ED681A1E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7E1FDF-F043-4BCE-B6F5-F0365498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3EF11-B105-4669-9D01-6483D2A5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AF6358-397B-4CD3-BE38-1E7FF61B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78FEFF-1698-4E68-9D1A-273B9943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351FF0-E7E5-48A4-A2D0-B817292C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8A5000-457F-4D25-831B-37B4EA92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1E1D38-91EA-4BC9-AC73-25BFF97E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8642A9-088D-4238-8B7E-DA54AD911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3A2B2D-669D-4468-B63F-0DF7CEEF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BBDACB-687B-48DF-9BF8-212F6301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FDE3B9-EF4B-446A-A96A-0A28502D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C86949-18B7-4A8D-A849-AD0A2B38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3209B-1F0F-4304-A6DC-935EF07A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AE9660-0FC7-4560-B13E-D015A6A8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160F9A-3145-435D-9F41-7DA29053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EB5D8E-F43F-47EB-9D43-B1154C77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2EDB07-954D-4611-BA7A-C6375A53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69FC2D-6B1B-4856-B01A-5FD1108A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9E785B-E4B7-42DF-8841-1B30E56D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12D8FE-0AD4-48FE-9A65-E6DF1F29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BBBDDE-286B-4A49-ADFA-D9EB76FB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4BD4368-B82B-4CE8-A297-309D26B20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F162B0-8D91-4C38-A12D-EC02F4AF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B63FC-D195-4AD4-B30E-3537A5E5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4796FDD-EE4D-47F4-A021-B75C2B9B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715BF1-1BAF-4903-8E6A-A820A04D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2AB738-C7E4-4827-B155-736C648C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C9015D-7804-4A3E-BEA8-DD1F0DCD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1515BBA-2F14-42FC-AA92-C0CBC90B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F5FD9E-C06E-4363-88B6-956D0F41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346C2E-8D14-4A6E-8576-CF968377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52FB9E-0CEC-4D98-BE76-0DC94DD2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F56A748-AF4B-4D38-BE5D-DFE3F399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BAB1A7-9A3E-4D3C-99C8-8F6280E16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713CC-DC04-42E2-9271-168A05F8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4D13DA-1D32-49D1-9FB8-72B646AD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395780-11E0-4318-B151-C62D4B1E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33E311-EB3C-43C7-9657-19359508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8DDC4E4-7188-465C-B47F-754CC2F7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9B0BCC-3B62-4034-9CE5-5CB43B2E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0ED6416-7DC3-42BD-8B03-F0D7FF30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83B768C-6E0A-41CB-8057-E8682579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83B628-2C63-4AD9-893B-AC77C2D2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D28ABE-0295-411C-8967-071E208D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E08351-7964-4787-A1C4-F7EEEABE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0B36C-B14F-4D26-B982-4B5E63A2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1695A5-C4B3-42AF-97DB-9E6C1EFD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A31A6F-E458-441D-A203-7F9415ED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B5E2CF-D92B-4D84-944F-FFE94450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833FA81-F851-4E5A-B224-79045A1B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527DE18-23C1-46AB-B76A-5D925BE9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CE28C3-1E0C-4BAF-AF18-F16A56FF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1DA7A69-A970-46EC-A74D-AF4ED12D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AE35854-456C-40A4-9B09-A95C045B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9FF6A39-A2CF-44F5-99A5-6BCA2BF8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42AB9E4-3D9B-4EEB-9E22-59974D30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0743B-B55D-4192-82FA-F9B9A0D0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16523B-BEA0-4826-AA7C-AE41606A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EC2F35-4982-47EF-8261-5A36378E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4FBF80F-5D36-4629-A959-42C89D83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985FE9C-7BB3-4520-9FF8-76B835B8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F50A205-9CC1-4CE3-8297-37B0B4AA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4845A80-07AB-4DD1-8676-D129E91E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675304A-8117-4928-A19D-15973985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0431995-A9C8-43A3-91D4-B84005E4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DE3A5BF-8BAE-4AEE-A317-2B2121B2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24759FE-698F-4E51-8B1B-C101CE12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CED56-434A-469E-9F8C-CF7021B3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B7AB5F-23EB-42B5-AEBC-EB45CC95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A406D6D-7C50-478B-A765-C6800C78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FD867F7-217C-4827-A2D4-2B54669A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09A57AE-3304-4D40-AD2B-183BD875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F386CE9-FD0D-4D28-B037-D3045535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01F15AB-E540-40DC-96B0-CEA898CB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8224935-A46A-4DFE-856D-5F73FB3F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703E15B-8B1F-4FFB-AB40-89C6C53D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7AA914F-E8C5-4AD6-9EAB-79A93B73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7EF7C9F-A7E9-4248-ADA7-586A3343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86B3-FD39-4E00-9074-3F6398FE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57540-96A3-4B97-BDD9-42CFDC16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4B694C8-5C94-41F3-9451-9FB46DC9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1FBA168-152B-4E89-AB02-D11D0E2C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4912D5-3B77-43A1-960D-8383C979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3CF56B4-5BFF-423E-99C1-9389E069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B032578-C1A1-4827-99C2-314AECCD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B3CB170-D85C-4B1C-8BD9-B29A357F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1CE4503-F73A-4ACA-A1B8-FCB3895E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B499908-D6AD-4E82-96FB-F600EAC6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3C361F7-B6AE-49E7-8D7F-152D7C14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BAB8384-48B2-4CB1-9D8C-454AE7F6E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49476-4277-43A9-9DDA-EC6ECD28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1F639FD-002B-4F56-B563-A95F9EAD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62B84B8-8DB9-471C-8E65-EF045AAC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480C1BD-3033-4D71-A277-44AB710A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34F44ED-D712-4A0B-BBC2-20A01A59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D17C2D4-4EFD-4C1F-954B-7DEEB664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38E5382-FA4A-4D76-B1A5-7ED6047E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3CF37CC-FCE8-4B2F-BD1F-CCF810E9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226B9A5-BDD2-406B-8D82-CF6C1CCD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FC25779-922F-4EC3-992D-A424637B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14F0F97-B8FD-4AE2-8581-73A6FA34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64B80-4557-4980-BB1A-EA0ACF1B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7524348-98DC-4BED-9A69-96FA0CD3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4EE811C-D201-4D0A-B288-56D77347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6DB5803-4EA3-4A58-8EE4-D50C5633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E718D26-941D-44B3-B615-B42BE662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50CDDF0-BBB8-4E01-B50E-7B25CD89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2866989-ABEC-4A35-AA9F-AB638D51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04D0459-FC92-42D6-9ACD-A8959B05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10256DD-7838-480D-85F9-8F9C08C5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AEF1782-EF1C-48C0-9E32-E18833D1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6194EE2-96B1-4BA9-A119-98A4336A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25B77-DBCC-4298-8590-721EF41C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2B85342-CC70-4E5D-BAC2-FAB2415F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EB5D8CA-20A3-4443-A18F-6BC21AE1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281E47B-1C80-4891-955F-519B2F36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F983859-3CD9-4709-9FBD-8C774D1D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7ECF522-CD51-4BC7-B5DD-0D6A126D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76F1896-9E95-4B42-B806-375EE4B1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CB7A687-105F-42E9-A5EC-4F4F2073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94252A2-D9B3-4938-ABED-D6D442B5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1C6E7BF-8876-4699-83D8-0A6835B8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6DC7FD8-E966-492A-842C-350BC908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317A4-CFE1-47A9-AA0A-2416E64B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52ED672-02E7-496C-A0C5-BAC7D2F3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D9A4C44-1FA3-42EC-85DB-4F9DD00C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4CA22E5-85A3-47B8-9F02-B83A0C12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2B4784B-4952-4A37-9161-24D8D522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C2D6D4B-37DB-48FB-9C6A-4D57E78F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CCF2E17-13B2-4032-B6ED-910AA12F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A8403BE-D58C-49F6-8953-B3584A29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06F9350-B8DF-4F05-9A7D-2C7C4C41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1927437-09FF-4522-B9CD-7D44B34B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2FFB7A9-0492-4172-9D0E-3A9D6F77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08436-F9B8-4BF8-A6CA-D5AE74CE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5B4F3A8-1026-417B-AC26-33666022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17F9C78-05BF-4336-B8AD-67002B1C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8A31694-37EA-4D0E-A1A3-55DEF5A2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3836010-A874-41E4-883F-0F246D54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E3E93C2-E68F-41D3-AA5A-53812B81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2BD8B95-B1F3-458A-8961-BD0121F6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EB309FB-B960-49B9-AD26-34331B76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0A9BDB8-F5D2-4F00-B068-C4680FED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232A064-70E1-4D27-85E2-A5422695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EE3D5A3-9B7A-44C6-BB54-1D1B8EF2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0302E-0187-42AD-90E0-36C8482C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B566390-5A09-4C68-A2E3-DC42D44D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35FE973-8013-4AF3-8DD4-EB7F8301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52A010A-D91E-40E1-BF57-C9B7E201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F0C3DC6-3185-4E67-BAC9-0C29BE91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4A87A96-9844-4B1C-8FE6-2B7617FC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AF528DC-8873-4315-AD2C-E9B039B9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489654B-D65C-4D6E-8227-3F7D3DBE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2287DE3-8AB8-48E3-99B3-21454168F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EAA5E9C-B24E-4384-9FC6-C597F903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B19EEAE-0E30-4D57-9FAA-34B12366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D10AA-225F-4B95-A786-23854945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DDB2601-F7B0-4981-ACAC-3B81724D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979B81F-A43B-4D64-8B2C-D474994D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D2FEED5-A612-42F6-9004-935BB3E4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CBCFF41-E79C-4C91-A5D6-7A9AF0B6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F83782D-E9E8-4600-9221-33098E72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D557438-ACC9-43FB-9969-C9F89D09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C245140-2F1E-494E-BA51-79E8E850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F5C935F-D021-4ED2-977F-F0EAFBF9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3C742EC-77AA-43C8-928F-13E0E3F7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170E99A-0606-4E66-AF0E-D7EC8D08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F39D8-DD00-47DA-8B05-183FF365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E0C6355-5863-4CD5-BFBE-A342E0BB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345FFAB-E6C3-4F2A-B11F-E3F24B1C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72C4895-D89F-4A4C-8DF9-5E7FBF31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17FBF2C-004D-49AB-9159-24C38B34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07D07A7-EF7A-4E77-811A-9B08F0C7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04383B9-2DDE-4BAA-865D-487E8382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96F72D9-2DA8-4F0B-876D-CA87C931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8583D31-F691-4FFD-84AE-338F5627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42E3798-452F-4B09-AA0C-99E7293C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B3E1104-595B-46E2-9DE7-B68E0D2A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C1610-9067-443C-9F63-22D9548C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F2A5C82-E5EC-47D7-9141-6442A936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4B885F3-5726-4039-BD7B-70921DEC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71F66FD-0199-4124-BC75-52B14E9E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15F4345-59D5-4C33-B89B-1A3B3F746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B1710BD-CD18-453D-8FC5-88702C86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BA4D7FC-9A07-4A02-8776-A200978E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7D2F236-DEC7-4A32-857D-2F689612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C2A5CC0-6792-44B1-91B4-EE9B8563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1755EDF-96F0-4680-9580-80E4E155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5BDE7BC-5A1E-494E-9EB0-57E7430B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348A-33B6-444F-B736-387E37CC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B2620-ABE5-4904-88C5-7D26657E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DA0A679-99E3-468A-81FC-58BA2087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88E7BEC-7484-4F4F-AD5A-9FC1EC59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FB8D9DA-A1E2-447A-96D2-16248AB9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4E86184-6A3C-4161-8C97-8E9BDE5A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1952C06-7C71-4854-AD84-B0F35243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B52589D-06D3-4D72-BDFB-317A0051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1A05D6A-9706-4BF5-B5DB-1BB99CB5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013FEF2-B48E-4B4C-8593-0B7CDEB0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DCFDEA5-23EE-4178-81E2-A8AFF7D0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0F79405-D193-4763-A37F-07F176FD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4B0A9-1FF1-4322-A5FD-46F97A9B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9CE0C86-6E3B-4E9D-B5B8-E965F1E9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A553460-C082-45D9-B94C-3E618911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45418D0-4AF1-4B4F-B6F0-93B087C2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CC9CCFC-7EF3-48C8-9D55-D86B3C64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FEEBDD0-4A1B-4D17-AA29-DDADFDB8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DD9A59F-33A9-4A43-8D10-AA6EE000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197F1AD-BFC0-4555-AD03-2E744408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A63B4FF-970A-4A7B-B6D7-587AB06A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7EF4E5F-58C1-40C4-9E4D-805F3F33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1646034-6792-404D-8D80-76B9CB7C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27859-6D70-45F5-AE45-DE9C7C56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E5C9794-B6D3-45F7-8A34-C98E382B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F08BB63-F13F-4493-B089-C54DE3C1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C330567-6228-469A-89DA-6C414340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70E8F0E-C9FD-4A50-8F75-64782E7E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61D2777-486F-4176-9841-A3A165FD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DD2BB37-7C9D-44D3-8A1A-B6B029F5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4CDF9B3-E2A3-4DB3-8284-2D3EB5D3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E7CE08F-B401-4012-A24F-88F2E2C1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8D3C87A-4953-488A-A78F-1E3A1DE2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FD1E0ED-D9B0-4C8E-8701-4CA2A39C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BA1D1-ECDF-4AC7-BC36-50A48A47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8D45136-AE36-4AA8-B2BD-FF86CAC3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9C2B954-85FA-4417-9908-E381DCC9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1C24890-3A30-48B4-B5C9-FE61ECE3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610BA2E-6E54-422B-9AF7-3452EDFD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3910D06-15F1-4FD5-A5C8-1322E1AD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A57DEFF-B307-496B-86C9-43756A93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AA37195-2F17-4BD9-B1C6-C42FE0D0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7BADF54-B7AD-471E-9B6E-6C850F90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CD750E8-8CFB-4B2B-B308-6CEFE11F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217F1FA-4AEB-4473-9B9E-579FE864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A36BF-1766-4A78-85A3-93E6A9AD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8390295-9D82-4A07-AF98-21F095F4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8C8C939-EABB-4CD1-9A3F-562C8D2F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E1758D3-1C6A-4812-A994-DEB7AA09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E51DCF1-47A8-4545-9FBF-C69BF0BD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74605CE-457E-4195-BCAF-A0FE0AB8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B71F578-50C7-473C-9E06-60931296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E951238-7153-41D8-B72B-2FC3E351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3B7DE66-1259-47B9-A5D9-56EDEF32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DCE9FFE-140E-4823-95FD-B3986790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D320C75-B409-4849-B03F-11795162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91EB9-A628-4BD5-8901-A3C2999F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EA66BF8-D381-4A48-A961-64F0F162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9571AD5-BB75-4DF2-82DD-3E90A06D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D261659-B32B-420E-AE80-50646C109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CF8B6A2-FEC1-48EC-8AE4-367B19C8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616A314-5FDA-4E46-942E-F464CD69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70B74FA-6879-4DBB-9CFA-46D3491E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FA34295-2665-4454-91E6-6F274C7A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2B0ECC1-0BFE-4D54-969F-656025C1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FF1142E-1570-466C-A469-A29F49DC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96AE778-A818-4286-A2F0-39CF268C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F98DA-93C0-454A-8EA4-A602FBFA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5798D4E-AA54-458F-9956-C78FF566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CA36908-2277-4ABD-8660-60652120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0235F26-F355-4822-A010-35F68912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BE3691A-8764-43FA-AD63-17C12EEE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F0AB979-299E-4AB1-A343-0E247785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9513721-23A5-4395-9469-02A3496F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C7E72F1-9408-45C1-B383-BB01CFAD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FC5C34F-2C52-4A85-819C-B4933DCA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4E72F43-52FB-4D0A-AA33-1A31EA37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4BE888D-4F31-4FA8-8826-620AF019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822DB-0C5D-4290-AF28-5B5A88FB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2D85A8A-667C-4234-9BA6-A96E0DDC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E92F61C-9C8A-44ED-98CD-A6E20746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F8A6A11-6FAD-4744-B3E0-3262ADBB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ABF1CB3-B5CC-4145-AFAE-C380F344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D3E1061-DB9B-4CB6-AA30-B60E1551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6690F37-0DCC-497A-849B-81882FF5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37F0336-3AAE-4946-B716-5707B0B0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865F2AF-717A-43FB-B76F-7F8FC0C1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5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A1B14C5-569B-4AA1-8544-4BE9591C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F367F59-0FAD-43D3-8E3E-5374A38E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BEA9E-32EB-422D-B80D-4C3A2D57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513AB77-EED1-4C65-8BF8-184AAEFA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E60D6B8-8CE6-4A85-B256-56EF024A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0CBEA52-49D6-41F8-8C4E-40A6519C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CA089D5-DA55-4CEF-BC86-B78994E8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5FE913C-FB07-45F6-B764-8452A8F2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9AAA4D0-7AED-4495-A5BA-4FB44D22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17003E4-40EF-4826-8598-BA7E2EFF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07AA5F7-E23F-4682-B5A7-270751E1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896E77A-6D95-4281-A5A5-0DD27703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692F3B1-31D4-414C-A950-6ABEA1D0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72DAF-17C8-4789-A26A-45125D14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76B9C4F-D13F-4361-BA68-8D806C89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A843667-0D77-4BE0-8702-6EBBE272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570F273-7C11-41D8-A551-C1C6AE6D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FEB4999-7FDD-41C2-93C6-1E850B91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C0CA046-65BD-4206-B99C-83817187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968E8AC-C16C-45EB-AF90-011F94B4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DE9F90D-565A-410A-A07B-9C209B08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5B18407-C2D8-4830-A7A4-B62DCACF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D720CFA-254C-4243-B382-2971893E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3A9FA42-BE80-4254-BB84-50BC6D60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8A96-B5E9-4E57-A27A-84CEFF04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EAA4E-1F9B-4721-82E7-F1711318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9062412-191D-40A3-ACC3-12B2C166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AB2466B-41E2-49B9-87FE-4683807E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8916F1B-C76C-4145-872B-1CDBA0A6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5FA85D8-44C6-4CD0-8393-367680B2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222DAD9-0520-46C0-864E-557A2DF0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69EB617-F88D-4E93-B82C-133EAAF5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6E2B879-ECF2-48EB-BE41-A6F8D888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20B40DD-3E07-4ACD-BA92-95DC0A97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66E8D3C-82C0-4B9E-9453-642F194F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06A95F1-22FA-40B1-A676-2FAE45F4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F2587-F8E8-4481-A2B2-D8593569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29BEECB-D75A-4458-B899-ADF74965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76C77F3-71FB-4A6F-99B8-06973656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4630E04-C229-4F8B-9007-679B6312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FEEB24B-6D75-4E07-AAA1-7C21234C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D4208F4-FE60-4269-8458-57691BCA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387FBEF-F276-4098-B020-B34F5879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AD86277-A63C-45FB-8B27-D41D0CBD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A929C08-626C-407C-8419-8E952D32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C463143-FE3E-4F4D-B56B-8A2F03AF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0EFD736-A903-479B-914F-F8E21C43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525EC-09CE-4E40-B790-52F36C9D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AAF6676-90C5-427D-A968-7C0A6BD6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09A65DF-8096-48B3-8EA2-3CB1A8E5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375F69E-3037-429E-BBE8-C1E56999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C4E5600-8926-4E39-ACB1-08A0E1BD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0317505-FD97-4C36-B2DD-E7E75DBE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67CFFBB-B0AB-4F19-8B71-BE2C9002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ED9E5C4-4D98-4E75-A15C-FBD723F3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E7FDC01-C88A-4251-A1A0-DF43ED27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77EE134-05BC-4442-9172-EF48732F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0745A0C-92F2-4174-B386-8D9B30A3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F8D42-3D12-4F5C-878F-E5ABF76A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CC8F3D2-E88C-4F27-BEBC-560D57AA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D9D96EE-D3BF-4E83-B85A-59E5ADFF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9083DDF-F937-4DAF-943E-D86F5AF3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0FC034F-4EF9-493A-A1E4-0CE873A8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78D09DE-7CC1-4509-A473-E93D9059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CC07B92-66AD-4CA8-AA0B-E265BCEF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BB8F294-CDF8-41A0-8EAD-EEF0A9B8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035043B-6EF5-4B50-AB85-5861B27E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EEF028E-BE44-457C-8B11-8D1DBA89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D5126D5-4B16-4A9F-8D28-6678B28B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24191-A296-4EDC-9EAD-B7C70EB6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F6FC441-DA6A-4B01-96C9-C9AE60B5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6E32F91-DA83-4D77-9007-FDE690D1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23422DA-2683-4FDF-B9A3-B952F4F2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3FFFCCC-35C2-4FE3-B930-FC7FF8DF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908FD8E-EB5F-4548-AE7F-5B24BE2B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9B14CEB-4422-4674-AEE5-43F69759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6EFAE15-0176-4325-96EA-CA2C5AD3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A721187-BD17-4641-BEC9-28F4AE3C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2E0B561-B7E2-44DF-ADDB-94ECBDB2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46A909D-5212-484B-B465-EA2713A8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F8B62-D0B8-4842-910F-9DA6EBFE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D875267-5041-497D-B036-0D4EAAD6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85B677A-C873-47A5-BDD5-208E6E7E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4E66284-E4F5-4411-B3B2-7D2AED05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1FB2316-2E74-4EAD-A7FB-E1A0EDA1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C284E8C-85C7-4D56-8003-EBA2DA7F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14E658C-B054-4CBC-814E-10246593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E55CE4D-27FF-4F2D-AA1C-851CCAB1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E325ADF-DD32-4111-9FCC-EBD9B7A4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9F02D52-E8AB-4F16-ABEA-62021A0D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C54979D-E86E-4233-8028-1A2DFBDB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75AE3-AF15-4B60-8EEB-CC959100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3AB680A-6D06-46B0-BFAC-1B3BEFC3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62D94F0-2ED5-4A0F-B204-FEA1545E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8BB2838-AC7E-41A1-B733-525266D6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4B9892D-FB42-4749-9605-596FF8D1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9BB4A58-8FD3-440D-A6EC-BAD2C1EF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5D1A9F2-A6C6-44FE-B1BC-5101C74D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0A79911-A7FA-4160-A841-5A824540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58B6361-B009-4F33-A2DB-E146B877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310EED7-B938-4FC5-B940-DF7E5F4E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CD0C7BC-64B0-4F86-B1A1-A4D190FF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41041-651A-494E-B7B1-29042309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F4083A7-4621-4778-82A8-89A6DC99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1DD13DE-EBB1-42D5-9BCC-5C62A826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4892113-3EC3-47E2-B35D-2E8F41BD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1E9FEC6-748A-43C3-977D-58E06FB8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C4FE8A3-7072-490B-8803-7E9FB63E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2243EA3-59F7-49FF-BE54-D7B0570B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9E9D361-245F-47BF-83A9-BD0A1609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ACDAB8F-9978-4CA4-94C9-D2D3949E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EF09AEA-51C6-4454-93AD-B0D545B2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381C508-DED5-442B-92B3-4B56DFD9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96E60-73DD-4445-94DA-082755BF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76E48DD-C28E-4414-86D2-119CCACC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1459B94-24C5-4E99-A4CE-9C04601D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50880F7-06F8-4C2D-B8FC-0D6536FD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E4BBE74-A68A-49F4-BFDE-9FADD1F8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B9B6CC4-A62A-40C7-9E47-4A39EC66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D9923AD-663C-4EEC-8516-849FC22F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0F8250B-B176-4D21-868A-1CC9CEBE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5B21F0E-0533-46FC-AD69-8920DA68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C82A0E3-58EA-4DE7-8608-B8EA6B69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B29855E-FA04-47EC-AA68-0588A41F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5C509-18E6-4CD1-A185-2F1C2D14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167C825-AA5D-40C3-BB9E-2ECA3FEC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A8F33E8-8522-484F-8CEA-8BA14791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3C58F65-3F5F-4D49-9E08-CC07FDF1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934BFB3-0B37-4C1D-B666-0016E543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C1B3C76-7358-4B29-9D9E-86B2E8A9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808FF91-BE5A-4B4E-819F-461881B2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0A0657A-4315-4629-8925-23205243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BDF7578-C644-443C-A2E7-BA6D699E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A0A614D-6955-471D-8D74-07F8299A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9F42368-BDB5-4C07-93DF-37CE2738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79BB-589D-4DB3-A767-73F269A0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B994B-F143-42DC-B2B4-5FEAE12B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E2D214B-286B-494F-A26C-DAB3140A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724EABA-24AC-4B74-AA1C-92CA8CE3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8BAA3DE-0FF9-455F-B9F9-80E7E3D1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C6A2D2D-29E8-4D0D-9445-C3311773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A08E860-60BA-4884-99F4-B1AED4CE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F4E3519-AD03-49F4-A9C1-7DFD0861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03BFC28-FA33-4BE9-923D-901CA1B0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EA5FE4B-B604-4679-88A4-5D671F7C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EDC943D-8D2A-45CF-A41F-C479BE0B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18D7D02-C52D-4799-92DF-F22D2951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638C7-B491-4D10-B161-2F1BC8BA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2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5E44A94-D8B4-4F6C-98D2-B13D085B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0724329-F5AB-4406-A30D-7F96024B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49433A8-C862-4B1D-8FE0-AB1F4120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7C69530-50EC-4678-8CEF-E75F59A3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3DF6BB4-9D75-4550-A607-90AD6444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B2464F9-BBCF-46B9-947B-D19CB740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107A7D2-644D-4D81-990B-9783ACCD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73E36C3-70BA-4EBC-BB44-D349383A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EC4552B-AD75-4AFD-89FF-8B0E8F15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F442720-07B6-4555-B288-B159EBBA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6DCD1-14AC-4E73-B352-D033A25C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55768EB-46B4-48B6-ACB0-D3BB2733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C30E4-9DF6-4E4C-BED6-132C486D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FDE25-EC20-4714-85A9-F850292F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9767C-B995-4354-AB47-4D63437B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463F6-8011-48A4-B5DD-ADB986C9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079E5-9318-45A2-98EA-BB52A801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C7F7B-452C-4843-8F6C-58155B76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9E685-22FF-43EA-9363-4EBD5575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D450-5FC9-4966-8B3E-A6654CDF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B8F00-95EF-4D0D-B695-13CB770A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4DAAC-DC38-481F-B803-506A5676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0B31C-FD92-40CA-A323-34DB64BF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E1895-53A7-4086-9BB5-F6D93376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DBE67-F001-4353-9EF5-0CAA4BEA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55FD6-F55F-4D7C-8378-7F27E004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920C3-23CA-4BAA-805F-37A4AB34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7A410-68AB-46D1-97B1-A6102DC3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8BF8E-F1E8-42B2-939B-A4E3720D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D482C-3866-404A-8A63-44E6A2E8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5965-C67F-4C4A-92A1-3ACD34E6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1CF3D-9FAF-4007-B7F8-F728AEC2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1367A-962F-4046-BB47-CFBAEFCF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C219E-5AC0-4283-A1D2-C24EC57E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21363-96DD-4943-8854-B20BD0D0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9055B-3A99-4B74-AE26-26BCD5DF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A1FC7-DB4C-46E7-9668-AA0A5232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97CF2-BFB3-4BE1-A28F-08F7758D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12154-948F-494B-8850-00C96B5D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62226-5472-41D9-8F6C-31DEBF32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9936A-DB65-42D4-8702-258B08EB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BA54-5869-449B-B4EF-1C784BACDEB6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7FC5-1DA7-4373-A0B6-8D15EDFCD29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D734-4006-4072-ACD8-B5953A51C5B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1083-B1C8-45F4-8212-7D2A62314D2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47D1-F710-45C3-A5D3-9C62CDF9456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90C4-5157-4FD3-8148-69AF596BE15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3E2D-B789-49F1-9B50-5AD2734650D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AA10-2F28-4653-AF70-7CB3CB8CA46B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8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 type="sldNum" idx="5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E0DA-E0AD-4C75-B537-7A13EE8C5F64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8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59D0-86DB-4941-8457-6CC763096F6F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0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0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1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5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E7E4-86BE-46A2-9A0D-3F9DB88FAFB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2AAD-3629-47E6-B49C-A20EFD8E8B0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5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6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6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2E2B-FF76-4DA3-8C65-D66EDB616E7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0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0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1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3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6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1AE7-4120-46FB-B9E9-265776CDD27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6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6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6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6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D6E6-7953-4B74-BEA2-93CD6C59613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1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11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1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 type="sldNum" idx="6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1757-3E7A-4F7A-8D75-27C688474E5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6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16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6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7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 type="sldNum" idx="7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A1EF-B97E-4395-BB22-D546D43DD11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1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21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1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sldNum" idx="7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CF6B-1E22-4228-A971-F004B6DE338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6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26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6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7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7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C814-DACD-4B8F-A55F-628B2839E7D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1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1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1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 type="ftr" idx="8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 type="sldNum" idx="8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2FD9-1413-4B5A-8C06-48611F23C0D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6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7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7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 type="ftr" idx="8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 type="sldNum" idx="8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D45D-E3BB-44DA-A4C1-B88122DE51C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1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2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2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 type="ftr" idx="8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 type="sldNum" idx="8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93A4-AC14-47CC-BDE8-7453753EAA7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38C5-70E6-45EA-9261-0111FF29813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6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7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7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5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8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9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107F-5C6C-4BA0-8A25-6A13EB47B50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2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2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 type="ftr" idx="9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 type="sldNum" idx="9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E867-BD68-4AF1-B6D3-C5DC2677359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7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7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 type="ftr" idx="9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 type="sldNum" idx="9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9E69-F9E3-479D-9B17-016368916BD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62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62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2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 type="ftr" idx="9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 type="sldNum" idx="9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60DD-F6C0-495C-855F-F825297813E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67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67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8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 type="ftr" idx="10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5"/>
          <p:cNvSpPr>
            <a:spLocks noGrp="1"/>
          </p:cNvSpPr>
          <p:nvPr>
            <p:ph type="sldNum" idx="10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F84D-FA5C-497E-9524-E5388CD296A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2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72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73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 type="ftr" idx="10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5"/>
          <p:cNvSpPr>
            <a:spLocks noGrp="1"/>
          </p:cNvSpPr>
          <p:nvPr>
            <p:ph type="sldNum" idx="10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A906-C0E8-4A90-BB94-53B9B375DA4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7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77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78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3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 type="ftr" idx="10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 type="sldNum" idx="10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C742-C900-4404-87AA-30D0B86A1DA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3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83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3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 type="ftr" idx="11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 type="sldNum" idx="11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7A53-D3CF-468F-9A04-45EEA24DBE0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8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88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8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 type="ftr" idx="11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 type="sldNum" idx="11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FA3C-D017-4EE2-810E-5D74BBA52CB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3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3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3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7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 type="ftr" idx="11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 type="sldNum" idx="11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BD68-6A17-4538-88A5-E41ACFAC19C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7F25-0DBC-44B5-96B6-743C5644276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8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8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 type="ftr" idx="11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 type="sldNum" idx="12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6677-2868-424C-BB04-A326781E085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3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3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 type="ftr" idx="12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 type="sldNum" idx="12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F64E-DB90-46BC-8CA3-2C3B9F19F72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8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8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8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 type="ftr" idx="12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 type="sldNum" idx="12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E253-268C-4E5B-BD31-155C48ED85B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13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14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4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 type="ftr" idx="12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5"/>
          <p:cNvSpPr>
            <a:spLocks noGrp="1"/>
          </p:cNvSpPr>
          <p:nvPr>
            <p:ph type="sldNum" idx="12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2201-575D-4B34-9E62-D1A522CB8DD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18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19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9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 type="ftr" idx="13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5"/>
          <p:cNvSpPr>
            <a:spLocks noGrp="1"/>
          </p:cNvSpPr>
          <p:nvPr>
            <p:ph type="sldNum" idx="13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E423-8068-4286-BC78-30C2418D3D8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23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24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24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45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PlaceHolder 4"/>
          <p:cNvSpPr>
            <a:spLocks noGrp="1"/>
          </p:cNvSpPr>
          <p:nvPr>
            <p:ph type="ftr" idx="13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5"/>
          <p:cNvSpPr>
            <a:spLocks noGrp="1"/>
          </p:cNvSpPr>
          <p:nvPr>
            <p:ph type="sldNum" idx="13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F5C2-FFCA-40E2-9D74-BB4F6BF08FA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29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29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29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 type="ftr" idx="13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 type="sldNum" idx="13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355F-A0AD-4546-8893-B39B6FBA277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4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34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4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 type="ftr" idx="14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5"/>
          <p:cNvSpPr>
            <a:spLocks noGrp="1"/>
          </p:cNvSpPr>
          <p:nvPr>
            <p:ph type="sldNum" idx="14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3F85-1F6A-4AA1-AF50-7DEFE29FB5E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9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39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9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9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 type="ftr" idx="14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5"/>
          <p:cNvSpPr>
            <a:spLocks noGrp="1"/>
          </p:cNvSpPr>
          <p:nvPr>
            <p:ph type="sldNum" idx="14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87B2-A307-475A-80FF-323A0E980CE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4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4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5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 type="dt" idx="1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 type="ftr" idx="14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 type="sldNum" idx="14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5990-97BB-4D50-B06A-167E91620E6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54C0-E1D2-4690-B0F7-6E0A18BF590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9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9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0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5" name="PlaceHolder 3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6" name="PlaceHolder 4"/>
          <p:cNvSpPr>
            <a:spLocks noGrp="1"/>
          </p:cNvSpPr>
          <p:nvPr>
            <p:ph type="ftr" idx="14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PlaceHolder 5"/>
          <p:cNvSpPr>
            <a:spLocks noGrp="1"/>
          </p:cNvSpPr>
          <p:nvPr>
            <p:ph type="sldNum" idx="15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DE1A-609B-41D4-9C10-8EB38FB493F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4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4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5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3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9" name="PlaceHolder 3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0" name="PlaceHolder 4"/>
          <p:cNvSpPr>
            <a:spLocks noGrp="1"/>
          </p:cNvSpPr>
          <p:nvPr>
            <p:ph type="ftr" idx="15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PlaceHolder 5"/>
          <p:cNvSpPr>
            <a:spLocks noGrp="1"/>
          </p:cNvSpPr>
          <p:nvPr>
            <p:ph type="sldNum" idx="15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F844-CB2A-4C5E-9412-3BD72619E98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0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60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0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 type="ftr" idx="15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5"/>
          <p:cNvSpPr>
            <a:spLocks noGrp="1"/>
          </p:cNvSpPr>
          <p:nvPr>
            <p:ph type="sldNum" idx="15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73AF-14DA-4412-8AB8-9599B1D5C45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5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65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5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 type="ftr" idx="15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 type="sldNum" idx="15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148A-6802-4FF8-986B-161B7A35A56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701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702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705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07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 type="ftr" idx="16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PlaceHolder 5"/>
          <p:cNvSpPr>
            <a:spLocks noGrp="1"/>
          </p:cNvSpPr>
          <p:nvPr>
            <p:ph type="sldNum" idx="16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DF25-B5C9-471A-913B-F87B0909533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75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75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75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 type="ftr" idx="16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PlaceHolder 5"/>
          <p:cNvSpPr>
            <a:spLocks noGrp="1"/>
          </p:cNvSpPr>
          <p:nvPr>
            <p:ph type="sldNum" idx="16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3511-E7C3-41B6-83AE-8A0E75737F5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0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80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0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 type="dt" idx="1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 type="ftr" idx="16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5"/>
          <p:cNvSpPr>
            <a:spLocks noGrp="1"/>
          </p:cNvSpPr>
          <p:nvPr>
            <p:ph type="sldNum" idx="16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B0E9-03AC-47C3-8902-CC23A959675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5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85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5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 type="dt" idx="1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 type="ftr" idx="17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PlaceHolder 5"/>
          <p:cNvSpPr>
            <a:spLocks noGrp="1"/>
          </p:cNvSpPr>
          <p:nvPr>
            <p:ph type="sldNum" idx="17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42D9-8CBE-46B7-B72E-B4EBBBF6DAB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0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91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1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 type="ftr" idx="17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PlaceHolder 5"/>
          <p:cNvSpPr>
            <a:spLocks noGrp="1"/>
          </p:cNvSpPr>
          <p:nvPr>
            <p:ph type="sldNum" idx="17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6734-4639-4503-B4D4-F1AAC77A025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5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96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6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 type="ftr" idx="17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PlaceHolder 5"/>
          <p:cNvSpPr>
            <a:spLocks noGrp="1"/>
          </p:cNvSpPr>
          <p:nvPr>
            <p:ph type="sldNum" idx="17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05F2-934F-400C-A4F4-CA15FC83510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7497-1CD2-409C-A6F7-7821473AAA1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0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1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1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15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 type="dt" idx="1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 type="ftr" idx="17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PlaceHolder 5"/>
          <p:cNvSpPr>
            <a:spLocks noGrp="1"/>
          </p:cNvSpPr>
          <p:nvPr>
            <p:ph type="sldNum" idx="18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1F8C-26E2-49ED-9A5D-635D5F48DCB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35C5-FA34-4228-BE7A-F06F0C921C7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0E0D-4C8E-4FCE-929B-EFDCE2966E0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5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E4C0-F536-492A-9930-738CACCAD22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0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0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hyperlink" Target="file:///&#1055;&#1044;&#1044;2.ppt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#Slide 10" TargetMode="External"/><Relationship Id="rId2" Type="http://schemas.openxmlformats.org/officeDocument/2006/relationships/hyperlink" Target="file:///&#1055;&#1044;&#1044;2.ppt#Slide 11" TargetMode="External"/><Relationship Id="rId3" Type="http://schemas.openxmlformats.org/officeDocument/2006/relationships/hyperlink" Target="file:///&#1055;&#1044;&#1044;2.ppt#Slide 12" TargetMode="External"/><Relationship Id="rId4" Type="http://schemas.openxmlformats.org/officeDocument/2006/relationships/hyperlink" Target="file:///&#1055;&#1044;&#1044;2.ppt#Slide 13" TargetMode="External"/><Relationship Id="rId5" Type="http://schemas.openxmlformats.org/officeDocument/2006/relationships/hyperlink" Target="file:///&#1055;&#1044;&#1044;2.ppt#Slide 14" TargetMode="External"/><Relationship Id="rId6" Type="http://schemas.openxmlformats.org/officeDocument/2006/relationships/hyperlink" Target="file:///&#1055;&#1044;&#1044;2.ppt#Slide 15" TargetMode="External"/><Relationship Id="rId7" Type="http://schemas.openxmlformats.org/officeDocument/2006/relationships/hyperlink" Target="file:///&#1055;&#1044;&#1044;2.ppt#Slide 16" TargetMode="External"/><Relationship Id="rId8" Type="http://schemas.openxmlformats.org/officeDocument/2006/relationships/hyperlink" Target="file:///&#1055;&#1044;&#1044;2.ppt#Slide 17" TargetMode="External"/><Relationship Id="rId9" Type="http://schemas.openxmlformats.org/officeDocument/2006/relationships/hyperlink" Target="file:///&#1055;&#1044;&#1044;2.ppt#Slide 18" TargetMode="External"/><Relationship Id="rId10" Type="http://schemas.openxmlformats.org/officeDocument/2006/relationships/hyperlink" Target="file:///&#1055;&#1044;&#1044;2.ppt#Slide 19" TargetMode="External"/><Relationship Id="rId11" Type="http://schemas.openxmlformats.org/officeDocument/2006/relationships/hyperlink" Target="file:///&#1055;&#1044;&#1044;2.ppt#Slide 20" TargetMode="External"/><Relationship Id="rId12" Type="http://schemas.openxmlformats.org/officeDocument/2006/relationships/hyperlink" Target="file:///&#1055;&#1044;&#1044;2.ppt#Slide 21" TargetMode="External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file:///&#1055;&#1044;&#1044;2.ppt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9.jpeg"/><Relationship Id="rId3" Type="http://schemas.openxmlformats.org/officeDocument/2006/relationships/image" Target="../media/image7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5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8.xml"/><Relationship Id="rId8" Type="http://schemas.openxmlformats.org/officeDocument/2006/relationships/slide" Target="slide29.xml"/><Relationship Id="rId9" Type="http://schemas.openxmlformats.org/officeDocument/2006/relationships/slide" Target="slide30.xml"/><Relationship Id="rId10" Type="http://schemas.openxmlformats.org/officeDocument/2006/relationships/slide" Target="slide31.xml"/><Relationship Id="rId11" Type="http://schemas.openxmlformats.org/officeDocument/2006/relationships/slide" Target="slide32.xml"/><Relationship Id="rId12" Type="http://schemas.openxmlformats.org/officeDocument/2006/relationships/slide" Target="slide33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55;&#1044;&#1044;2.ppt" TargetMode="External"/><Relationship Id="rId2" Type="http://schemas.openxmlformats.org/officeDocument/2006/relationships/image" Target="../media/image13.png"/><Relationship Id="rId3" Type="http://schemas.openxmlformats.org/officeDocument/2006/relationships/hyperlink" Target="file:///&#1055;&#1044;&#1044;2.ppt" TargetMode="External"/><Relationship Id="rId4" Type="http://schemas.openxmlformats.org/officeDocument/2006/relationships/image" Target="../media/image13.png"/><Relationship Id="rId5" Type="http://schemas.openxmlformats.org/officeDocument/2006/relationships/hyperlink" Target="file:///&#1055;&#1044;&#1044;2.ppt" TargetMode="External"/><Relationship Id="rId6" Type="http://schemas.openxmlformats.org/officeDocument/2006/relationships/image" Target="../media/image13.png"/><Relationship Id="rId7" Type="http://schemas.openxmlformats.org/officeDocument/2006/relationships/hyperlink" Target="file:///&#1055;&#1044;&#1044;2.ppt" TargetMode="External"/><Relationship Id="rId8" Type="http://schemas.openxmlformats.org/officeDocument/2006/relationships/image" Target="../media/image13.png"/><Relationship Id="rId9" Type="http://schemas.openxmlformats.org/officeDocument/2006/relationships/hyperlink" Target="file:///&#1055;&#1044;&#1044;2.ppt" TargetMode="External"/><Relationship Id="rId10" Type="http://schemas.openxmlformats.org/officeDocument/2006/relationships/image" Target="../media/image13.png"/><Relationship Id="rId11" Type="http://schemas.openxmlformats.org/officeDocument/2006/relationships/hyperlink" Target="file:///&#1055;&#1044;&#1044;2.ppt" TargetMode="External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TextBox 7"/>
          <p:cNvSpPr/>
          <p:nvPr/>
        </p:nvSpPr>
        <p:spPr>
          <a:xfrm>
            <a:off x="324000" y="85716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Правила дорожного движ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2" name="Группа 10"/>
          <p:cNvGrpSpPr/>
          <p:nvPr/>
        </p:nvGrpSpPr>
        <p:grpSpPr>
          <a:xfrm>
            <a:off x="214200" y="2500200"/>
            <a:ext cx="2714760" cy="4140360"/>
            <a:chOff x="214200" y="2500200"/>
            <a:chExt cx="2714760" cy="4140360"/>
          </a:xfrm>
        </p:grpSpPr>
        <p:pic>
          <p:nvPicPr>
            <p:cNvPr id="3063" name="Рисунок 4" descr="1730.gif"/>
            <p:cNvPicPr/>
            <p:nvPr/>
          </p:nvPicPr>
          <p:blipFill>
            <a:blip r:embed="rId1"/>
            <a:stretch/>
          </p:blipFill>
          <p:spPr>
            <a:xfrm>
              <a:off x="214200" y="5215320"/>
              <a:ext cx="928800" cy="131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4" name="Рисунок 5" descr="post-26681-0-37452900-1369904148.jpg"/>
            <p:cNvPicPr/>
            <p:nvPr/>
          </p:nvPicPr>
          <p:blipFill>
            <a:blip r:embed="rId2"/>
            <a:stretch/>
          </p:blipFill>
          <p:spPr>
            <a:xfrm>
              <a:off x="214200" y="3929040"/>
              <a:ext cx="965880" cy="14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5" name="Рисунок 6" descr="hotel.jpg"/>
            <p:cNvPicPr/>
            <p:nvPr/>
          </p:nvPicPr>
          <p:blipFill>
            <a:blip r:embed="rId3"/>
            <a:srcRect l="16251" t="0" r="16251" b="0"/>
            <a:stretch/>
          </p:blipFill>
          <p:spPr>
            <a:xfrm>
              <a:off x="214200" y="2500200"/>
              <a:ext cx="96444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6" name="Рисунок 7" descr="54179480-fuyuitcu1fygcggb.gif"/>
            <p:cNvPicPr/>
            <p:nvPr/>
          </p:nvPicPr>
          <p:blipFill>
            <a:blip r:embed="rId4"/>
            <a:stretch/>
          </p:blipFill>
          <p:spPr>
            <a:xfrm>
              <a:off x="1143000" y="5331240"/>
              <a:ext cx="85716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7" name="Рисунок 8" descr="post-26681-0-37452900-1369904148.jpg"/>
            <p:cNvPicPr/>
            <p:nvPr/>
          </p:nvPicPr>
          <p:blipFill>
            <a:blip r:embed="rId5"/>
            <a:stretch/>
          </p:blipFill>
          <p:spPr>
            <a:xfrm>
              <a:off x="2000160" y="5286600"/>
              <a:ext cx="928800" cy="135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68" name="Рисунок 9" descr="16a.jpg"/>
          <p:cNvPicPr/>
          <p:nvPr/>
        </p:nvPicPr>
        <p:blipFill>
          <a:blip r:embed="rId6"/>
          <a:stretch/>
        </p:blipFill>
        <p:spPr>
          <a:xfrm>
            <a:off x="6931080" y="2498760"/>
            <a:ext cx="1622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Прямоугольник 2"/>
          <p:cNvSpPr/>
          <p:nvPr/>
        </p:nvSpPr>
        <p:spPr>
          <a:xfrm>
            <a:off x="1285920" y="642960"/>
            <a:ext cx="738828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щие положения -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транспортные средства по Правилам относятся к маршрутным транспортным средствам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5" name="Рисунок 3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Прямоугольник 2"/>
          <p:cNvSpPr/>
          <p:nvPr/>
        </p:nvSpPr>
        <p:spPr>
          <a:xfrm>
            <a:off x="714240" y="117360"/>
            <a:ext cx="763272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щие положения -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Сколько перекрестков изображено на рисунк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7" name="Рисунок 4" descr="22-1.jpg"/>
          <p:cNvPicPr/>
          <p:nvPr/>
        </p:nvPicPr>
        <p:blipFill>
          <a:blip r:embed="rId1"/>
          <a:stretch/>
        </p:blipFill>
        <p:spPr>
          <a:xfrm>
            <a:off x="928800" y="1000080"/>
            <a:ext cx="7619760" cy="2857680"/>
          </a:xfrm>
          <a:prstGeom prst="rect">
            <a:avLst/>
          </a:prstGeom>
          <a:ln w="0">
            <a:noFill/>
          </a:ln>
        </p:spPr>
      </p:pic>
      <p:pic>
        <p:nvPicPr>
          <p:cNvPr id="3098" name="Рисунок 5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72280" y="557208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Прямоугольник 2"/>
          <p:cNvSpPr/>
          <p:nvPr/>
        </p:nvSpPr>
        <p:spPr>
          <a:xfrm>
            <a:off x="785880" y="500040"/>
            <a:ext cx="7745400" cy="12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щие положения -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  <a:ea typeface="Arial"/>
              </a:rPr>
              <a:t>На каком рисунке изображена дорога с разделительной полосо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0" name="Рисунок 3" descr="25-1.jpg"/>
          <p:cNvPicPr/>
          <p:nvPr/>
        </p:nvPicPr>
        <p:blipFill>
          <a:blip r:embed="rId1"/>
          <a:stretch/>
        </p:blipFill>
        <p:spPr>
          <a:xfrm>
            <a:off x="928800" y="1357200"/>
            <a:ext cx="7619760" cy="2857680"/>
          </a:xfrm>
          <a:prstGeom prst="rect">
            <a:avLst/>
          </a:prstGeom>
          <a:ln w="0">
            <a:noFill/>
          </a:ln>
        </p:spPr>
      </p:pic>
      <p:pic>
        <p:nvPicPr>
          <p:cNvPr id="3101" name="Рисунок 5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15200" y="557208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Прямоугольник 2"/>
          <p:cNvSpPr/>
          <p:nvPr/>
        </p:nvSpPr>
        <p:spPr>
          <a:xfrm>
            <a:off x="611280" y="692280"/>
            <a:ext cx="8281800" cy="71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щие положения -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Какой маневр совершает легковой автомобил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3" name="Рисунок 3" descr="33-1.jpg"/>
          <p:cNvPicPr/>
          <p:nvPr/>
        </p:nvPicPr>
        <p:blipFill>
          <a:blip r:embed="rId1"/>
          <a:stretch/>
        </p:blipFill>
        <p:spPr>
          <a:xfrm>
            <a:off x="714240" y="1857240"/>
            <a:ext cx="7620120" cy="2857680"/>
          </a:xfrm>
          <a:prstGeom prst="rect">
            <a:avLst/>
          </a:prstGeom>
          <a:ln w="0">
            <a:noFill/>
          </a:ln>
        </p:spPr>
      </p:pic>
      <p:pic>
        <p:nvPicPr>
          <p:cNvPr id="3104" name="Рисунок 5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143920" y="571500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Прямоугольник 2"/>
          <p:cNvSpPr/>
          <p:nvPr/>
        </p:nvSpPr>
        <p:spPr>
          <a:xfrm>
            <a:off x="826920" y="692280"/>
            <a:ext cx="803124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ешеходов-10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  <a:ea typeface="Arial"/>
              </a:rPr>
              <a:t>По каким частям дороги должны перемещаться пешеход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6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Прямоугольник 2"/>
          <p:cNvSpPr/>
          <p:nvPr/>
        </p:nvSpPr>
        <p:spPr>
          <a:xfrm>
            <a:off x="357120" y="692280"/>
            <a:ext cx="878688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ешеходов-2</a:t>
            </a: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Как следует поступить если пешеход не  успел закончить переход дорог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8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Прямоугольник 2"/>
          <p:cNvSpPr/>
          <p:nvPr/>
        </p:nvSpPr>
        <p:spPr>
          <a:xfrm>
            <a:off x="826920" y="692280"/>
            <a:ext cx="8031240" cy="87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ешеходов-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Как необходимо двигаться пешеходу при движении по краю проезжей части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0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Прямоугольник 2"/>
          <p:cNvSpPr/>
          <p:nvPr/>
        </p:nvSpPr>
        <p:spPr>
          <a:xfrm>
            <a:off x="714240" y="214200"/>
            <a:ext cx="817272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ешеходов-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Как нужно переходить дорогу если в зоне видимости нет пешеходного перехода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2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Прямоугольник 2"/>
          <p:cNvSpPr/>
          <p:nvPr/>
        </p:nvSpPr>
        <p:spPr>
          <a:xfrm>
            <a:off x="826920" y="692280"/>
            <a:ext cx="7632720" cy="87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ассажиров -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nstantia"/>
                <a:ea typeface="Arial"/>
              </a:rPr>
              <a:t>Кто должен быть пристегнут ремнями безопасности  при поездк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4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Прямоугольник 2"/>
          <p:cNvSpPr/>
          <p:nvPr/>
        </p:nvSpPr>
        <p:spPr>
          <a:xfrm>
            <a:off x="324000" y="692280"/>
            <a:ext cx="856908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ассажиров -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nstantia"/>
                <a:ea typeface="Arial"/>
              </a:rPr>
              <a:t>Можно ли детям до 12-ти лет ездить на переднем сиденье автомобиля рядом с водителем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6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TextBox 7"/>
          <p:cNvSpPr/>
          <p:nvPr/>
        </p:nvSpPr>
        <p:spPr>
          <a:xfrm>
            <a:off x="324000" y="270828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ПЕРВЫЙ</a:t>
            </a:r>
            <a:r>
              <a:rPr b="1" lang="en-US" sz="8000" spc="-1" strike="noStrike">
                <a:solidFill>
                  <a:srgbClr val="ffffff"/>
                </a:solidFill>
                <a:latin typeface="Constantia"/>
                <a:ea typeface="Arial"/>
              </a:rPr>
              <a:t> </a:t>
            </a: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РАУН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Прямоугольник 2"/>
          <p:cNvSpPr/>
          <p:nvPr/>
        </p:nvSpPr>
        <p:spPr>
          <a:xfrm>
            <a:off x="468360" y="692280"/>
            <a:ext cx="8675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ассажиров -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  <a:ea typeface="Arial"/>
              </a:rPr>
              <a:t>Можно ли перевозить детей в возрасте до 12 лет на заднем сиденье мотоцикла если на них есть мотошл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8" name="Рисунок 3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Прямоугольник 2"/>
          <p:cNvSpPr/>
          <p:nvPr/>
        </p:nvSpPr>
        <p:spPr>
          <a:xfrm>
            <a:off x="826920" y="692280"/>
            <a:ext cx="7632720" cy="87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Обязанности пассажиров-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nstantia"/>
                <a:ea typeface="Arial"/>
              </a:rPr>
              <a:t>Когда можно производить посадку и высадку в/из транспортного средств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0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Прямоугольник 2"/>
          <p:cNvSpPr/>
          <p:nvPr/>
        </p:nvSpPr>
        <p:spPr>
          <a:xfrm>
            <a:off x="826920" y="692280"/>
            <a:ext cx="79599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ДВИЖЕНИЕ ВЕЛОСИПЕДОВ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ПОВОЗОК, МОПЕДОВ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Прямоугольник 3"/>
          <p:cNvSpPr/>
          <p:nvPr/>
        </p:nvSpPr>
        <p:spPr>
          <a:xfrm>
            <a:off x="358920" y="3071880"/>
            <a:ext cx="87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С какого возраста можно управлять велосипедом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3" name="Рисунок 5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00960" y="4857840"/>
            <a:ext cx="98100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Прямоугольник 2"/>
          <p:cNvSpPr/>
          <p:nvPr/>
        </p:nvSpPr>
        <p:spPr>
          <a:xfrm>
            <a:off x="826920" y="692280"/>
            <a:ext cx="7632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ДВИЖЕНИЕ ВЕЛОСИПЕДОВ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ПОВОЗОК, МОПЕДОВ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Constantia"/>
              </a:rPr>
              <a:t>-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onstantia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Прямоугольник 3"/>
          <p:cNvSpPr/>
          <p:nvPr/>
        </p:nvSpPr>
        <p:spPr>
          <a:xfrm>
            <a:off x="358920" y="2643120"/>
            <a:ext cx="8785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Можно ли управлять велосипедом или мопедом одной рукой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6" name="Рисунок 5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Прямоугольник 2"/>
          <p:cNvSpPr/>
          <p:nvPr/>
        </p:nvSpPr>
        <p:spPr>
          <a:xfrm>
            <a:off x="857160" y="301680"/>
            <a:ext cx="7632720" cy="75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ДВИЖЕНИЕ ВЕЛОСИПЕДОВ, ПОВОЗОК, МОПЕДОВ-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  <a:ea typeface="Arial"/>
              </a:rPr>
              <a:t>Обязан ли водитель автомобиля уступить дорогу велосипедисту, который движется по велосипедной дорожке, пересекающей проезжую ча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8" name="Рисунок 5" descr="velodoroga.jpg"/>
          <p:cNvPicPr/>
          <p:nvPr/>
        </p:nvPicPr>
        <p:blipFill>
          <a:blip r:embed="rId1"/>
          <a:stretch/>
        </p:blipFill>
        <p:spPr>
          <a:xfrm>
            <a:off x="2286000" y="1714680"/>
            <a:ext cx="4768920" cy="1785600"/>
          </a:xfrm>
          <a:prstGeom prst="rect">
            <a:avLst/>
          </a:prstGeom>
          <a:ln w="0">
            <a:noFill/>
          </a:ln>
        </p:spPr>
      </p:pic>
      <p:pic>
        <p:nvPicPr>
          <p:cNvPr id="3129" name="Рисунок 6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86840" y="557208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Прямоугольник 2"/>
          <p:cNvSpPr/>
          <p:nvPr/>
        </p:nvSpPr>
        <p:spPr>
          <a:xfrm>
            <a:off x="1116000" y="69228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ДВИЖЕНИЕ ВЕЛОСИПЕДОВ, ПОВОЗОК, МОПЕДОВ-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Прямоугольник 3"/>
          <p:cNvSpPr/>
          <p:nvPr/>
        </p:nvSpPr>
        <p:spPr>
          <a:xfrm>
            <a:off x="214200" y="2071800"/>
            <a:ext cx="8750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nstantia"/>
                <a:ea typeface="Arial"/>
              </a:rPr>
              <a:t>Можно велосипедисту поворачивать налево или разворачиваться на дорогах с трамвайными путям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2" name="Рисунок 5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Прямоугольник 2"/>
          <p:cNvSpPr/>
          <p:nvPr/>
        </p:nvSpPr>
        <p:spPr>
          <a:xfrm>
            <a:off x="826920" y="69228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Знаки-2</a:t>
            </a:r>
            <a:r>
              <a:rPr b="0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Что обозначает этот  знак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4" name="Рисунок 6" descr="i.jpg"/>
          <p:cNvPicPr/>
          <p:nvPr/>
        </p:nvPicPr>
        <p:blipFill>
          <a:blip r:embed="rId1"/>
          <a:stretch/>
        </p:blipFill>
        <p:spPr>
          <a:xfrm>
            <a:off x="1071720" y="1357200"/>
            <a:ext cx="3000240" cy="3000600"/>
          </a:xfrm>
          <a:prstGeom prst="rect">
            <a:avLst/>
          </a:prstGeom>
          <a:ln w="0">
            <a:noFill/>
          </a:ln>
        </p:spPr>
      </p:pic>
      <p:pic>
        <p:nvPicPr>
          <p:cNvPr id="3135" name="Рисунок 7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Прямоугольник 2"/>
          <p:cNvSpPr/>
          <p:nvPr/>
        </p:nvSpPr>
        <p:spPr>
          <a:xfrm>
            <a:off x="785880" y="214200"/>
            <a:ext cx="8358120" cy="71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</a:rPr>
              <a:t>Знаки-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Какой из знаков распространяет свое действие только на ту полосу, над которой он установле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7" name="Рисунок 4" descr="pdd_04_03.jpg"/>
          <p:cNvPicPr/>
          <p:nvPr/>
        </p:nvPicPr>
        <p:blipFill>
          <a:blip r:embed="rId1"/>
          <a:stretch/>
        </p:blipFill>
        <p:spPr>
          <a:xfrm>
            <a:off x="1428840" y="1357200"/>
            <a:ext cx="6545160" cy="2500560"/>
          </a:xfrm>
          <a:prstGeom prst="rect">
            <a:avLst/>
          </a:prstGeom>
          <a:ln w="0">
            <a:noFill/>
          </a:ln>
        </p:spPr>
      </p:pic>
      <p:pic>
        <p:nvPicPr>
          <p:cNvPr id="3138" name="Рисунок 6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86840" y="421488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Прямоугольник 2"/>
          <p:cNvSpPr/>
          <p:nvPr/>
        </p:nvSpPr>
        <p:spPr>
          <a:xfrm>
            <a:off x="324000" y="692280"/>
            <a:ext cx="86407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Знаки-6</a:t>
            </a:r>
            <a:r>
              <a:rPr b="0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Что запрещено в зоне действия этого знака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0" name="Рисунок 3" descr="pdd_02_04.jpg"/>
          <p:cNvPicPr/>
          <p:nvPr/>
        </p:nvPicPr>
        <p:blipFill>
          <a:blip r:embed="rId1"/>
          <a:srcRect l="39504" t="6806" r="38000" b="10744"/>
          <a:stretch/>
        </p:blipFill>
        <p:spPr>
          <a:xfrm>
            <a:off x="1000080" y="857160"/>
            <a:ext cx="2500200" cy="3500640"/>
          </a:xfrm>
          <a:prstGeom prst="rect">
            <a:avLst/>
          </a:prstGeom>
          <a:ln w="0">
            <a:noFill/>
          </a:ln>
        </p:spPr>
      </p:pic>
      <p:pic>
        <p:nvPicPr>
          <p:cNvPr id="3141" name="Рисунок 5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15200" y="364320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Прямоугольник 2"/>
          <p:cNvSpPr/>
          <p:nvPr/>
        </p:nvSpPr>
        <p:spPr>
          <a:xfrm>
            <a:off x="826920" y="69228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Знаки-8</a:t>
            </a:r>
            <a:r>
              <a:rPr b="0" lang="ru-RU" sz="60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  <a:ea typeface="Arial"/>
              </a:rPr>
              <a:t>Что обозначают эти  знаки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3" name="Рисунок 4" descr="B1.jpg"/>
          <p:cNvPicPr/>
          <p:nvPr/>
        </p:nvPicPr>
        <p:blipFill>
          <a:blip r:embed="rId1"/>
          <a:stretch/>
        </p:blipFill>
        <p:spPr>
          <a:xfrm>
            <a:off x="1357200" y="1928880"/>
            <a:ext cx="2344680" cy="2052720"/>
          </a:xfrm>
          <a:prstGeom prst="rect">
            <a:avLst/>
          </a:prstGeom>
          <a:ln w="0">
            <a:noFill/>
          </a:ln>
        </p:spPr>
      </p:pic>
      <p:pic>
        <p:nvPicPr>
          <p:cNvPr id="3144" name="Рисунок 6" descr="151923_w640_h640_23.gif"/>
          <p:cNvPicPr/>
          <p:nvPr/>
        </p:nvPicPr>
        <p:blipFill>
          <a:blip r:embed="rId2"/>
          <a:stretch/>
        </p:blipFill>
        <p:spPr>
          <a:xfrm>
            <a:off x="5572080" y="1928880"/>
            <a:ext cx="2214720" cy="2214360"/>
          </a:xfrm>
          <a:prstGeom prst="rect">
            <a:avLst/>
          </a:prstGeom>
          <a:ln w="0">
            <a:noFill/>
          </a:ln>
        </p:spPr>
      </p:pic>
      <p:pic>
        <p:nvPicPr>
          <p:cNvPr id="3145" name="Рисунок 7" descr="16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3920" y="557208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1" name=""/>
          <p:cNvGraphicFramePr/>
          <p:nvPr/>
        </p:nvGraphicFramePr>
        <p:xfrm>
          <a:off x="214200" y="189000"/>
          <a:ext cx="8750520" cy="6492960"/>
        </p:xfrm>
        <a:graphic>
          <a:graphicData uri="http://schemas.openxmlformats.org/drawingml/2006/table">
            <a:tbl>
              <a:tblPr/>
              <a:tblGrid>
                <a:gridCol w="2187720"/>
                <a:gridCol w="2187720"/>
                <a:gridCol w="2187360"/>
                <a:gridCol w="2187720"/>
              </a:tblGrid>
              <a:tr h="9147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ЩИЕ ПОЛОЖЕНИЯ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1224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2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3"/>
                        </a:rPr>
                        <a:t>3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4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  <a:tr h="76212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ЯЗАННОСТИ ПЕШЕХОДО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5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6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7"/>
                        </a:rPr>
                        <a:t>3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8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  <a:tr h="70128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ЯЗАННОСТИ ПАССАЖИРО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9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0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1"/>
                        </a:rPr>
                        <a:t>3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2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Прямоугольник 2"/>
          <p:cNvSpPr/>
          <p:nvPr/>
        </p:nvSpPr>
        <p:spPr>
          <a:xfrm>
            <a:off x="324000" y="692280"/>
            <a:ext cx="864072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Проезд перекрестков-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  <a:ea typeface="Arial"/>
              </a:rPr>
              <a:t>Если на перекрестке работает и светофор и регулировщик, чьи требования должны выполнять участники дорожного движ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7" name="Рисунок 4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547524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Прямоугольник 2"/>
          <p:cNvSpPr/>
          <p:nvPr/>
        </p:nvSpPr>
        <p:spPr>
          <a:xfrm>
            <a:off x="179280" y="549360"/>
            <a:ext cx="878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Проезд перекрестков-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Прямоугольник 3"/>
          <p:cNvSpPr/>
          <p:nvPr/>
        </p:nvSpPr>
        <p:spPr>
          <a:xfrm>
            <a:off x="250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При движении по нерегулируемому перекрестку кто должен уступить дорогу- водитель автомобиля или водитель трамва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0" name="Рисунок 5" descr="16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43920" y="5643720"/>
            <a:ext cx="642960" cy="96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Прямоугольник 2"/>
          <p:cNvSpPr/>
          <p:nvPr/>
        </p:nvSpPr>
        <p:spPr>
          <a:xfrm>
            <a:off x="571680" y="692280"/>
            <a:ext cx="8393040" cy="71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Проезд перекрестков-6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2" name="Рисунок 5" descr="24-15.jpg"/>
          <p:cNvPicPr/>
          <p:nvPr/>
        </p:nvPicPr>
        <p:blipFill>
          <a:blip r:embed="rId1"/>
          <a:stretch/>
        </p:blipFill>
        <p:spPr>
          <a:xfrm>
            <a:off x="1071720" y="1571760"/>
            <a:ext cx="6858000" cy="2571480"/>
          </a:xfrm>
          <a:prstGeom prst="rect">
            <a:avLst/>
          </a:prstGeom>
          <a:ln w="0">
            <a:noFill/>
          </a:ln>
        </p:spPr>
      </p:pic>
      <p:sp>
        <p:nvSpPr>
          <p:cNvPr id="3153" name="Прямоугольник 6"/>
          <p:cNvSpPr/>
          <p:nvPr/>
        </p:nvSpPr>
        <p:spPr>
          <a:xfrm>
            <a:off x="1071720" y="4303800"/>
            <a:ext cx="728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  <a:ea typeface="Arial"/>
              </a:rPr>
              <a:t>В каком случае водитель автомобиля должен уступить дорогу пешехода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4" name="Рисунок 7" descr="16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72280" y="5643720"/>
            <a:ext cx="642960" cy="96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Прямоугольник 2"/>
          <p:cNvSpPr/>
          <p:nvPr/>
        </p:nvSpPr>
        <p:spPr>
          <a:xfrm>
            <a:off x="571680" y="476280"/>
            <a:ext cx="839304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onstantia"/>
                <a:ea typeface="Arial"/>
              </a:rPr>
              <a:t>Проезд перекрестков-8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  <a:ea typeface="Arial"/>
              </a:rPr>
              <a:t>Водитель автомобиля собирается повернуть налево. Кому он должен уступить доро</a:t>
            </a:r>
            <a:r>
              <a:rPr b="1" lang="ru-RU" sz="4000" spc="-1" strike="noStrike">
                <a:solidFill>
                  <a:srgbClr val="ffffff"/>
                </a:solidFill>
                <a:latin typeface="Constantia"/>
                <a:ea typeface="Arial"/>
              </a:rPr>
              <a:t>гу</a:t>
            </a:r>
            <a:r>
              <a:rPr b="1" lang="ru-RU" sz="4800" spc="-1" strike="noStrike">
                <a:solidFill>
                  <a:srgbClr val="ffffff"/>
                </a:solidFill>
                <a:latin typeface="Constantia"/>
                <a:ea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6" name="Рисунок 5" descr="22-13.jpg"/>
          <p:cNvPicPr/>
          <p:nvPr/>
        </p:nvPicPr>
        <p:blipFill>
          <a:blip r:embed="rId1"/>
          <a:stretch/>
        </p:blipFill>
        <p:spPr>
          <a:xfrm>
            <a:off x="285840" y="1500120"/>
            <a:ext cx="8572320" cy="3214800"/>
          </a:xfrm>
          <a:prstGeom prst="rect">
            <a:avLst/>
          </a:prstGeom>
          <a:ln w="0">
            <a:noFill/>
          </a:ln>
        </p:spPr>
      </p:pic>
      <p:pic>
        <p:nvPicPr>
          <p:cNvPr id="3157" name="Рисунок 6" descr="16a.jpg"/>
          <p:cNvPicPr/>
          <p:nvPr/>
        </p:nvPicPr>
        <p:blipFill>
          <a:blip r:embed="rId2"/>
          <a:stretch/>
        </p:blipFill>
        <p:spPr>
          <a:xfrm>
            <a:off x="8501040" y="5889600"/>
            <a:ext cx="6429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8" name="Рисунок 1" descr="cat.gif"/>
          <p:cNvPicPr/>
          <p:nvPr/>
        </p:nvPicPr>
        <p:blipFill>
          <a:blip r:embed="rId1"/>
          <a:stretch/>
        </p:blipFill>
        <p:spPr>
          <a:xfrm>
            <a:off x="6500880" y="4929120"/>
            <a:ext cx="1881000" cy="1542960"/>
          </a:xfrm>
          <a:prstGeom prst="rect">
            <a:avLst/>
          </a:prstGeom>
          <a:ln w="0">
            <a:noFill/>
          </a:ln>
        </p:spPr>
      </p:pic>
      <p:pic>
        <p:nvPicPr>
          <p:cNvPr id="3159" name="Рисунок 2" descr="0dca325a3df8183b04658f64cfeb3c74.jpg"/>
          <p:cNvPicPr/>
          <p:nvPr/>
        </p:nvPicPr>
        <p:blipFill>
          <a:blip r:embed="rId2"/>
          <a:stretch/>
        </p:blipFill>
        <p:spPr>
          <a:xfrm>
            <a:off x="1500120" y="785880"/>
            <a:ext cx="2409840" cy="5691240"/>
          </a:xfrm>
          <a:prstGeom prst="rect">
            <a:avLst/>
          </a:prstGeom>
          <a:ln w="0">
            <a:noFill/>
          </a:ln>
        </p:spPr>
      </p:pic>
      <p:sp>
        <p:nvSpPr>
          <p:cNvPr id="3160" name="TextBox 3"/>
          <p:cNvSpPr/>
          <p:nvPr/>
        </p:nvSpPr>
        <p:spPr>
          <a:xfrm>
            <a:off x="4143240" y="1285920"/>
            <a:ext cx="5000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В какую сторону разрешает движение такой жест регулировщ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1" name="Рисунок 1" descr="cat.gif"/>
          <p:cNvPicPr/>
          <p:nvPr/>
        </p:nvPicPr>
        <p:blipFill>
          <a:blip r:embed="rId1"/>
          <a:stretch/>
        </p:blipFill>
        <p:spPr>
          <a:xfrm>
            <a:off x="6500880" y="4929120"/>
            <a:ext cx="1881000" cy="1542960"/>
          </a:xfrm>
          <a:prstGeom prst="rect">
            <a:avLst/>
          </a:prstGeom>
          <a:ln w="0">
            <a:noFill/>
          </a:ln>
        </p:spPr>
      </p:pic>
      <p:pic>
        <p:nvPicPr>
          <p:cNvPr id="3162" name="Рисунок 2" descr="post-26681-0-37452900-1369904148.jpg"/>
          <p:cNvPicPr/>
          <p:nvPr/>
        </p:nvPicPr>
        <p:blipFill>
          <a:blip r:embed="rId2"/>
          <a:stretch/>
        </p:blipFill>
        <p:spPr>
          <a:xfrm>
            <a:off x="428760" y="1214280"/>
            <a:ext cx="2939760" cy="4286520"/>
          </a:xfrm>
          <a:prstGeom prst="rect">
            <a:avLst/>
          </a:prstGeom>
          <a:ln w="0">
            <a:noFill/>
          </a:ln>
        </p:spPr>
      </p:pic>
      <p:sp>
        <p:nvSpPr>
          <p:cNvPr id="3163" name="TextBox 3"/>
          <p:cNvSpPr/>
          <p:nvPr/>
        </p:nvSpPr>
        <p:spPr>
          <a:xfrm>
            <a:off x="3786120" y="1643040"/>
            <a:ext cx="507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</a:rPr>
              <a:t>Что обозначает этот знак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4" name="Рисунок 1" descr="cat.gif"/>
          <p:cNvPicPr/>
          <p:nvPr/>
        </p:nvPicPr>
        <p:blipFill>
          <a:blip r:embed="rId1"/>
          <a:stretch/>
        </p:blipFill>
        <p:spPr>
          <a:xfrm>
            <a:off x="6929280" y="5000760"/>
            <a:ext cx="1881360" cy="1542960"/>
          </a:xfrm>
          <a:prstGeom prst="rect">
            <a:avLst/>
          </a:prstGeom>
          <a:ln w="0">
            <a:noFill/>
          </a:ln>
        </p:spPr>
      </p:pic>
      <p:pic>
        <p:nvPicPr>
          <p:cNvPr id="3165" name="Рисунок 3" descr="910391-2313fb9273fe50dc.jpg"/>
          <p:cNvPicPr/>
          <p:nvPr/>
        </p:nvPicPr>
        <p:blipFill>
          <a:blip r:embed="rId2"/>
          <a:stretch/>
        </p:blipFill>
        <p:spPr>
          <a:xfrm>
            <a:off x="785880" y="928800"/>
            <a:ext cx="7119720" cy="2714400"/>
          </a:xfrm>
          <a:prstGeom prst="rect">
            <a:avLst/>
          </a:prstGeom>
          <a:ln w="0">
            <a:noFill/>
          </a:ln>
        </p:spPr>
      </p:pic>
      <p:sp>
        <p:nvSpPr>
          <p:cNvPr id="3166" name="TextBox 4"/>
          <p:cNvSpPr/>
          <p:nvPr/>
        </p:nvSpPr>
        <p:spPr>
          <a:xfrm>
            <a:off x="785880" y="4071960"/>
            <a:ext cx="6357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В какую сторону автомобиль может продолжить движ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7" name="Рисунок 1" descr="cat.gif"/>
          <p:cNvPicPr/>
          <p:nvPr/>
        </p:nvPicPr>
        <p:blipFill>
          <a:blip r:embed="rId1"/>
          <a:stretch/>
        </p:blipFill>
        <p:spPr>
          <a:xfrm>
            <a:off x="6500880" y="4929120"/>
            <a:ext cx="1881000" cy="1542960"/>
          </a:xfrm>
          <a:prstGeom prst="rect">
            <a:avLst/>
          </a:prstGeom>
          <a:ln w="0">
            <a:noFill/>
          </a:ln>
        </p:spPr>
      </p:pic>
      <p:pic>
        <p:nvPicPr>
          <p:cNvPr id="3168" name="Рисунок 2" descr="uploads_2010_02_12_02_17_03_1.jpg"/>
          <p:cNvPicPr/>
          <p:nvPr/>
        </p:nvPicPr>
        <p:blipFill>
          <a:blip r:embed="rId2"/>
          <a:stretch/>
        </p:blipFill>
        <p:spPr>
          <a:xfrm>
            <a:off x="2286000" y="714240"/>
            <a:ext cx="4675320" cy="3286440"/>
          </a:xfrm>
          <a:prstGeom prst="rect">
            <a:avLst/>
          </a:prstGeom>
          <a:ln w="0">
            <a:noFill/>
          </a:ln>
        </p:spPr>
      </p:pic>
      <p:sp>
        <p:nvSpPr>
          <p:cNvPr id="3169" name="TextBox 3"/>
          <p:cNvSpPr/>
          <p:nvPr/>
        </p:nvSpPr>
        <p:spPr>
          <a:xfrm>
            <a:off x="357120" y="4500720"/>
            <a:ext cx="6143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Для кого предназначен этот светофор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0" name="Рисунок 1" descr="cat.gif"/>
          <p:cNvPicPr/>
          <p:nvPr/>
        </p:nvPicPr>
        <p:blipFill>
          <a:blip r:embed="rId1"/>
          <a:stretch/>
        </p:blipFill>
        <p:spPr>
          <a:xfrm>
            <a:off x="6500880" y="4929120"/>
            <a:ext cx="1881000" cy="1542960"/>
          </a:xfrm>
          <a:prstGeom prst="rect">
            <a:avLst/>
          </a:prstGeom>
          <a:ln w="0">
            <a:noFill/>
          </a:ln>
        </p:spPr>
      </p:pic>
      <p:sp>
        <p:nvSpPr>
          <p:cNvPr id="3171" name="TextBox 3"/>
          <p:cNvSpPr/>
          <p:nvPr/>
        </p:nvSpPr>
        <p:spPr>
          <a:xfrm>
            <a:off x="3786120" y="1643040"/>
            <a:ext cx="507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</a:rPr>
              <a:t>Что обозначает этот знак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2" name="Рисунок 4" descr="3_010.jpg"/>
          <p:cNvPicPr/>
          <p:nvPr/>
        </p:nvPicPr>
        <p:blipFill>
          <a:blip r:embed="rId2"/>
          <a:stretch/>
        </p:blipFill>
        <p:spPr>
          <a:xfrm>
            <a:off x="428760" y="1571760"/>
            <a:ext cx="3071520" cy="30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3" name="Рисунок 1" descr="cat.gif"/>
          <p:cNvPicPr/>
          <p:nvPr/>
        </p:nvPicPr>
        <p:blipFill>
          <a:blip r:embed="rId1"/>
          <a:stretch/>
        </p:blipFill>
        <p:spPr>
          <a:xfrm>
            <a:off x="6500880" y="4929120"/>
            <a:ext cx="1881000" cy="1542960"/>
          </a:xfrm>
          <a:prstGeom prst="rect">
            <a:avLst/>
          </a:prstGeom>
          <a:ln w="0">
            <a:noFill/>
          </a:ln>
        </p:spPr>
      </p:pic>
      <p:sp>
        <p:nvSpPr>
          <p:cNvPr id="3174" name="TextBox 3"/>
          <p:cNvSpPr/>
          <p:nvPr/>
        </p:nvSpPr>
        <p:spPr>
          <a:xfrm>
            <a:off x="3714840" y="357120"/>
            <a:ext cx="507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</a:rPr>
              <a:t>Какой знак обозначает кемпинг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5" name="Рисунок 7" descr="1002.jpg"/>
          <p:cNvPicPr/>
          <p:nvPr/>
        </p:nvPicPr>
        <p:blipFill>
          <a:blip r:embed="rId2"/>
          <a:srcRect l="16142" t="0" r="16142" b="0"/>
          <a:stretch/>
        </p:blipFill>
        <p:spPr>
          <a:xfrm>
            <a:off x="3429000" y="3429000"/>
            <a:ext cx="2000160" cy="2954160"/>
          </a:xfrm>
          <a:prstGeom prst="rect">
            <a:avLst/>
          </a:prstGeom>
          <a:ln w="0">
            <a:noFill/>
          </a:ln>
        </p:spPr>
      </p:pic>
      <p:pic>
        <p:nvPicPr>
          <p:cNvPr id="3176" name="Рисунок 8" descr="1730.gif"/>
          <p:cNvPicPr/>
          <p:nvPr/>
        </p:nvPicPr>
        <p:blipFill>
          <a:blip r:embed="rId3"/>
          <a:stretch/>
        </p:blipFill>
        <p:spPr>
          <a:xfrm>
            <a:off x="571680" y="3429000"/>
            <a:ext cx="2071440" cy="2927520"/>
          </a:xfrm>
          <a:prstGeom prst="rect">
            <a:avLst/>
          </a:prstGeom>
          <a:ln w="0">
            <a:noFill/>
          </a:ln>
        </p:spPr>
      </p:pic>
      <p:pic>
        <p:nvPicPr>
          <p:cNvPr id="3177" name="Рисунок 9" descr="7_9.png"/>
          <p:cNvPicPr/>
          <p:nvPr/>
        </p:nvPicPr>
        <p:blipFill>
          <a:blip r:embed="rId4"/>
          <a:stretch/>
        </p:blipFill>
        <p:spPr>
          <a:xfrm>
            <a:off x="571680" y="285840"/>
            <a:ext cx="2143080" cy="2900160"/>
          </a:xfrm>
          <a:prstGeom prst="rect">
            <a:avLst/>
          </a:prstGeom>
          <a:ln w="0">
            <a:noFill/>
          </a:ln>
        </p:spPr>
      </p:pic>
      <p:pic>
        <p:nvPicPr>
          <p:cNvPr id="3178" name="Прямоугольник 10" descr=""/>
          <p:cNvPicPr/>
          <p:nvPr/>
        </p:nvPicPr>
        <p:blipFill>
          <a:blip r:embed="rId5"/>
          <a:stretch/>
        </p:blipFill>
        <p:spPr>
          <a:xfrm>
            <a:off x="1584360" y="2163600"/>
            <a:ext cx="1287360" cy="1524240"/>
          </a:xfrm>
          <a:prstGeom prst="rect">
            <a:avLst/>
          </a:prstGeom>
          <a:ln w="0">
            <a:noFill/>
          </a:ln>
        </p:spPr>
      </p:pic>
      <p:pic>
        <p:nvPicPr>
          <p:cNvPr id="3179" name="Прямоугольник 12" descr=""/>
          <p:cNvPicPr/>
          <p:nvPr/>
        </p:nvPicPr>
        <p:blipFill>
          <a:blip r:embed="rId6"/>
          <a:stretch/>
        </p:blipFill>
        <p:spPr>
          <a:xfrm>
            <a:off x="1657440" y="5237280"/>
            <a:ext cx="1287360" cy="1517400"/>
          </a:xfrm>
          <a:prstGeom prst="rect">
            <a:avLst/>
          </a:prstGeom>
          <a:ln w="0">
            <a:noFill/>
          </a:ln>
        </p:spPr>
      </p:pic>
      <p:pic>
        <p:nvPicPr>
          <p:cNvPr id="3180" name="Прямоугольник 13" descr=""/>
          <p:cNvPicPr/>
          <p:nvPr/>
        </p:nvPicPr>
        <p:blipFill>
          <a:blip r:embed="rId7"/>
          <a:stretch/>
        </p:blipFill>
        <p:spPr>
          <a:xfrm>
            <a:off x="4443480" y="5237280"/>
            <a:ext cx="1287360" cy="15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TextBox 7"/>
          <p:cNvSpPr/>
          <p:nvPr/>
        </p:nvSpPr>
        <p:spPr>
          <a:xfrm>
            <a:off x="324000" y="2708280"/>
            <a:ext cx="88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МИНУ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TextBox 1"/>
          <p:cNvSpPr/>
          <p:nvPr/>
        </p:nvSpPr>
        <p:spPr>
          <a:xfrm>
            <a:off x="357120" y="0"/>
            <a:ext cx="8143920" cy="87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Список использованных источник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ttp://pddmaster.ru/documents/pdd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- правила дорожного 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зображение светофора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ttp://images.yandex.ru/yandsearch?text=%D1%81%D0%B2%D0%B5%D1%82%D0%BE%D1%84%D0%BE%D1%80&amp;fp=0&amp;img_url=http%3A%2F%2Fcs403527.userapi.com%2Fg40611363%2Fe_b4e8b2a8.jpg&amp;pos=3&amp;uinfo=ww-998-wh-591-fw-773-fh-448-pd-1&amp;rpt=s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ображение кота в мешке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ttp://images.yandex.ru/yandsearch?text=%D0%BA%D0%BE%D1%82%20%D0%B2%20%D0%BC%D0%B5%D1%88%D0%BA%D0%B5&amp;fp=0&amp;img_url=http%3A%2F%2F4.bp.blogspot.com%2F_SJm3-n4SO0o%2FTKG5KDurxzI%2FAAAAAAAAE8s%2Fp5xUyO8kb7Y%2Fs1600%2F1.JPG&amp;pos=0&amp;uinfo=ww-998-wh-591-fw-773-fh-448-pd-1&amp;rpt=s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ображение знаков дорожного движения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ttp://kuruh.ru/dorzn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ображение дорожных ситуаций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ttp://avto-russia.ru/pd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TextBox 7"/>
          <p:cNvSpPr/>
          <p:nvPr/>
        </p:nvSpPr>
        <p:spPr>
          <a:xfrm>
            <a:off x="324000" y="270828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ВТОРОЙ</a:t>
            </a:r>
            <a:r>
              <a:rPr b="1" lang="en-US" sz="8000" spc="-1" strike="noStrike">
                <a:solidFill>
                  <a:srgbClr val="ffffff"/>
                </a:solidFill>
                <a:latin typeface="Constantia"/>
                <a:ea typeface="Arial"/>
              </a:rPr>
              <a:t> </a:t>
            </a: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РАУН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6" name=""/>
          <p:cNvGraphicFramePr/>
          <p:nvPr/>
        </p:nvGraphicFramePr>
        <p:xfrm>
          <a:off x="250920" y="189000"/>
          <a:ext cx="8569080" cy="6721560"/>
        </p:xfrm>
        <a:graphic>
          <a:graphicData uri="http://schemas.openxmlformats.org/drawingml/2006/table">
            <a:tbl>
              <a:tblPr/>
              <a:tblGrid>
                <a:gridCol w="2141280"/>
                <a:gridCol w="2143440"/>
                <a:gridCol w="2141280"/>
                <a:gridCol w="2143080"/>
              </a:tblGrid>
              <a:tr h="13107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ВИЖЕНИЕ ВЕЛОСИПЕДОВ, ПОВОЗОК, МОПЕДО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1224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" action="ppaction://hlinksldjump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2" action="ppaction://hlinksldjump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3" action="ppaction://hlinksldjump"/>
                        </a:rPr>
                        <a:t>6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4" action="ppaction://hlinksldjump"/>
                        </a:rPr>
                        <a:t>8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  <a:tr h="9147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ЗНАКИ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5" action="ppaction://hlinksldjump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6" action="ppaction://hlinksldjump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7" action="ppaction://hlinksldjump"/>
                        </a:rPr>
                        <a:t>6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8" action="ppaction://hlinksldjump"/>
                        </a:rPr>
                        <a:t>8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  <a:tr h="8229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ОЕЗД ПЕРЕКРЕСТКОВ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9" action="ppaction://hlinksldjump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0" action="ppaction://hlinksldjump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1" action="ppaction://hlinksldjump"/>
                        </a:rPr>
                        <a:t>6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de66"/>
                          </a:solidFill>
                          <a:uFillTx/>
                          <a:latin typeface="Constantia"/>
                          <a:hlinkClick r:id="rId12" action="ppaction://hlinksldjump"/>
                        </a:rPr>
                        <a:t>8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9b63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TextBox 7"/>
          <p:cNvSpPr/>
          <p:nvPr/>
        </p:nvSpPr>
        <p:spPr>
          <a:xfrm>
            <a:off x="324000" y="270828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ТРЕТИЙ РАУН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TextBox 3"/>
          <p:cNvSpPr/>
          <p:nvPr/>
        </p:nvSpPr>
        <p:spPr>
          <a:xfrm>
            <a:off x="1357200" y="642960"/>
            <a:ext cx="678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</a:rPr>
              <a:t>КОТ В МЕШ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0" name="Рисунок 4" descr="cat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2143080"/>
            <a:ext cx="1738080" cy="1425600"/>
          </a:xfrm>
          <a:prstGeom prst="rect">
            <a:avLst/>
          </a:prstGeom>
          <a:ln w="0">
            <a:noFill/>
          </a:ln>
        </p:spPr>
      </p:pic>
      <p:pic>
        <p:nvPicPr>
          <p:cNvPr id="3081" name="Рисунок 5" descr="cat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71720" y="4357800"/>
            <a:ext cx="1738080" cy="1425600"/>
          </a:xfrm>
          <a:prstGeom prst="rect">
            <a:avLst/>
          </a:prstGeom>
          <a:ln w="0">
            <a:noFill/>
          </a:ln>
        </p:spPr>
      </p:pic>
      <p:pic>
        <p:nvPicPr>
          <p:cNvPr id="3082" name="Рисунок 6" descr="cat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71960" y="4429080"/>
            <a:ext cx="1738440" cy="1425600"/>
          </a:xfrm>
          <a:prstGeom prst="rect">
            <a:avLst/>
          </a:prstGeom>
          <a:ln w="0">
            <a:noFill/>
          </a:ln>
        </p:spPr>
      </p:pic>
      <p:pic>
        <p:nvPicPr>
          <p:cNvPr id="3083" name="Рисунок 7" descr="cat.gi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929280" y="4500720"/>
            <a:ext cx="1738440" cy="1425240"/>
          </a:xfrm>
          <a:prstGeom prst="rect">
            <a:avLst/>
          </a:prstGeom>
          <a:ln w="0">
            <a:noFill/>
          </a:ln>
        </p:spPr>
      </p:pic>
      <p:pic>
        <p:nvPicPr>
          <p:cNvPr id="3084" name="Рисунок 8" descr="cat.gi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71960" y="2214720"/>
            <a:ext cx="1738440" cy="1425240"/>
          </a:xfrm>
          <a:prstGeom prst="rect">
            <a:avLst/>
          </a:prstGeom>
          <a:ln w="0">
            <a:noFill/>
          </a:ln>
        </p:spPr>
      </p:pic>
      <p:pic>
        <p:nvPicPr>
          <p:cNvPr id="3085" name="Рисунок 9" descr="cat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858000" y="2214720"/>
            <a:ext cx="1738440" cy="1425240"/>
          </a:xfrm>
          <a:prstGeom prst="rect">
            <a:avLst/>
          </a:prstGeom>
          <a:ln w="0">
            <a:noFill/>
          </a:ln>
        </p:spPr>
      </p:pic>
      <p:pic>
        <p:nvPicPr>
          <p:cNvPr id="3086" name="Прямоугольник 10" descr=""/>
          <p:cNvPicPr/>
          <p:nvPr/>
        </p:nvPicPr>
        <p:blipFill>
          <a:blip r:embed="rId13"/>
          <a:stretch/>
        </p:blipFill>
        <p:spPr>
          <a:xfrm>
            <a:off x="1871640" y="2444760"/>
            <a:ext cx="1285920" cy="1523880"/>
          </a:xfrm>
          <a:prstGeom prst="rect">
            <a:avLst/>
          </a:prstGeom>
          <a:ln w="0">
            <a:noFill/>
          </a:ln>
        </p:spPr>
      </p:pic>
      <p:pic>
        <p:nvPicPr>
          <p:cNvPr id="3087" name="Прямоугольник 11" descr=""/>
          <p:cNvPicPr/>
          <p:nvPr/>
        </p:nvPicPr>
        <p:blipFill>
          <a:blip r:embed="rId14"/>
          <a:stretch/>
        </p:blipFill>
        <p:spPr>
          <a:xfrm>
            <a:off x="7729560" y="4730760"/>
            <a:ext cx="1285920" cy="1523880"/>
          </a:xfrm>
          <a:prstGeom prst="rect">
            <a:avLst/>
          </a:prstGeom>
          <a:ln w="0">
            <a:noFill/>
          </a:ln>
        </p:spPr>
      </p:pic>
      <p:pic>
        <p:nvPicPr>
          <p:cNvPr id="3088" name="Прямоугольник 12" descr=""/>
          <p:cNvPicPr/>
          <p:nvPr/>
        </p:nvPicPr>
        <p:blipFill>
          <a:blip r:embed="rId15"/>
          <a:stretch/>
        </p:blipFill>
        <p:spPr>
          <a:xfrm>
            <a:off x="4870440" y="4730760"/>
            <a:ext cx="1285920" cy="1523880"/>
          </a:xfrm>
          <a:prstGeom prst="rect">
            <a:avLst/>
          </a:prstGeom>
          <a:ln w="0">
            <a:noFill/>
          </a:ln>
        </p:spPr>
      </p:pic>
      <p:pic>
        <p:nvPicPr>
          <p:cNvPr id="3089" name="Прямоугольник 13" descr=""/>
          <p:cNvPicPr/>
          <p:nvPr/>
        </p:nvPicPr>
        <p:blipFill>
          <a:blip r:embed="rId16"/>
          <a:stretch/>
        </p:blipFill>
        <p:spPr>
          <a:xfrm>
            <a:off x="1871640" y="4664160"/>
            <a:ext cx="1285920" cy="1523880"/>
          </a:xfrm>
          <a:prstGeom prst="rect">
            <a:avLst/>
          </a:prstGeom>
          <a:ln w="0">
            <a:noFill/>
          </a:ln>
        </p:spPr>
      </p:pic>
      <p:pic>
        <p:nvPicPr>
          <p:cNvPr id="3090" name="Прямоугольник 14" descr=""/>
          <p:cNvPicPr/>
          <p:nvPr/>
        </p:nvPicPr>
        <p:blipFill>
          <a:blip r:embed="rId17"/>
          <a:stretch/>
        </p:blipFill>
        <p:spPr>
          <a:xfrm>
            <a:off x="7656480" y="2517840"/>
            <a:ext cx="1285920" cy="1523880"/>
          </a:xfrm>
          <a:prstGeom prst="rect">
            <a:avLst/>
          </a:prstGeom>
          <a:ln w="0">
            <a:noFill/>
          </a:ln>
        </p:spPr>
      </p:pic>
      <p:pic>
        <p:nvPicPr>
          <p:cNvPr id="3091" name="Прямоугольник 15" descr=""/>
          <p:cNvPicPr/>
          <p:nvPr/>
        </p:nvPicPr>
        <p:blipFill>
          <a:blip r:embed="rId18"/>
          <a:stretch/>
        </p:blipFill>
        <p:spPr>
          <a:xfrm>
            <a:off x="4870440" y="2517840"/>
            <a:ext cx="1285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Прямоугольник 2"/>
          <p:cNvSpPr/>
          <p:nvPr/>
        </p:nvSpPr>
        <p:spPr>
          <a:xfrm>
            <a:off x="826920" y="69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TextBox 7"/>
          <p:cNvSpPr/>
          <p:nvPr/>
        </p:nvSpPr>
        <p:spPr>
          <a:xfrm>
            <a:off x="0" y="2857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nstantia"/>
                <a:ea typeface="Arial"/>
              </a:rPr>
              <a:t>МОЛОДЦЫ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5:26:47Z</dcterms:created>
  <dc:creator>U.R.</dc:creator>
  <dc:description/>
  <dc:language>en-US</dc:language>
  <cp:lastModifiedBy>Турова Жанна</cp:lastModifiedBy>
  <dcterms:modified xsi:type="dcterms:W3CDTF">2022-11-13T20:00:08Z</dcterms:modified>
  <cp:revision>93</cp:revision>
  <dc:subject/>
  <dc:title>Слайд 1</dc:title>
</cp:coreProperties>
</file>