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40.png" ContentType="image/png"/>
  <Override PartName="/ppt/media/image9.jpeg" ContentType="image/jpeg"/>
  <Override PartName="/ppt/media/image13.png" ContentType="image/png"/>
  <Override PartName="/ppt/media/image37.jpeg" ContentType="image/jpeg"/>
  <Override PartName="/ppt/media/image38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8.jpeg" ContentType="image/jpeg"/>
  <Override PartName="/ppt/media/image39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  <p:sldId id="275" r:id="rId81"/>
    <p:sldId id="276" r:id="rId82"/>
    <p:sldId id="277" r:id="rId83"/>
    <p:sldId id="278" r:id="rId84"/>
    <p:sldId id="279" r:id="rId85"/>
    <p:sldId id="280" r:id="rId86"/>
    <p:sldId id="281" r:id="rId87"/>
    <p:sldId id="282" r:id="rId88"/>
    <p:sldId id="283" r:id="rId89"/>
    <p:sldId id="284" r:id="rId90"/>
    <p:sldId id="285" r:id="rId91"/>
    <p:sldId id="286" r:id="rId92"/>
    <p:sldId id="287" r:id="rId93"/>
    <p:sldId id="288" r:id="rId94"/>
    <p:sldId id="289" r:id="rId95"/>
    <p:sldId id="290" r:id="rId96"/>
    <p:sldId id="291" r:id="rId97"/>
    <p:sldId id="292" r:id="rId98"/>
    <p:sldId id="293" r:id="rId99"/>
    <p:sldId id="294" r:id="rId100"/>
    <p:sldId id="295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slide" Target="slides/slide20.xml"/><Relationship Id="rId82" Type="http://schemas.openxmlformats.org/officeDocument/2006/relationships/slide" Target="slides/slide21.xml"/><Relationship Id="rId83" Type="http://schemas.openxmlformats.org/officeDocument/2006/relationships/slide" Target="slides/slide22.xml"/><Relationship Id="rId84" Type="http://schemas.openxmlformats.org/officeDocument/2006/relationships/slide" Target="slides/slide23.xml"/><Relationship Id="rId85" Type="http://schemas.openxmlformats.org/officeDocument/2006/relationships/slide" Target="slides/slide24.xml"/><Relationship Id="rId86" Type="http://schemas.openxmlformats.org/officeDocument/2006/relationships/slide" Target="slides/slide25.xml"/><Relationship Id="rId87" Type="http://schemas.openxmlformats.org/officeDocument/2006/relationships/slide" Target="slides/slide26.xml"/><Relationship Id="rId88" Type="http://schemas.openxmlformats.org/officeDocument/2006/relationships/slide" Target="slides/slide27.xml"/><Relationship Id="rId89" Type="http://schemas.openxmlformats.org/officeDocument/2006/relationships/slide" Target="slides/slide28.xml"/><Relationship Id="rId90" Type="http://schemas.openxmlformats.org/officeDocument/2006/relationships/slide" Target="slides/slide29.xml"/><Relationship Id="rId91" Type="http://schemas.openxmlformats.org/officeDocument/2006/relationships/slide" Target="slides/slide30.xml"/><Relationship Id="rId92" Type="http://schemas.openxmlformats.org/officeDocument/2006/relationships/slide" Target="slides/slide31.xml"/><Relationship Id="rId93" Type="http://schemas.openxmlformats.org/officeDocument/2006/relationships/slide" Target="slides/slide32.xml"/><Relationship Id="rId94" Type="http://schemas.openxmlformats.org/officeDocument/2006/relationships/slide" Target="slides/slide33.xml"/><Relationship Id="rId95" Type="http://schemas.openxmlformats.org/officeDocument/2006/relationships/slide" Target="slides/slide34.xml"/><Relationship Id="rId96" Type="http://schemas.openxmlformats.org/officeDocument/2006/relationships/slide" Target="slides/slide35.xml"/><Relationship Id="rId97" Type="http://schemas.openxmlformats.org/officeDocument/2006/relationships/slide" Target="slides/slide36.xml"/><Relationship Id="rId98" Type="http://schemas.openxmlformats.org/officeDocument/2006/relationships/slide" Target="slides/slide37.xml"/><Relationship Id="rId99" Type="http://schemas.openxmlformats.org/officeDocument/2006/relationships/slide" Target="slides/slide38.xml"/><Relationship Id="rId100" Type="http://schemas.openxmlformats.org/officeDocument/2006/relationships/slide" Target="slides/slide39.xml"/><Relationship Id="rId101" Type="http://schemas.openxmlformats.org/officeDocument/2006/relationships/slide" Target="slides/slide40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E9E-4804-45C6-9C27-8165EDBF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AF5-FD12-45E7-8D1B-F73986B7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88282-4251-4412-B7F1-4E80599D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88764-18CE-4546-B243-8CD986CD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99356-A552-403F-9195-13336124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EA593-2F7C-440F-BB7A-7FCB0B1E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EDAA2-60DE-4813-BB19-44BBADA6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DD05B-9E51-43F9-A2F2-47E4FE39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5E675-8CDA-4817-995C-ABC45E85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09462-59A0-402C-9E96-24A0906E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FDC2E-53D9-4F11-82EF-B1516554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86454-3AFD-4B36-9C3B-006DC44E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58C-762C-4C2E-B668-BE05A09E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222B8-74D4-4577-B2CD-C5384CD3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1DCED-F4FE-4A50-8EC9-177CB01E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0DCF5-5B07-47C1-8AD2-D4A2DAEC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44729-32C0-4A5B-9DF9-2E813468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9B03D-20FE-4624-ACA2-5C7FCD46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6D895-45D0-4667-93B9-DDE4AEDF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14FAB-1557-4BC7-A105-C9DAC202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E952E-171F-4EAA-A96E-CC877B1C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9463B-DF1B-422D-9876-D1AFD11B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179F4-640D-4C75-AE16-F165D109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D8D-B446-46E0-85DA-B78CCF29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07ADC-5F35-42B3-B633-35B80C66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BB333-4824-40E5-9BFF-4EE6DE31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3223D-1758-4273-94BC-E5AF3208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3C4B5-98D3-4581-BBD9-79C7391C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06F0F-6075-4221-9503-54D0476A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A1B89-5916-4D1F-8219-73ACC195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15330-1DD2-4B35-93D6-673F6F3A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9C403-0ED3-4FEF-B5BA-F1FD2C63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D0391-C667-4873-A185-A68490C4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25711-BA3E-4A4F-94FF-C2EEDD8F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3646-84AF-4F63-8489-3AD19A41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94D97-138B-4D0C-A7EA-25175829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022BC-8FD0-4844-AB06-671C5838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7C3AC-7A6C-4781-96B3-E23EDEC9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E1FDC-1137-44E1-8FB7-78BF9343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D982F-0EB5-48B0-A259-A4DE424B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087BE-D02B-4AF7-8B37-2B648B42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FAB6D-5CF7-431A-904C-AD44BA10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FD55E-FCA6-40A1-A890-3652BC76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5C4FA-C458-49CE-BD9B-9C241D5B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A150D-CE4D-4969-A2AB-D270C6D8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79E0-132E-4CC1-AB71-58488A13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8AAEC-E3A8-4405-80C6-8B78311F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3B774-5022-458C-A9E4-5BB2307E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AF695-22F0-417E-A1D1-254EB441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A9B3A-165F-4E0A-927B-3BEB3A79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00540-BE20-4A0B-A386-2C4A70B4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B23EA-B400-45DB-8564-582A54FD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C8010-E3CF-41C2-A7EC-6EA47BCF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5380A-DC2D-41D9-A614-30ED3CAB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71C4A-0629-493E-AB31-D0C45805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43B78-1C23-4351-B0DB-330A8DC4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36A9-AA25-47D0-B68F-EA4ECAFA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7527E-7FE5-4B31-BBAA-577880F6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BBF44-9B9A-4336-A6DE-CACB1537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5B918-6957-4A0C-90F2-3FB07D3F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61438-2699-4A76-87EF-13DC06FF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D143A-9705-40C7-B1BD-EC53F040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FC5ED-E3FB-4295-9D87-85FA4006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9D24D-1E2E-4CA6-A4CB-F7211E36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005AC-0A3D-4866-9207-7A02D3AD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E78C5-2918-43C4-9C7D-A9B87713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03269-B07F-4A6E-8DE4-3B951E17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ECDB-7687-4B1D-AB00-03CF8FF9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6C57C-028A-4EFE-A7BB-15950730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934CB-4214-4A5C-A1BD-134349D5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986D0-1404-485E-8DEC-0FF77D5E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3586B-3F43-46CC-9688-1404ADBB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54FF5-01E6-440F-AFDB-981A4E98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E52F7-014A-4270-9198-5F26D9BA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ABE1D-A81B-45B3-874E-8A5DE7CD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410D2-8190-4E8A-A403-A5F4C198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8C62C-1817-4C9E-B056-003B4EBF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1370F-09D9-4B5A-AAC7-5C042C43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87DD-41AB-4614-B7F2-A9A3D96A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386D7-B3D9-48E4-9191-54E80E21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F1E5D-71B3-476E-A8B8-EFD00056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EFC8A-1F78-4110-B895-D89FD447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EB4CB-7918-4792-A49D-349D915A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C6C20-D8D2-4E7A-8A0B-B08E070A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4C86C-14AB-4057-8EFE-CA0202A9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1685A-7880-4956-942B-373DF5CB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A76A4-CA3A-452F-990C-522DE933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432AF-1244-4DB8-A6F3-B000D9E6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397E5-D68B-46FF-AB72-2CEEFAF8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42AA-94CE-491A-866D-38BEA383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E8306-3DB7-463E-97DC-8F52A788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64AE2A-C56D-4957-A589-B9A2B75E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64D72-5C5D-4C33-A6D9-BDF00D72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61283A-9229-4CC2-9BCF-61BFFC2B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1B8D9-BA8B-4DB4-B4B0-69F87962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D9229-9900-4E65-8365-3A77804C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826C01-177B-4C13-8000-3EF615E1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70254-F58A-4892-9B8E-5D81407C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B05F7-06F7-4938-AD0E-B89AC009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D4FF1-8D27-481E-A236-AE4D0E9D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77F5-5A23-4458-AE48-CB29D813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F037FB-5D1A-4186-9D86-D3E707F6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29471-087A-4476-8722-51D2CADA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2DC08-06C1-4E9C-9A50-8B3C4B72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516D6B-8144-4B9C-AFDE-93F0FC66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B0B8E-779E-4165-B5AE-95D3F89F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A17FBC-4EAF-487F-9521-B4BFF129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4B1D0-3444-4320-BBE8-0C53D0A2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DECDB-D77A-46BA-99F1-62DF1E81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BD0D00-F0C1-4799-8963-945808AB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6CD73F-9077-4CA6-8375-27ACF8CC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81A-4FFF-47A1-AB2F-27F90CB6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A515-2266-487B-B7DC-CBC838C5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DB4DEC-25AC-472B-969B-77D6D56C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0AE920-D2E6-43EB-8929-4543D7C5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45543E-E349-4788-8F09-E6F4E59D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D6846-86D5-4B9B-9224-85639340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D24A2-2286-46A5-B66F-39EFE108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799B5-5923-416D-B9ED-70A7E1A4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A8D255-F83B-4455-9F46-05D04BF5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9DC86A-013C-4A5D-AF70-0A4504B6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8117B-3B79-4573-BE12-C83C8228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458219-05E0-47C4-A9A7-018F2D5C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F654-BD33-4E6A-BA30-2EB2795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EE9B2-187C-4034-B364-B65521EC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79F7C8-2F28-4F8F-B4ED-BFF40E24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198431-79DB-4E5D-B8BF-520C3EA8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F7E81-61FA-4D2B-9674-B041664B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17343E-FE14-46BB-B650-A99481D7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717F9A-6B1D-438A-AFF4-B92A0A0E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37E52-1930-4516-8BBF-6654CA45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A2CD75-5185-4B1B-B5A5-BB67B229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C0F3E8-B32E-4D13-A348-75CECF53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21B5E5-D46A-4ADD-A971-B0512661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FFAD-C8B2-4045-939A-1EAA8B96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B1AF1-6766-447F-9B54-9FB12912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0DB2C-8AA5-4EE8-97C1-BD7E08EC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655308-73FE-4D28-AAD7-BE0D9C7A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716F11-1D75-4B7E-B702-74612A22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697C6A-5D5D-4C22-9AE8-EF51CBE1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E42F5D-04B0-41D4-B1F3-D84D1B5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865C71-170C-485A-BCF6-1E1C5D6F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AF7D9-C983-43B0-9E7C-BAA09446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49328C-C403-487E-8C2A-91E2D916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EB57B3-70ED-4D77-84EF-02625207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06E3-EECC-4406-B3C4-BD8275E0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530F00-78F1-46C4-B9E2-136D359D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312436-629A-4936-B80C-4DF8E19D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7CDC85-7F62-4D43-9A33-C85A45A8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BE69E0-8C03-4604-86DF-6C088646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A418F6-A432-4DDD-A407-4E3FA71D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180BB-BC8A-4F57-A38D-EEB1F60F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8A2233-8962-4620-9067-390B819D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0EE98F-3F4E-48EB-81B8-93488C86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EA5F47-F74B-4A97-9C39-D095D3CA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BECC5B-851C-4D25-AF81-A63BB5FB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C8BA-0A2E-4928-A596-8C5B5A05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CA92F7-25D3-4EDF-8F61-328624BD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F31405-733A-404F-9A4E-36F7B27A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89A3D0-2609-40AD-BEA1-D5DCEA08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C189E1-75FE-469E-911F-92C7259E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D709DF-BA3A-494B-9F08-70941D27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039B9E-FFB5-4114-9443-5E607A9A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F9299E-05DC-45E9-8F57-92DEA8C7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1632B3-56AE-4E4D-BE09-FC1C6C9B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7FFA12-A635-4003-A51D-BA69FA51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B7E90A-3A93-498E-9B6F-4C203259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B43C7-04B7-49BB-9C99-675595B6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765D72-6E4C-428B-B7B7-37AF606E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DB0A68-FD07-4052-B698-7F1C00EE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3F385-EDCB-4C53-B973-CC0DE5D8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7883A6-D9AB-458F-A9DC-E109B480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7E5DBC-FAFC-484A-9F64-129DDD52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D1E095-7571-4D82-BA45-B98D2D20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200D4B-E967-4122-B7F8-48CD4A72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099EEE-1B94-4C12-8072-CC000A82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AE7EDC-255F-427E-B0C5-54F9B3E2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C8B813-2A64-4312-B662-AF017BCC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3487-959D-44E4-9C45-167C1CC4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88E532-352A-4D33-83A5-B4C50E9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8F052C-8BF3-4186-8273-815017B0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725F52-82FA-47AC-B1B6-4969EE6E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3770D6-5E0A-4148-8DAB-BDB20494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1848C0-3271-4DE7-90F9-68B51722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998083-6954-4322-919E-C3B8B9AC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3A2629-C852-4B2F-A056-AA569C44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07C90B-4B3C-4C3F-9D86-94716568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600716-DB25-4547-8C7B-7FD30E2E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766949-F5BE-4F41-9039-62D439A1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919D8-0DDD-4DEE-A978-E4600085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4735EB-9E86-472A-BDF3-CDE267B2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AD6FA5-E52A-49B2-8247-D8F02F49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BD9EC2-0F20-43DA-91FC-638FE765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BA2DFD-81E3-44B9-B96B-9FE61406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AFE13E-9F70-49B7-9992-C940A7CE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E62E07-9043-4461-B4CC-3BF61D7F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2C0EAE-B060-4472-B675-D2B3E568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5920D5-4E61-4274-B466-859FDA7C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72709E-50DF-4838-A045-1A0635EC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42ADC9-2FD6-4CB3-964D-BEE2879F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1C72-1BF7-473E-B67C-22D7D569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884410-B281-49D6-89BD-0B5FCE95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9E3809-C910-4BCB-9126-90A77EBB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336D11-571F-42FA-8686-4D8CBD4F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D85763-5D65-4BC4-9F80-D75D64E9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C89B86-AD57-4567-82BA-BE7221F0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B8FEB0-265C-4661-8EE0-97A81134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5B4A56-E5F1-49CA-9CF6-18CCDF66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9822FC-48A8-49F5-9AB8-FCF314E9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F36D2D-C677-4C2C-B7D5-F15379C9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F575DF-4CC4-4CAD-B886-BB8F8826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09DA-64D2-4394-B314-83F535DA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C939B6-9451-40EB-9604-5F3EFF23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7EF369-C27A-4BFB-BE7B-7F507EA9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A0A3E3-4977-4FBA-B7AD-55571CAF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7B0E5E-E6C4-405C-93E6-CD3154AA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340770-3DB7-4BE3-A59A-4274981A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9BBF89-DC0A-4EA3-A1A6-358CCBC4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0B2B10-C822-4243-939C-8940207B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87ECD7-1E0C-4828-AF22-49799A21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3D05AF-7A15-4671-AFED-6CAC19A8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B87C63-5A87-4361-A90C-63525A4E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1E2-D5CB-4BD6-AF16-04B293B5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1ED8B-E061-41E7-98FE-E6270959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AD25D7-578E-4406-A8F4-6780C64B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92B687-F4E9-4F67-8EA5-77D5C2A6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914AB7-7888-41F3-90AE-DAB5C37E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9FAF34-0034-455B-8611-3F1659A8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89D5A7-FEF4-4299-B709-06210CA8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9AD808-A20F-4EBE-B51A-FAC78279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34D207-2331-45AB-987A-823AE17F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5F4F6F-6C7F-4B0E-B48E-C514130F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425E6C-2E6E-44B5-8EAA-961E7BD9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888F07-8340-4DB8-ADC4-82411B97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8A9C5-E13C-46F1-B478-EC129843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9ACDFB-87ED-47B4-9523-BE4E7E1E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FA62C5-A163-4BEB-AEB8-F9DDC4DE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586978-E410-4E4A-A62F-99559EBE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04907D-E508-4F15-80E7-46706948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EC87A2-380B-4E8D-B9E4-1B2A3BFF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A028CE-B06B-4FEB-9C39-DF3799D1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BE1352-60D4-40F5-817A-312868E8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AE95CD-13ED-40D7-AB23-A2901057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3E30B3-BAB4-4D04-9B4B-E070E0F9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92B3D5-2083-4243-8FE9-97EF3667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1A16-8983-4CE9-8190-32B09CFD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F284CB-996D-4215-8EFE-D712D6BE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C69DFB-97BF-45A6-8BA2-D60EAFB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686F1F-3A91-406B-AE7E-5FE61924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891B36-6BB7-4505-A4BF-3D315E25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FA369C-335B-4C3C-BE50-01E7EC11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F8BCEE-016C-4F3F-8A94-C391D9F0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172608-01D3-4D82-8562-92749443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E9890D-FBAD-4B0F-84B2-FE56D6D0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A6ED73-8920-4607-8E29-71A100FC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AC63A9-9E7E-47CD-95C1-CF7200CE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04DA-C720-466A-B5EC-C730B4F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52AE1E-23FD-454A-AAA8-D9F60100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D4BB1A-FB98-43FA-9625-C7EEC880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3A471B-7EE1-4691-84A0-CFDFA6A1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3CC11E-1001-472B-8FF9-FAB4A877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65B074-231E-4CC1-903B-3324EC2C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78B4E6-E992-4581-B4A2-A25FD279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5FBB82-4597-4206-A326-CF688A57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B31AC7-9152-4D50-8990-67652B68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C26149-B5A0-4E07-B848-0675C5D3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562366-5A71-4FEE-A68F-317B238B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7D0EC-44A7-4176-BACD-8C06781B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99AA89-F901-4CA6-B08B-50FF2F04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A832E1-77DF-4D74-A284-97A03CBC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E5542F-85B2-4EBD-AFBE-12072F5C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E73D1C-E383-435D-8B6B-800DE861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593332-14B0-4D83-9557-6AD42688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5F5B9D-08C5-484D-A640-60773886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C4A78E-49F7-4504-A98C-8F9E7C6B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AC2CC6-5380-4A1A-B88E-22BB3F60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EC4692-8480-4B1B-8ECA-20904390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AB162E-45C7-4725-BCC0-CE9B2E34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4CD9D-6E30-4112-9D47-842D152A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DB86E3-8CC9-4C35-9AB5-B59305B3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47C977-39E9-4DA8-9100-FC6E3756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98832B-2509-4482-B6D0-08B8C563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48F29B-3AE6-4E96-9525-1C78AD3A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0910BD-9236-4A35-AE9A-3F6AAFDA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2321C1-3300-470E-87DF-32290926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E51463-F75D-4E51-85CF-109F901F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F9CF86-CFEE-4613-9744-BA7966A4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C012F9-F2AE-4724-BC04-70BDEFB9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3D6557-95E6-4CF9-8858-1C6C3BA5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D006-8042-48D3-99BA-D2802D1F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2F83DB-621B-4467-9C9E-9810089A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87E44C-5873-4FDF-9AA6-9EDF714E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6EDBF1-7021-422B-8E24-13903631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8879DE-247E-4F29-8BE0-E35A889F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B6E24E-523F-469F-BA62-75397BC2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8220B0-BFCF-4F68-BA40-19E7D462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8DCAA8-77DA-44F9-A034-F15D65FA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7D350D-8BE9-44CE-9013-6582A3A6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451942-22F6-4DC7-9C2B-CD49535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734A3A-2D76-41E6-9E8F-C0D7F071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7C70A-8729-4EEC-A5E6-493D0630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3A763A-FAC7-4E2C-A625-B19F76F9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2E9C2D-7305-4230-BCA6-BC442352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255A78-15B0-462B-91F1-7BBDE216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6B09A2-3259-4681-99B3-4ABF5324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5D994A-AB08-4F63-A1A1-25D75474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10FCD8-54CD-4E0F-961C-4A84E366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B59814-F8A8-41CB-9175-52C6FC53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3630CC-A331-4A52-86DC-7BB8EDC4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5C43D7-5C05-4CBF-9533-D430EFE1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108EB6-02F6-46A7-97B2-4F0EAC1A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AB688-0265-4307-A6AF-7481E7A4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058A8B-689F-4EED-8966-33B1BEFB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01E5B9-D705-427D-A306-0EC980F9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737E0E-A0A6-4805-82C6-9D5E8425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CCC80D-DFC7-42E0-8211-2F9C20AA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A892E7-31DF-458D-A004-8CB590A2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2B6D95-0033-46A7-817B-4F0A80E0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04584D-5856-4705-8569-D3DF7032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FC3923-AA3D-428B-B06F-FDE76D05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C783EC-62D0-45E7-A8CE-8450E3F5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4A8D0B-677B-4B82-96EC-4C34A5F6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D1118-1472-443B-8F02-BDE38E40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2F9345-8765-40AD-93C2-0ADEF94A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6D879F-94DB-4678-A4E3-14612F43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9134AA-581F-45B9-B0E9-A7D7BC6B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DC4D52-6045-4729-96B6-4D96090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14F060-640B-4F76-99AA-B793607F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DF9BA0-7568-4993-B836-23589EB9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CE47B3-AE14-495B-A63F-DB51F949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E53078-40AB-4B77-A779-C45B6059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0DD7F4-9FF8-4223-84DE-95F8CFD5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B58B63-9043-4424-B127-54B8505D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53E-F0F1-4756-847A-38A3BF05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C4217-DF14-47C4-A580-FF836375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864CEA-F1DC-4294-9A08-D774A281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39B058-F9C6-469D-8641-12194815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F6F20A-B636-42EF-A015-81FAB3D9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DAD504-212A-4D35-9845-0B0F76E4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6EF5BE-BEB4-4D38-ACDC-B98DEA00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2318F0-3A75-41F2-934A-9BB279AA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BFA5E0-A007-47EF-970D-B0C338E4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0BE0BA-FC2D-44D4-9566-EC724107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BB8DCA-80AD-4737-A561-52B91549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A5D136-AC72-4758-8A4D-98F64B1E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BE84C-754F-4E1F-932C-4620AC5A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B90A07-BDDA-4831-887F-E15C7964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257A76-1548-475D-B671-D58BE1FE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4B070A-3EB2-4BF1-BE33-A5D1C04F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15E410-3478-48E6-B35D-34499AD3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7124E6-E36E-41A6-82D1-7DBB5499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3069CD-0E1F-4F8C-928A-0D791DFE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AC7056-E12D-40D1-9BE9-5228FCFB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5C1A59-CB77-405B-B9A5-6EB39728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BEB4F6-E71D-4B7B-A84D-ED01C176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21E237-6415-41E2-A9D5-DA267E23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0CFBE-5DB1-438E-9FC4-CEFC2DB3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677BBB-AF93-46C4-81F8-1B21FBDF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FBC4F4-0798-402A-852C-880AF030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16B81C-5367-409F-8C6F-FB1A9005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630D51-99A8-45DC-9C8F-414F658E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EE1B6D-931B-4032-A727-5E9AA4DF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FFD90F-5B40-42CC-8B81-5C745929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908FDF-1667-4C10-83C1-434442A2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A34C28-2010-4575-8B47-33A66524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69F32F-49CF-4B01-BA6D-32B50A3F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D162C5-7356-4116-92DB-44C0C43E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D8C6-C63C-4260-AEC2-8681478C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779174-8B22-4AAF-95CD-0F3EB965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88B684-6D63-489E-B4A7-8DD96879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39C98D-6A9A-4C12-A2F2-262DD541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D7E8F5-71FE-4043-9FF2-610534DA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1BA0653-C644-4FA5-922A-1E411868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BDDFC4-EE08-4B32-B007-6A05E789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51C2E0-D010-4FB4-9F0A-56109A42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B88955C-4BFB-46E7-8A13-0AC7428E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68EC37-69BC-40A1-859F-206D6CD9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E29C2A-AE6E-49F1-8A8D-6E49C13C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92C91-6C4F-4567-8A67-247E674E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F36EDC-B79D-4AAF-A8D0-C66C024F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1C1053-7BE2-4B78-8AE2-4EB493D7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0A0856-AB85-4875-9CAF-145210E1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5AF574-F1C9-4A45-8D14-C3B05737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E27E11-453F-446F-83B4-B2F82200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E996B01-676A-4623-98A8-736DC763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D87F3C-B628-49F0-820C-BF58E34D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81BD0D-CD00-488D-AE6F-DE671B72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DA8076-3537-49B8-BD75-036C1688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9E6A677-94E9-4760-8CF0-DA7DF6A1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41D11-18BD-475F-95AC-C4FADB8A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F71172-567C-449E-9211-BF3B2C23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70B2CB-3524-4FDA-96D8-DB40E341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A1BC427-CFA3-4898-AB73-90D7B92D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6E2EC9-D29D-4629-904D-C42E30F9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3880CD-B6F0-43C5-85FE-A184A2B0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5552FD-FCD3-43A2-94A5-CC611E2E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C147E9-E42D-487C-A12B-B1684ECC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C1A01A1-8383-4659-8F3E-DB947D9F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60F78CE-01CA-4857-B70F-B55FA692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7CA5668-017F-474B-806A-6797060E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D79C7-F3F3-434F-A936-144C0BAF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4523A9-514A-467B-BB9A-7EA7B7BC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7009D0-07D3-406C-A1E9-177E9BF7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5D9AA0B-24FE-45D5-8EC3-0BA76CB5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DCF7C4-1B29-4653-AC19-9C99AB4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FADD039-D569-454A-B325-4CA0E892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AC74409-3636-4FF3-AB55-3D6925C7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6CEF6D5-3EF9-4A55-B5C4-D3899642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B44B9A2-B91A-4290-9C9D-7DDC90E7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7C23FB-DA46-47AF-92FD-90C2D5B9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40A274-CF0A-4E28-B741-405AD80A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A6CD0-A57F-495F-A583-1D4340E3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60CE813-9237-41EB-909F-B6C3EC64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90E7D3-8511-4507-BF24-8FBA6345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AB7BD1-83FC-40B1-8B3D-F4B336A4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1BD7C7-4FE9-4791-8880-F1253370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8A87C5-8114-477F-B849-8E3500C9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694CB1-B7D5-44E9-AD52-D7734006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3BC8E6-7422-4D3E-96A5-3DF41D98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C96A72C-F9C6-4560-A9A1-91D9F1CA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F7C135F-059D-4DE5-84AA-3094851F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6DC9B47-A3E2-4F18-9370-9893ED74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79C4-1B2E-4F7B-9721-E1C82EAF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C2FE4A0-BCF1-479A-9748-9A497193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2BAA0CF-B895-43B9-BC5B-4A5FE7DA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AED6D0F-2A9A-4578-A1AB-62D96713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27B0C6-8E5B-4289-8C13-57EF17F7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010E41-9978-47C9-AABF-1D090E21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18956F-0A85-4844-AC5B-A1BBF33B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3A35056-B071-47BA-90F1-5875B24A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D4CA6E-FF5E-435F-B925-15F0390B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3B9563-BC30-4F05-9BB4-18E2CAD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CCA8F7-6779-4347-B0A9-E6CFA84B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AE2A-BED3-4A2A-91D0-A9192600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7231A4A-CFBE-451B-8D13-C3069DC6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411E525-B89A-46FC-B433-0FA1DEC9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A8B9FC-9498-4C77-857C-1163EFD3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1B59D1-2AF4-48AE-8651-949800DA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E73857-B4F2-4ADB-AFEE-FAD975C8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BB6043-F053-4C72-9BE3-6D1FD7F5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52B75C1-C3FD-4572-89A3-EE3F856E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42BABDA-93C3-407F-A432-5723B2D4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73E0D62-B664-4C4A-AC2F-12060C8F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0C7F2C4-587C-49C3-9631-C6FB1972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1E7-511A-4589-A9ED-A1C4E0B8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184E3-140D-41A6-8AE6-6B015333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D3F1E5-E689-4CC2-ACB3-1829C7AC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56A2B3-7A67-463B-8D78-0F16FAF5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0CA345-4B81-48E9-9B78-F2AE27CA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6D30816-FAD4-43DF-A43A-DF35C575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6CCE84F-A321-4B80-95F3-1142825C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BDAEC43-3875-4250-9AE6-F8C3E0E0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9BD42F3-2249-4C5E-BFC8-78FF636B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AEE474D-2C36-4F12-B3BC-3F4EEF7C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560B23-3FD8-4F58-B56F-005EFAC4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D2209AD-19B2-4EBC-A4C5-9A564508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BC0F5-93A8-4865-8717-C2671762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392687-3D0D-483B-B27B-CA6B5032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5B02990-9CF4-4D0D-B51A-22ED3034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4611A85-87C9-4BD3-B011-3C6EA1F5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2C51061-AF5B-4A4B-86AF-D0BCB7DF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01A4C6C-2E68-47A9-9CDA-C193AED6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DE99A18-3F44-4950-B753-33BB3D3C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FA4682B-5930-440A-9261-C4DB6516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CED57DB-4018-4121-9104-EB266C7F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06BF2DD-BE9C-4CA0-8301-91B64CCD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093602-932F-4B5D-9C2D-9EC57828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5D9B2-5C14-4028-93E8-4F706FA0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163F16F-E406-443D-98D6-3BB264CF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570BC9-CB10-4B7A-AD66-024DF995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44093B-82EA-43BB-9048-E19E89E5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BF77D86-8CA8-4F8C-98EE-B9D2DD86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C532EA2-9356-47FC-8CAA-B6A00EC5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E2F4850-29E4-43DB-B065-BFF4E0F3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5626730-8136-4CBA-95D3-56F09A9B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B41DBA-51C3-4062-8971-541A7127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DCC4EFF-3898-4F07-8DAE-38AF8614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5E8A583-300A-460D-9A91-53F3C01C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AAA9D-875C-427E-AED0-8047F232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4ED2ACB-FD4F-4FCB-B173-A90D0051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BDF6DF-1A4E-492A-94B9-422EFB08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CB03A4D-ECA2-4B16-82B5-4BB38C4B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8275ADF-C978-474F-B1E6-0F5936DF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63A43C3-A680-4EA1-B831-C7508BC8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A0BD8C8-B2B4-404D-942E-652379ED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E0FC32F-85F1-4C92-9A3E-A085A830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953B388-92C3-420C-8424-860D47D1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737AF48-8DDB-44D4-B591-C82D1E0A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BC72F2A-FF28-43EB-BD1E-A3CF7019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5860C-5264-4D63-A957-192542E2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669BCF9-1545-42C2-90B9-B9B1B88A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6D7EFDB-AAD4-4E10-932D-B9EDA8D1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2927B0C-CE0A-42E2-AD46-8359A1A4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89F25AA-113C-4427-9399-2697E29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5BD2244-9717-48EF-BAEF-BFD1A5AF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ACC95C3-AD43-4A64-957D-4C7C2E4E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2A06275-2FDA-49FF-8A30-DEC3919B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C6867D2-BB95-4944-AE71-804FEC7B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173425-D4F5-4E7E-B5BE-781B0621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292E0D-8567-451C-AD1B-59C28419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1099A-13F4-4205-827F-6DB98393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CB82A43-CA13-45BB-8AFA-AED8BB6E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DC05FB3-E4B1-420B-865E-B7F840DC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D53C350-8371-48D8-A6C5-D764CBCE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A8CF793-AC15-4761-A4D5-D555C13E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B8A9A53-E150-4F1C-9E16-6C00419E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62D006F-EFB9-4C57-A2E1-7130B369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849BEB5-9B22-46F4-805D-431B3E74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56EF82F-13B2-43FA-A033-C3C38C2B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31DB4BF-7ABC-416F-810F-857D9D8B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1F50613-B55A-4CD7-A977-1674E1AD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A9C36-7C03-43E2-94EB-D4F1B774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F75ED9C-74F6-4B1B-B298-45D9D022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AE97C0-055F-4CBF-8C21-A848BCEF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E2B9A47-C5AE-410F-9C2C-8BD4A540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E1D238F-A2B3-4150-915A-6418FAA8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2CEB526-6D6D-4206-92AB-127662E4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86D43AB-C15B-4FE5-8723-1C227E02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AFFBE4C-9F2A-44EA-A667-1CE7B3C1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557F7DE-E2D2-4C20-A6BE-BF87A872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D81771-AC3D-4C7F-AE0D-AB3520E8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81877C-03D0-4A2F-BC2E-4BC91A2B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5FC0A-587A-49AF-A531-8E1CFB4F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DF9578A-6DD9-47BB-86CF-96856DE3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E8B01E1-447A-484D-BB52-200F49B7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4AF9F0-8CB4-49CE-938D-598C3999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B5FA3BA-00A1-4614-A5AC-7C6BF129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2DE0598-3032-47EC-A736-C2770C88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857E76-686A-4553-9308-BCC1F582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DAA48CE-41E9-4B87-BAB8-579879D6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9873AFD-6D48-40FD-A618-E1CD5E39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89842C6-50D9-4D43-B6C9-2A00C2B5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EA3BF2E-7107-46FF-B459-549EEF4D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B0300-8D76-4881-9474-EC81C52E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BFCBA1A-387B-4ACA-969B-A5781FDF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71E997B-5607-41F3-9B70-82CAAD55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708FA39-F42E-4F71-A6D4-2C43DFC0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B0BA9C1-9A0D-4A87-81F0-FB75DCCC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6B9EC7-E8F4-4E94-9307-F26D3297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C2A8380-1CDC-4FBB-A2AF-2719370E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84567DB-9F9B-41C5-8C4F-33BE6B87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39ED74F-032B-4F94-8863-16E441B9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A8E216D-2ECC-40BC-A86A-6B064C6F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7F06047-5359-426D-BC19-0BF003F5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F94BE-6732-462F-B500-0469BEE5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1FF6113-1386-4D15-BF8E-FA86AA9B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6A2B80F-3537-4809-BD85-01087051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9C34979-D214-4476-8D14-CD947174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5B97CB8-18CE-4921-8AE8-AC1E8361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9AF1ED1-BD14-46B6-B364-796B5918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B390F38-FC68-457D-8C8E-CAE3ABC3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CC0ED57-35FA-48E8-9E6D-A78EB74A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FB2FCDC-E399-4598-BAC5-5870BB41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C5D0CFE-6458-4CB9-B6AC-646B1B97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AD76D48-B2B9-4FB7-B504-E1185A12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B02-FC11-42AA-A11D-6B69E027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23961-EFB3-482E-BF03-4EA9CB68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9B8E0AD-190D-4FFF-83CF-9FCCA81B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D2FDB22-A5D5-446A-92D3-E49F6590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31005ED-5CAD-4A2F-872B-DA8C046D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BD9347E-0E9F-47E2-990D-AA90DED0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6A87E7A-39FD-413F-8F38-7731A302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5118662-1E9A-4CA5-A768-5F1E8343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0B626AC-920A-44CD-8AB2-C694CC9B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AFB3382-45FB-45E8-8768-303E20F9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4C08D1F-AFE6-4EA1-B888-1C2C957F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098C1BF-12EB-4838-870B-95284C48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97FE7-8915-48C7-B90D-32B65458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BC58815-3570-4C3C-AB04-D52BAAA6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66A3FBF-3A2C-4EB9-AD92-80CF2E0E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70235A7-AE31-4924-825A-D5A4D51F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F71D1AE-F1D0-4D50-88FD-E5C07DF0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DD12395-9B3A-4B19-AD30-06FD0903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05812DE-F8EA-4EBA-BAAE-01A7534C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00E93A8-07D3-4A15-997A-BEB4165C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E855973-F22F-48DC-BE93-5B7DCEC0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FA01C10-DB73-4530-99C9-448B44FE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571B607-EBB6-40D0-8A2E-12C68DE9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F707A-A818-4B05-8A6B-6855DE5F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47F85AA-CFBC-440B-99F4-00FEC6EE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7D31386-736F-4871-9F7A-DFE2DFBF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DCEF08A-80EB-41DB-A57C-CBF65DCF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18263B0-404E-436D-B916-39E21148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D316713-0771-4F8C-9C4A-DE523626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765C6CB-F02D-4D73-908E-6CE34DA4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243316-1EC9-435B-8C35-57FB0EF9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67D90AD-6038-413E-8E2A-58752F1D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1034C8C-6207-4213-AFAF-56E6AA3B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4B611E5-2635-4EBA-A405-72605368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59504-AF8E-4352-AE4A-03BE96F7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24C5CC5-D23F-4477-8AA2-D035B4B0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4FC737C-17B3-4BA1-98B7-59E2198C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02B36C1-42B7-4D5E-B17F-5DC4BCE8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17B9BE4-42AA-4459-A2F5-B1BB854C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3F71BB0-164C-44E2-9E67-32E80DDE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8FB6C1A-0EED-45C0-8489-3C4807A3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52E36E4-D32C-43F5-9E30-F1980819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FDE358B-9E56-437E-8DC5-BB5E7651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2C234CC-F40E-4594-A296-63136F03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CC35187-829D-4390-8661-7300793A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E22A4-6181-4F1B-96E5-668A56E2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B07A471-AECD-42BB-A70D-8889FBC8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4F577C0-ED2E-4C7D-9B04-100F8413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E3C6EFE-0D67-4890-A734-ED4D919F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3522608-BED3-4559-95C3-9ABC91C5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1A038C0-B806-4C64-A7B2-92CC6F4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62EA6B8-F874-4A7D-B928-B4509513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FCEABB8-A63E-42F7-A50C-796B6A78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20DD1C6-7B6D-4175-B20B-2A011E2E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D95C779-1A2A-4D8B-8D6F-381D5FB5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121F040-07E7-4C19-9042-E7409DE9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3445B-93E6-434A-B8E9-6E6DD4F7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450324E-564C-4CD3-BC00-726876D8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58AEFC-D980-4637-A44B-4EAD899B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3289F35-832E-4FEC-9D59-21F79933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354FA6B-EFBD-4540-BD01-98436AAD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1CA374D-1D49-401A-8955-10B032E3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09908BD-B254-479E-A9DE-75C8E7EF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D52155B-FA01-4C31-9EC1-3AD48151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E6FE896-83C9-4702-8188-46B64488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ED3E39A-F1DF-429E-A8A5-E70F8C29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8049232-B2F6-42E5-AF6F-E69A2351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9DE1C-E927-4206-BF89-70AA9E18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CEEB775-3F08-427D-BCE2-E524F34A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CD103C1-C23B-4B90-A629-2662095E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1FA6F88-566A-411F-9BF7-1BA86664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E6490A7-F536-4FAE-AC94-9A7E6372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C5E0C60-4B72-4F00-9883-8FE6BF77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320EA13-7C0E-49DB-AE43-189B9C70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C4D9B8F-B1C3-4238-AE7E-136A4A0E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CC26B47-DAAE-4B98-B7F1-E0F3F915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2A05691-D7B3-40A6-AB71-416C1C10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D7739BF-26AE-466E-842A-97AE5274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B01EC-5D70-495A-8BD4-89F3AF17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CD478CF-36E7-4A84-B073-C5F89DF7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174E32D-01E2-4EA2-9519-359A671F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1BAC31D-1C40-4984-9FEA-A34F772F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CD85133-1C3B-4C36-B3DA-19DD7AD6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9418C1C-CFAD-4B97-B3B7-472E1D61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4BEE9E9-2031-4829-AC12-09CC3F49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28E0F11-DD4C-4CB1-8C15-2273F01E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434A2B8-CAB2-4980-B751-E6BA223C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68A58D5-0F5F-4078-BCE3-33A7EF44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2579B78-91AC-4265-B17A-75A9148B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2A0EF-D4B9-460C-B1DB-27B6E3AA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5AC6F19-B130-4BFC-BC74-9838EB5E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F272D5A-4E8C-4439-8C69-99A07BD7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FD6E6B2-9BF9-4E22-A5D8-0AE0B4AB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DB8CE5C-06E9-4D20-84F9-7C3EFCC2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6DC503C-9869-4CC0-9E3B-70B326DC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F4C092B-CC09-41DE-BCB7-E5CB94E7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55F5392-6430-4AF2-9BAE-A160C3CB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3E43378-2760-4A1A-B4C5-1183A1BD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A77103F-D33F-4E6E-A45F-657419CA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907131A-C4BC-4C79-A473-F96AA44E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61289-5ADB-4368-83A4-3FD1098C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165552C-32BD-4BAA-B71A-4D3C6D56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765A0FA-B805-41D1-874C-072BF559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584F1EE-AF21-4A39-8DF7-C34F6311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624ADC5-5015-4D0B-A9A2-406AB3CC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38D0225-89FF-4D99-9121-60780506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B898FA2-1C53-410C-9486-898EEA7C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BFA1546-B0AC-4FEE-BB3A-2C165CB1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5214FAD-2268-4561-83D6-36243094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9E5A290-B116-48CD-957B-9A429642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F521734-2ED1-4157-A697-0FF508B7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B7A-A21A-439F-BF90-FD49BDF7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B9A69-32B5-4357-9174-55E43452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4B9E536-4C6F-40F1-A3B8-D2D38B91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91E3D96-76CB-4607-BD3C-8A4894AC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350BAF3-5B19-4692-A279-C6502CCA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67F60BF-2850-4087-BA20-3C23C5E9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76205B2-DFFC-4A30-BFF4-999A5A82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933C643-92EF-40B7-8C0B-244B9E5C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F79C3CC-AFAD-4816-9135-51AC3089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B53FAC9-944E-4CE1-BB5D-9B9B95F9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8D902BC-2CCB-4C9D-B136-FA347EA8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C91E025-960B-439A-869C-0A88199B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A0BA3-F38A-488F-8BCF-7F43D95A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1B0761C-FFAE-49AC-88DB-27D7FA49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B49F092-4FA3-4E09-862A-CEC5C9E2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0346887-6D62-48BF-A355-8BD4447B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B4AA276-763D-458C-8823-A8150424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623B141-C45C-4686-BCDD-803313A5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346DD07-D4A6-4D9E-904D-A0E005BB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E11E984-3204-4388-AC5C-01C5399B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B56A79F-94FE-41DD-A5D9-C831A042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9C669DE-55E8-48C0-AF41-D7596F95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ACDD8D3-3AB7-4C01-B8CB-58A310F5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71284-0A8E-4670-8945-6ED50A56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9D9BF34-1D82-4748-93AA-23106046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8E647-93A3-405F-9658-079F1802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A3D67-03E8-4C95-B1F8-41208120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0695D-08BD-4ABD-8D05-61D119BC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42216-1C38-4D45-8109-4071AE51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46221-4B5D-48C7-86B6-12AFC656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D4F35-9220-41C7-AC75-4EF020E2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E2E13-B571-4C7B-8DA6-7460FE04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EEC-0E25-49DB-A4E0-2886F7BA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87C25-CF94-4CBC-897F-090B4F1E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B3097-F541-4355-9E45-06145452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1F4BB-9BD2-49CB-8A4D-A5CFD07C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E1E2A-D639-4A1A-9BA7-29DF52C2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CA5D1-9C2D-4BA6-A809-A42817ED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0F4D1-D7DA-422B-8FE8-3FE9387F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15BC1-E529-4C9D-8EC4-AE5B0169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84CF4-5ACE-41D7-8A73-082DC70A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8FDE1-603B-4BC5-B462-C3280073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F9402-09F7-4A91-994E-5DDB58FB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370-583B-4216-8BCE-312BBF98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96922-006F-4632-B4C5-9B1D0090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04325-66E3-47E3-B5E4-17D55D53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CB078-4868-47C0-832A-5677B1CB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37D58-E44F-4D81-AB91-9A6FD5C3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6178E-E0BA-4EA8-814E-FC8950B0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5183A-C50B-494F-BC39-F614D69B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7CD1D-1C70-4563-BB88-D992B28E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83A10-AABD-4494-91BC-BCE8DA60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87C0B-B6BC-406A-BB8F-8EF4849F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D7929-A3A8-4169-B28B-8E91BD18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1498-3A0C-42E7-8473-6FE574D70117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213F-CEDE-4669-BC5E-D4FC7F42558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1C80-C9D3-4B19-B4F1-42597D036CC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F95B-0973-451B-A52A-C172FD10D10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0C81-5A35-4CA6-B727-59CA0A56CFA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B20C-2D4D-4F1D-BBB3-A2D19CA96AC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422B-C31C-45C7-9DC6-46AE66FBD83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96A6-8D99-4132-8368-27C267AD6391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C5DB-F83A-4423-8702-3C7D15459D77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1B57-210E-4C7F-AF91-3E849AF96BDC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941F-03D8-43AB-9A65-A95060A17B2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F7AD-1C87-4C22-BF91-912CD8736BA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5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6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6C09-8D49-4CD3-84BF-ECFA1311CA3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7ECE-9DF0-470C-80D3-78425AD29F9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6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6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CBE5-7B80-4552-8B98-C688376A6FD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1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1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3F34-E125-41C2-B356-528E0F02DFF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6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6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6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620A-9A7E-4237-A358-39997083E99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1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1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1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sldNum" idx="7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30A4-64F1-49AF-B513-7E191A248BB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6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6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6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7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4577-0D6D-416D-AFDE-F15C49DD643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1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1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1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1024-9081-457D-B887-DBEC4AB557B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6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7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7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8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8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DF47-3C12-4003-AF30-3DF6DADDF2C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1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2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2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8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8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4D34-4307-43D6-B60C-37CFF0BC91B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3F04-1BCE-483F-B8DA-29918B8D000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6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7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7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8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9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E0DC-CD9F-40D8-8DB3-2F2AD024135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2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2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9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9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8C1A-1D38-4CFA-B2CB-C612335DD25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7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7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 type="ftr" idx="9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 type="sldNum" idx="9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15D5-F592-4845-9DB7-967D2DB8824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2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2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 type="ftr" idx="9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 type="sldNum" idx="9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61A9-4943-4EE3-9971-6D04F48F963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7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7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8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ftr" idx="10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 type="sldNum" idx="10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E6D1-8092-4F7F-8DCE-3E05915DDA6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2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2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3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 type="ftr" idx="10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 type="sldNum" idx="10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9C03-308A-4FEA-B226-699F035ED08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7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8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 type="ftr" idx="10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 type="sldNum" idx="10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696F-DBDB-4114-80DF-ACD7FDC72F4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3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3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3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 type="ftr" idx="1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 type="sldNum" idx="1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3294-9827-4D7A-AFA9-91E26464550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8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8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8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ftr" idx="11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sldNum" idx="1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70D3-ED24-470E-841F-5A5E63360ED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3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3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 type="ftr" idx="11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 type="sldNum" idx="11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2564-F4AF-4CFE-9B5E-180A1192DED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31CB-B1C6-4562-8E6D-83945CB30EC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 type="ftr" idx="11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 type="sldNum" idx="12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B2B7-81C3-43AB-9748-8B2F3A2D358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 type="ftr" idx="12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 type="sldNum" idx="12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EA5F-9159-4C6A-A910-0443324D2E9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12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12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54FF-8D80-4882-9675-B54719A95DD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1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 type="ftr" idx="12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5"/>
          <p:cNvSpPr>
            <a:spLocks noGrp="1"/>
          </p:cNvSpPr>
          <p:nvPr>
            <p:ph type="sldNum" idx="12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D35B-28A8-475E-BF17-449B367296C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1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 type="ftr" idx="13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 type="sldNum" idx="13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CB96-9C21-4A67-8324-7E6FA5395A3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 type="ftr" idx="13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5"/>
          <p:cNvSpPr>
            <a:spLocks noGrp="1"/>
          </p:cNvSpPr>
          <p:nvPr>
            <p:ph type="sldNum" idx="13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3413-1CCB-49E5-AD5E-30817810089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3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3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580E-B1E1-4C72-8075-415D88DC3D9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 type="ftr" idx="14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 type="sldNum" idx="14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0FEE-7624-4361-881B-B866200F719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 type="ftr" idx="14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 type="sldNum" idx="14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2F14-7C46-4274-AC2F-331DAFDF263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 type="ftr" idx="14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 type="sldNum" idx="14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17D8-F14E-4C6A-BCA6-3E229E4BF71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04A3-4A4F-4587-8BAA-A8D967E4692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0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 type="ftr" idx="14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5"/>
          <p:cNvSpPr>
            <a:spLocks noGrp="1"/>
          </p:cNvSpPr>
          <p:nvPr>
            <p:ph type="sldNum" idx="15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2D27-9ADA-45E1-8EFD-E2E53DE3608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 type="ftr" idx="15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 type="sldNum" idx="15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29E6-485C-49F2-8B84-5BFC84EBB0A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0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0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5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 type="sldNum" idx="15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9207-BC62-4228-A407-678ECD65E47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5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5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 type="ftr" idx="15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 type="sldNum" idx="15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5846-67FD-4866-8C2E-626953F4968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0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70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0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 type="ftr" idx="16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 type="sldNum" idx="16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94C3-F61E-4006-8B1B-1AF7D9939D8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75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5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 type="ftr" idx="16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5"/>
          <p:cNvSpPr>
            <a:spLocks noGrp="1"/>
          </p:cNvSpPr>
          <p:nvPr>
            <p:ph type="sldNum" idx="16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476B-6C93-4868-9BEF-FB00681BB2D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0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0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0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 type="ftr" idx="16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5"/>
          <p:cNvSpPr>
            <a:spLocks noGrp="1"/>
          </p:cNvSpPr>
          <p:nvPr>
            <p:ph type="sldNum" idx="16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5C22-E4CA-46F2-B969-5BB08A9D5F0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5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5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 type="ftr" idx="17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 type="sldNum" idx="17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7DB0-EA23-4A3E-9901-EDC42C16A93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0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1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1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17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17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0D35-A1D7-4561-9FC0-A3B665DEA13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5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6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6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 type="ftr" idx="17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5"/>
          <p:cNvSpPr>
            <a:spLocks noGrp="1"/>
          </p:cNvSpPr>
          <p:nvPr>
            <p:ph type="sldNum" idx="17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8C41-F456-4A4D-AAC6-7FF9DC4D6F1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E6C5-FEDB-4EC6-A0C3-D97059B350E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0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1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1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 type="ftr" idx="17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5"/>
          <p:cNvSpPr>
            <a:spLocks noGrp="1"/>
          </p:cNvSpPr>
          <p:nvPr>
            <p:ph type="sldNum" idx="18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4E3D-EB39-4E59-9D19-5EE69E859E1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C9E0-F5A5-4F72-88F0-ACFC392CB9E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2546-1D45-49BF-8FDE-43FCC42872B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F6F0-91B2-4680-A2F2-60D649731FC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file:///&#1055;&#1044;&#1044;2.ppt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#Slide 10" TargetMode="External"/><Relationship Id="rId2" Type="http://schemas.openxmlformats.org/officeDocument/2006/relationships/hyperlink" Target="file:///&#1055;&#1044;&#1044;2.ppt#Slide 11" TargetMode="External"/><Relationship Id="rId3" Type="http://schemas.openxmlformats.org/officeDocument/2006/relationships/hyperlink" Target="file:///&#1055;&#1044;&#1044;2.ppt#Slide 12" TargetMode="External"/><Relationship Id="rId4" Type="http://schemas.openxmlformats.org/officeDocument/2006/relationships/hyperlink" Target="file:///&#1055;&#1044;&#1044;2.ppt#Slide 13" TargetMode="External"/><Relationship Id="rId5" Type="http://schemas.openxmlformats.org/officeDocument/2006/relationships/hyperlink" Target="file:///&#1055;&#1044;&#1044;2.ppt#Slide 14" TargetMode="External"/><Relationship Id="rId6" Type="http://schemas.openxmlformats.org/officeDocument/2006/relationships/hyperlink" Target="file:///&#1055;&#1044;&#1044;2.ppt#Slide 15" TargetMode="External"/><Relationship Id="rId7" Type="http://schemas.openxmlformats.org/officeDocument/2006/relationships/hyperlink" Target="file:///&#1055;&#1044;&#1044;2.ppt#Slide 16" TargetMode="External"/><Relationship Id="rId8" Type="http://schemas.openxmlformats.org/officeDocument/2006/relationships/hyperlink" Target="file:///&#1055;&#1044;&#1044;2.ppt#Slide 17" TargetMode="External"/><Relationship Id="rId9" Type="http://schemas.openxmlformats.org/officeDocument/2006/relationships/hyperlink" Target="file:///&#1055;&#1044;&#1044;2.ppt#Slide 18" TargetMode="External"/><Relationship Id="rId10" Type="http://schemas.openxmlformats.org/officeDocument/2006/relationships/hyperlink" Target="file:///&#1055;&#1044;&#1044;2.ppt#Slide 19" TargetMode="External"/><Relationship Id="rId11" Type="http://schemas.openxmlformats.org/officeDocument/2006/relationships/hyperlink" Target="file:///&#1055;&#1044;&#1044;2.ppt#Slide 20" TargetMode="External"/><Relationship Id="rId12" Type="http://schemas.openxmlformats.org/officeDocument/2006/relationships/hyperlink" Target="file:///&#1055;&#1044;&#1044;2.ppt#Slide 21" TargetMode="External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jpeg"/><Relationship Id="rId3" Type="http://schemas.openxmlformats.org/officeDocument/2006/relationships/image" Target="../media/image7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" Target="slide29.xml"/><Relationship Id="rId9" Type="http://schemas.openxmlformats.org/officeDocument/2006/relationships/slide" Target="slide30.xml"/><Relationship Id="rId10" Type="http://schemas.openxmlformats.org/officeDocument/2006/relationships/slide" Target="slide31.xml"/><Relationship Id="rId11" Type="http://schemas.openxmlformats.org/officeDocument/2006/relationships/slide" Target="slide32.xml"/><Relationship Id="rId12" Type="http://schemas.openxmlformats.org/officeDocument/2006/relationships/slide" Target="slide33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&#1055;&#1044;&#1044;2.ppt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&#1055;&#1044;&#1044;2.ppt" TargetMode="External"/><Relationship Id="rId6" Type="http://schemas.openxmlformats.org/officeDocument/2006/relationships/image" Target="../media/image13.png"/><Relationship Id="rId7" Type="http://schemas.openxmlformats.org/officeDocument/2006/relationships/hyperlink" Target="file:///&#1055;&#1044;&#1044;2.ppt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&#1055;&#1044;&#1044;2.ppt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file:///&#1055;&#1044;&#1044;2.ppt" TargetMode="Externa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TextBox 7"/>
          <p:cNvSpPr/>
          <p:nvPr/>
        </p:nvSpPr>
        <p:spPr>
          <a:xfrm>
            <a:off x="324000" y="85716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Правила дорожного движ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2" name="Группа 10"/>
          <p:cNvGrpSpPr/>
          <p:nvPr/>
        </p:nvGrpSpPr>
        <p:grpSpPr>
          <a:xfrm>
            <a:off x="214200" y="2500200"/>
            <a:ext cx="2714760" cy="4140360"/>
            <a:chOff x="214200" y="2500200"/>
            <a:chExt cx="2714760" cy="4140360"/>
          </a:xfrm>
        </p:grpSpPr>
        <p:pic>
          <p:nvPicPr>
            <p:cNvPr id="3063" name="Рисунок 4" descr="1730.gif"/>
            <p:cNvPicPr/>
            <p:nvPr/>
          </p:nvPicPr>
          <p:blipFill>
            <a:blip r:embed="rId1"/>
            <a:stretch/>
          </p:blipFill>
          <p:spPr>
            <a:xfrm>
              <a:off x="214200" y="5215320"/>
              <a:ext cx="928800" cy="13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4" name="Рисунок 5" descr="post-26681-0-37452900-1369904148.jpg"/>
            <p:cNvPicPr/>
            <p:nvPr/>
          </p:nvPicPr>
          <p:blipFill>
            <a:blip r:embed="rId2"/>
            <a:stretch/>
          </p:blipFill>
          <p:spPr>
            <a:xfrm>
              <a:off x="214200" y="3929040"/>
              <a:ext cx="965880" cy="14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5" name="Рисунок 6" descr="hotel.jpg"/>
            <p:cNvPicPr/>
            <p:nvPr/>
          </p:nvPicPr>
          <p:blipFill>
            <a:blip r:embed="rId3"/>
            <a:srcRect l="16251" t="0" r="16251" b="0"/>
            <a:stretch/>
          </p:blipFill>
          <p:spPr>
            <a:xfrm>
              <a:off x="214200" y="2500200"/>
              <a:ext cx="9644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6" name="Рисунок 7" descr="54179480-fuyuitcu1fygcggb.gif"/>
            <p:cNvPicPr/>
            <p:nvPr/>
          </p:nvPicPr>
          <p:blipFill>
            <a:blip r:embed="rId4"/>
            <a:stretch/>
          </p:blipFill>
          <p:spPr>
            <a:xfrm>
              <a:off x="1143000" y="5331240"/>
              <a:ext cx="85716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7" name="Рисунок 8" descr="post-26681-0-37452900-1369904148.jpg"/>
            <p:cNvPicPr/>
            <p:nvPr/>
          </p:nvPicPr>
          <p:blipFill>
            <a:blip r:embed="rId5"/>
            <a:stretch/>
          </p:blipFill>
          <p:spPr>
            <a:xfrm>
              <a:off x="2000160" y="5286600"/>
              <a:ext cx="928800" cy="135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8" name="Рисунок 9" descr="16a.jpg"/>
          <p:cNvPicPr/>
          <p:nvPr/>
        </p:nvPicPr>
        <p:blipFill>
          <a:blip r:embed="rId6"/>
          <a:stretch/>
        </p:blipFill>
        <p:spPr>
          <a:xfrm>
            <a:off x="6931080" y="2498760"/>
            <a:ext cx="1622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Прямоугольник 2"/>
          <p:cNvSpPr/>
          <p:nvPr/>
        </p:nvSpPr>
        <p:spPr>
          <a:xfrm>
            <a:off x="1285920" y="642960"/>
            <a:ext cx="73882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транспортные средства по Правилам относятся к маршрутным транспортным средства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5" name="Рисунок 3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Прямоугольник 2"/>
          <p:cNvSpPr/>
          <p:nvPr/>
        </p:nvSpPr>
        <p:spPr>
          <a:xfrm>
            <a:off x="714240" y="117360"/>
            <a:ext cx="7632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Сколько перекрестков изображено на рисун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7" name="Рисунок 4" descr="22-1.jpg"/>
          <p:cNvPicPr/>
          <p:nvPr/>
        </p:nvPicPr>
        <p:blipFill>
          <a:blip r:embed="rId1"/>
          <a:stretch/>
        </p:blipFill>
        <p:spPr>
          <a:xfrm>
            <a:off x="928800" y="1000080"/>
            <a:ext cx="7619760" cy="2857680"/>
          </a:xfrm>
          <a:prstGeom prst="rect">
            <a:avLst/>
          </a:prstGeom>
          <a:ln w="0">
            <a:noFill/>
          </a:ln>
        </p:spPr>
      </p:pic>
      <p:pic>
        <p:nvPicPr>
          <p:cNvPr id="3098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228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Прямоугольник 2"/>
          <p:cNvSpPr/>
          <p:nvPr/>
        </p:nvSpPr>
        <p:spPr>
          <a:xfrm>
            <a:off x="785880" y="500040"/>
            <a:ext cx="7745400" cy="12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На каком рисунке изображена дорога с разделительной полос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0" name="Рисунок 3" descr="25-1.jpg"/>
          <p:cNvPicPr/>
          <p:nvPr/>
        </p:nvPicPr>
        <p:blipFill>
          <a:blip r:embed="rId1"/>
          <a:stretch/>
        </p:blipFill>
        <p:spPr>
          <a:xfrm>
            <a:off x="928800" y="1357200"/>
            <a:ext cx="7619760" cy="2857680"/>
          </a:xfrm>
          <a:prstGeom prst="rect">
            <a:avLst/>
          </a:prstGeom>
          <a:ln w="0">
            <a:noFill/>
          </a:ln>
        </p:spPr>
      </p:pic>
      <p:pic>
        <p:nvPicPr>
          <p:cNvPr id="3101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1520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Прямоугольник 2"/>
          <p:cNvSpPr/>
          <p:nvPr/>
        </p:nvSpPr>
        <p:spPr>
          <a:xfrm>
            <a:off x="611280" y="692280"/>
            <a:ext cx="828180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Какой маневр совершает легковой автомобил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3" name="Рисунок 3" descr="33-1.jpg"/>
          <p:cNvPicPr/>
          <p:nvPr/>
        </p:nvPicPr>
        <p:blipFill>
          <a:blip r:embed="rId1"/>
          <a:stretch/>
        </p:blipFill>
        <p:spPr>
          <a:xfrm>
            <a:off x="714240" y="1857240"/>
            <a:ext cx="7620120" cy="2857680"/>
          </a:xfrm>
          <a:prstGeom prst="rect">
            <a:avLst/>
          </a:prstGeom>
          <a:ln w="0">
            <a:noFill/>
          </a:ln>
        </p:spPr>
      </p:pic>
      <p:pic>
        <p:nvPicPr>
          <p:cNvPr id="3104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43920" y="57150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Прямоугольник 2"/>
          <p:cNvSpPr/>
          <p:nvPr/>
        </p:nvSpPr>
        <p:spPr>
          <a:xfrm>
            <a:off x="826920" y="692280"/>
            <a:ext cx="80312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По каким частям дороги должны перемещаться пешехо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6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Прямоугольник 2"/>
          <p:cNvSpPr/>
          <p:nvPr/>
        </p:nvSpPr>
        <p:spPr>
          <a:xfrm>
            <a:off x="357120" y="692280"/>
            <a:ext cx="87868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2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Как следует поступить если пешеход не  успел закончить переход дорог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8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Прямоугольник 2"/>
          <p:cNvSpPr/>
          <p:nvPr/>
        </p:nvSpPr>
        <p:spPr>
          <a:xfrm>
            <a:off x="826920" y="692280"/>
            <a:ext cx="8031240" cy="87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Как необходимо двигаться пешеходу при движении по краю проезжей част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0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Прямоугольник 2"/>
          <p:cNvSpPr/>
          <p:nvPr/>
        </p:nvSpPr>
        <p:spPr>
          <a:xfrm>
            <a:off x="714240" y="214200"/>
            <a:ext cx="817272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Как нужно переходить дорогу если в зоне видимости нет пешеходного переход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2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Прямоугольник 2"/>
          <p:cNvSpPr/>
          <p:nvPr/>
        </p:nvSpPr>
        <p:spPr>
          <a:xfrm>
            <a:off x="826920" y="692280"/>
            <a:ext cx="7632720" cy="87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Кто должен быть пристегнут ремнями безопасности  при поездк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4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Прямоугольник 2"/>
          <p:cNvSpPr/>
          <p:nvPr/>
        </p:nvSpPr>
        <p:spPr>
          <a:xfrm>
            <a:off x="324000" y="692280"/>
            <a:ext cx="85690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детям до 12-ти лет ездить на переднем сиденье автомобиля рядом с водителе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6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ПЕРВЫЙ</a:t>
            </a:r>
            <a:r>
              <a:rPr b="1" lang="en-US" sz="80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Прямоугольник 2"/>
          <p:cNvSpPr/>
          <p:nvPr/>
        </p:nvSpPr>
        <p:spPr>
          <a:xfrm>
            <a:off x="468360" y="692280"/>
            <a:ext cx="8675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перевозить детей в возрасте до 12 лет на заднем сиденье мотоцикла если на них есть мотошл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8" name="Рисунок 3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Прямоугольник 2"/>
          <p:cNvSpPr/>
          <p:nvPr/>
        </p:nvSpPr>
        <p:spPr>
          <a:xfrm>
            <a:off x="826920" y="692280"/>
            <a:ext cx="7632720" cy="87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-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Когда можно производить посадку и высадку в/из транспортного средст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0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Прямоугольник 2"/>
          <p:cNvSpPr/>
          <p:nvPr/>
        </p:nvSpPr>
        <p:spPr>
          <a:xfrm>
            <a:off x="826920" y="692280"/>
            <a:ext cx="79599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ДВИЖЕНИЕ ВЕЛОСИПЕД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ПОВОЗОК, МОПЕДОВ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Прямоугольник 3"/>
          <p:cNvSpPr/>
          <p:nvPr/>
        </p:nvSpPr>
        <p:spPr>
          <a:xfrm>
            <a:off x="358920" y="307188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С какого возраста можно управлять велосипед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3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00960" y="4857840"/>
            <a:ext cx="98100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Прямоугольник 2"/>
          <p:cNvSpPr/>
          <p:nvPr/>
        </p:nvSpPr>
        <p:spPr>
          <a:xfrm>
            <a:off x="826920" y="692280"/>
            <a:ext cx="7632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ДВИЖЕНИЕ ВЕЛОСИПЕД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ВОЗОК, МОПЕДОВ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</a:rPr>
              <a:t>-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Прямоугольник 3"/>
          <p:cNvSpPr/>
          <p:nvPr/>
        </p:nvSpPr>
        <p:spPr>
          <a:xfrm>
            <a:off x="358920" y="2643120"/>
            <a:ext cx="87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управлять велосипедом или мопедом одной рук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6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Прямоугольник 2"/>
          <p:cNvSpPr/>
          <p:nvPr/>
        </p:nvSpPr>
        <p:spPr>
          <a:xfrm>
            <a:off x="857160" y="301680"/>
            <a:ext cx="76327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ДВИЖЕНИЕ ВЕЛОСИПЕДОВ, ПОВОЗОК, МОПЕДОВ-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Обязан ли водитель автомобиля уступить дорогу велосипедисту, который движется по велосипедной дорожке, пересекающей проезжую ча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8" name="Рисунок 5" descr="velodoroga.jpg"/>
          <p:cNvPicPr/>
          <p:nvPr/>
        </p:nvPicPr>
        <p:blipFill>
          <a:blip r:embed="rId1"/>
          <a:stretch/>
        </p:blipFill>
        <p:spPr>
          <a:xfrm>
            <a:off x="2286000" y="1714680"/>
            <a:ext cx="4768920" cy="1785600"/>
          </a:xfrm>
          <a:prstGeom prst="rect">
            <a:avLst/>
          </a:prstGeom>
          <a:ln w="0">
            <a:noFill/>
          </a:ln>
        </p:spPr>
      </p:pic>
      <p:pic>
        <p:nvPicPr>
          <p:cNvPr id="3129" name="Рисунок 6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8684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Прямоугольник 2"/>
          <p:cNvSpPr/>
          <p:nvPr/>
        </p:nvSpPr>
        <p:spPr>
          <a:xfrm>
            <a:off x="1116000" y="69228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ДВИЖЕНИЕ ВЕЛОСИПЕДОВ, ПОВОЗОК, МОПЕДОВ-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Прямоугольник 3"/>
          <p:cNvSpPr/>
          <p:nvPr/>
        </p:nvSpPr>
        <p:spPr>
          <a:xfrm>
            <a:off x="214200" y="2071800"/>
            <a:ext cx="875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велосипедисту поворачивать налево или разворачиваться на дорогах с трамвайными путя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2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Прямоугольник 2"/>
          <p:cNvSpPr/>
          <p:nvPr/>
        </p:nvSpPr>
        <p:spPr>
          <a:xfrm>
            <a:off x="826920" y="692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2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обозначает этот 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4" name="Рисунок 6" descr="i.jpg"/>
          <p:cNvPicPr/>
          <p:nvPr/>
        </p:nvPicPr>
        <p:blipFill>
          <a:blip r:embed="rId1"/>
          <a:stretch/>
        </p:blipFill>
        <p:spPr>
          <a:xfrm>
            <a:off x="1071720" y="135720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3135" name="Рисунок 7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Прямоугольник 2"/>
          <p:cNvSpPr/>
          <p:nvPr/>
        </p:nvSpPr>
        <p:spPr>
          <a:xfrm>
            <a:off x="785880" y="214200"/>
            <a:ext cx="8358120" cy="71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</a:rPr>
              <a:t>Знаки-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Какой из знаков распространяет свое действие только на ту полосу, над которой он установле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7" name="Рисунок 4" descr="pdd_04_03.jpg"/>
          <p:cNvPicPr/>
          <p:nvPr/>
        </p:nvPicPr>
        <p:blipFill>
          <a:blip r:embed="rId1"/>
          <a:stretch/>
        </p:blipFill>
        <p:spPr>
          <a:xfrm>
            <a:off x="1428840" y="1357200"/>
            <a:ext cx="6545160" cy="2500560"/>
          </a:xfrm>
          <a:prstGeom prst="rect">
            <a:avLst/>
          </a:prstGeom>
          <a:ln w="0">
            <a:noFill/>
          </a:ln>
        </p:spPr>
      </p:pic>
      <p:pic>
        <p:nvPicPr>
          <p:cNvPr id="3138" name="Рисунок 6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86840" y="42148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Прямоугольник 2"/>
          <p:cNvSpPr/>
          <p:nvPr/>
        </p:nvSpPr>
        <p:spPr>
          <a:xfrm>
            <a:off x="324000" y="692280"/>
            <a:ext cx="8640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6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запрещено в зоне действия этого знак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0" name="Рисунок 3" descr="pdd_02_04.jpg"/>
          <p:cNvPicPr/>
          <p:nvPr/>
        </p:nvPicPr>
        <p:blipFill>
          <a:blip r:embed="rId1"/>
          <a:srcRect l="39504" t="6806" r="38000" b="10744"/>
          <a:stretch/>
        </p:blipFill>
        <p:spPr>
          <a:xfrm>
            <a:off x="1000080" y="857160"/>
            <a:ext cx="2500200" cy="3500640"/>
          </a:xfrm>
          <a:prstGeom prst="rect">
            <a:avLst/>
          </a:prstGeom>
          <a:ln w="0">
            <a:noFill/>
          </a:ln>
        </p:spPr>
      </p:pic>
      <p:pic>
        <p:nvPicPr>
          <p:cNvPr id="3141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15200" y="36432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Прямоугольник 2"/>
          <p:cNvSpPr/>
          <p:nvPr/>
        </p:nvSpPr>
        <p:spPr>
          <a:xfrm>
            <a:off x="826920" y="692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8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обозначают эти  знак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3" name="Рисунок 4" descr="B1.jpg"/>
          <p:cNvPicPr/>
          <p:nvPr/>
        </p:nvPicPr>
        <p:blipFill>
          <a:blip r:embed="rId1"/>
          <a:stretch/>
        </p:blipFill>
        <p:spPr>
          <a:xfrm>
            <a:off x="1357200" y="1928880"/>
            <a:ext cx="2344680" cy="2052720"/>
          </a:xfrm>
          <a:prstGeom prst="rect">
            <a:avLst/>
          </a:prstGeom>
          <a:ln w="0">
            <a:noFill/>
          </a:ln>
        </p:spPr>
      </p:pic>
      <p:pic>
        <p:nvPicPr>
          <p:cNvPr id="3144" name="Рисунок 6" descr="151923_w640_h640_23.gif"/>
          <p:cNvPicPr/>
          <p:nvPr/>
        </p:nvPicPr>
        <p:blipFill>
          <a:blip r:embed="rId2"/>
          <a:stretch/>
        </p:blipFill>
        <p:spPr>
          <a:xfrm>
            <a:off x="5572080" y="192888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3145" name="Рисунок 7" descr="16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92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1" name=""/>
          <p:cNvGraphicFramePr/>
          <p:nvPr/>
        </p:nvGraphicFramePr>
        <p:xfrm>
          <a:off x="214200" y="189000"/>
          <a:ext cx="8750520" cy="6492960"/>
        </p:xfrm>
        <a:graphic>
          <a:graphicData uri="http://schemas.openxmlformats.org/drawingml/2006/table">
            <a:tbl>
              <a:tblPr/>
              <a:tblGrid>
                <a:gridCol w="2187720"/>
                <a:gridCol w="2187720"/>
                <a:gridCol w="2187360"/>
                <a:gridCol w="2187720"/>
              </a:tblGrid>
              <a:tr h="914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ЩИЕ ПОЛОЖЕНИ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3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4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7621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ЯЗАННОСТИ ПЕШЕХОД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5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6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7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8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70128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ЯЗАННОСТИ ПАССАЖИР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9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0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1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2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Прямоугольник 2"/>
          <p:cNvSpPr/>
          <p:nvPr/>
        </p:nvSpPr>
        <p:spPr>
          <a:xfrm>
            <a:off x="324000" y="692280"/>
            <a:ext cx="86407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Если на перекрестке работает и светофор и регулировщик, чьи требования должны выполнять участники дорожного движ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7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Прямоугольник 2"/>
          <p:cNvSpPr/>
          <p:nvPr/>
        </p:nvSpPr>
        <p:spPr>
          <a:xfrm>
            <a:off x="179280" y="54936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Прямоугольник 3"/>
          <p:cNvSpPr/>
          <p:nvPr/>
        </p:nvSpPr>
        <p:spPr>
          <a:xfrm>
            <a:off x="250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При движении по нерегулируемому перекрестку кто должен уступить дорогу- водитель автомобиля или водитель трамва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0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3920" y="5643720"/>
            <a:ext cx="642960" cy="96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Прямоугольник 2"/>
          <p:cNvSpPr/>
          <p:nvPr/>
        </p:nvSpPr>
        <p:spPr>
          <a:xfrm>
            <a:off x="571680" y="692280"/>
            <a:ext cx="8393040" cy="71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2" name="Рисунок 5" descr="24-15.jpg"/>
          <p:cNvPicPr/>
          <p:nvPr/>
        </p:nvPicPr>
        <p:blipFill>
          <a:blip r:embed="rId1"/>
          <a:stretch/>
        </p:blipFill>
        <p:spPr>
          <a:xfrm>
            <a:off x="1071720" y="1571760"/>
            <a:ext cx="6858000" cy="2571480"/>
          </a:xfrm>
          <a:prstGeom prst="rect">
            <a:avLst/>
          </a:prstGeom>
          <a:ln w="0">
            <a:noFill/>
          </a:ln>
        </p:spPr>
      </p:pic>
      <p:sp>
        <p:nvSpPr>
          <p:cNvPr id="3153" name="Прямоугольник 6"/>
          <p:cNvSpPr/>
          <p:nvPr/>
        </p:nvSpPr>
        <p:spPr>
          <a:xfrm>
            <a:off x="1071720" y="4303800"/>
            <a:ext cx="72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В каком случае водитель автомобиля должен уступить дорогу пешеход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4" name="Рисунок 7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2280" y="5643720"/>
            <a:ext cx="642960" cy="96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Прямоугольник 2"/>
          <p:cNvSpPr/>
          <p:nvPr/>
        </p:nvSpPr>
        <p:spPr>
          <a:xfrm>
            <a:off x="571680" y="476280"/>
            <a:ext cx="839304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Водитель автомобиля собирается повернуть налево. Кому он должен уступить доро</a:t>
            </a: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гу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6" name="Рисунок 5" descr="22-13.jpg"/>
          <p:cNvPicPr/>
          <p:nvPr/>
        </p:nvPicPr>
        <p:blipFill>
          <a:blip r:embed="rId1"/>
          <a:stretch/>
        </p:blipFill>
        <p:spPr>
          <a:xfrm>
            <a:off x="285840" y="1500120"/>
            <a:ext cx="8572320" cy="3214800"/>
          </a:xfrm>
          <a:prstGeom prst="rect">
            <a:avLst/>
          </a:prstGeom>
          <a:ln w="0">
            <a:noFill/>
          </a:ln>
        </p:spPr>
      </p:pic>
      <p:pic>
        <p:nvPicPr>
          <p:cNvPr id="3157" name="Рисунок 6" descr="16a.jpg"/>
          <p:cNvPicPr/>
          <p:nvPr/>
        </p:nvPicPr>
        <p:blipFill>
          <a:blip r:embed="rId2"/>
          <a:stretch/>
        </p:blipFill>
        <p:spPr>
          <a:xfrm>
            <a:off x="8501040" y="58896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8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59" name="Рисунок 2" descr="0dca325a3df8183b04658f64cfeb3c74.jpg"/>
          <p:cNvPicPr/>
          <p:nvPr/>
        </p:nvPicPr>
        <p:blipFill>
          <a:blip r:embed="rId2"/>
          <a:stretch/>
        </p:blipFill>
        <p:spPr>
          <a:xfrm>
            <a:off x="1500120" y="785880"/>
            <a:ext cx="2409840" cy="5691240"/>
          </a:xfrm>
          <a:prstGeom prst="rect">
            <a:avLst/>
          </a:prstGeom>
          <a:ln w="0">
            <a:noFill/>
          </a:ln>
        </p:spPr>
      </p:pic>
      <p:sp>
        <p:nvSpPr>
          <p:cNvPr id="3160" name="TextBox 3"/>
          <p:cNvSpPr/>
          <p:nvPr/>
        </p:nvSpPr>
        <p:spPr>
          <a:xfrm>
            <a:off x="4143240" y="1285920"/>
            <a:ext cx="5000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какую сторону разрешает движение такой жест регулировщ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1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62" name="Рисунок 2" descr="post-26681-0-37452900-1369904148.jpg"/>
          <p:cNvPicPr/>
          <p:nvPr/>
        </p:nvPicPr>
        <p:blipFill>
          <a:blip r:embed="rId2"/>
          <a:stretch/>
        </p:blipFill>
        <p:spPr>
          <a:xfrm>
            <a:off x="428760" y="1214280"/>
            <a:ext cx="2939760" cy="4286520"/>
          </a:xfrm>
          <a:prstGeom prst="rect">
            <a:avLst/>
          </a:prstGeom>
          <a:ln w="0">
            <a:noFill/>
          </a:ln>
        </p:spPr>
      </p:pic>
      <p:sp>
        <p:nvSpPr>
          <p:cNvPr id="3163" name="TextBox 3"/>
          <p:cNvSpPr/>
          <p:nvPr/>
        </p:nvSpPr>
        <p:spPr>
          <a:xfrm>
            <a:off x="3786120" y="164304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Что обозначает этот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4" name="Рисунок 1" descr="cat.gif"/>
          <p:cNvPicPr/>
          <p:nvPr/>
        </p:nvPicPr>
        <p:blipFill>
          <a:blip r:embed="rId1"/>
          <a:stretch/>
        </p:blipFill>
        <p:spPr>
          <a:xfrm>
            <a:off x="6929280" y="5000760"/>
            <a:ext cx="1881360" cy="1542960"/>
          </a:xfrm>
          <a:prstGeom prst="rect">
            <a:avLst/>
          </a:prstGeom>
          <a:ln w="0">
            <a:noFill/>
          </a:ln>
        </p:spPr>
      </p:pic>
      <p:pic>
        <p:nvPicPr>
          <p:cNvPr id="3165" name="Рисунок 3" descr="910391-2313fb9273fe50dc.jpg"/>
          <p:cNvPicPr/>
          <p:nvPr/>
        </p:nvPicPr>
        <p:blipFill>
          <a:blip r:embed="rId2"/>
          <a:stretch/>
        </p:blipFill>
        <p:spPr>
          <a:xfrm>
            <a:off x="785880" y="928800"/>
            <a:ext cx="7119720" cy="2714400"/>
          </a:xfrm>
          <a:prstGeom prst="rect">
            <a:avLst/>
          </a:prstGeom>
          <a:ln w="0">
            <a:noFill/>
          </a:ln>
        </p:spPr>
      </p:pic>
      <p:sp>
        <p:nvSpPr>
          <p:cNvPr id="3166" name="TextBox 4"/>
          <p:cNvSpPr/>
          <p:nvPr/>
        </p:nvSpPr>
        <p:spPr>
          <a:xfrm>
            <a:off x="785880" y="4071960"/>
            <a:ext cx="6357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какую сторону автомобиль может продолжить движ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7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68" name="Рисунок 2" descr="uploads_2010_02_12_02_17_03_1.jpg"/>
          <p:cNvPicPr/>
          <p:nvPr/>
        </p:nvPicPr>
        <p:blipFill>
          <a:blip r:embed="rId2"/>
          <a:stretch/>
        </p:blipFill>
        <p:spPr>
          <a:xfrm>
            <a:off x="2286000" y="714240"/>
            <a:ext cx="4675320" cy="3286440"/>
          </a:xfrm>
          <a:prstGeom prst="rect">
            <a:avLst/>
          </a:prstGeom>
          <a:ln w="0">
            <a:noFill/>
          </a:ln>
        </p:spPr>
      </p:pic>
      <p:sp>
        <p:nvSpPr>
          <p:cNvPr id="3169" name="TextBox 3"/>
          <p:cNvSpPr/>
          <p:nvPr/>
        </p:nvSpPr>
        <p:spPr>
          <a:xfrm>
            <a:off x="357120" y="4500720"/>
            <a:ext cx="614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Для кого предназначен этот светофо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0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sp>
        <p:nvSpPr>
          <p:cNvPr id="3171" name="TextBox 3"/>
          <p:cNvSpPr/>
          <p:nvPr/>
        </p:nvSpPr>
        <p:spPr>
          <a:xfrm>
            <a:off x="3786120" y="164304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Что обозначает этот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2" name="Рисунок 4" descr="3_010.jpg"/>
          <p:cNvPicPr/>
          <p:nvPr/>
        </p:nvPicPr>
        <p:blipFill>
          <a:blip r:embed="rId2"/>
          <a:stretch/>
        </p:blipFill>
        <p:spPr>
          <a:xfrm>
            <a:off x="428760" y="1571760"/>
            <a:ext cx="3071520" cy="30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3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sp>
        <p:nvSpPr>
          <p:cNvPr id="3174" name="TextBox 3"/>
          <p:cNvSpPr/>
          <p:nvPr/>
        </p:nvSpPr>
        <p:spPr>
          <a:xfrm>
            <a:off x="3714840" y="35712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Какой знак обозначает кемпин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5" name="Рисунок 7" descr="1002.jpg"/>
          <p:cNvPicPr/>
          <p:nvPr/>
        </p:nvPicPr>
        <p:blipFill>
          <a:blip r:embed="rId2"/>
          <a:srcRect l="16142" t="0" r="16142" b="0"/>
          <a:stretch/>
        </p:blipFill>
        <p:spPr>
          <a:xfrm>
            <a:off x="3429000" y="3429000"/>
            <a:ext cx="2000160" cy="2954160"/>
          </a:xfrm>
          <a:prstGeom prst="rect">
            <a:avLst/>
          </a:prstGeom>
          <a:ln w="0">
            <a:noFill/>
          </a:ln>
        </p:spPr>
      </p:pic>
      <p:pic>
        <p:nvPicPr>
          <p:cNvPr id="3176" name="Рисунок 8" descr="1730.gif"/>
          <p:cNvPicPr/>
          <p:nvPr/>
        </p:nvPicPr>
        <p:blipFill>
          <a:blip r:embed="rId3"/>
          <a:stretch/>
        </p:blipFill>
        <p:spPr>
          <a:xfrm>
            <a:off x="571680" y="3429000"/>
            <a:ext cx="2071440" cy="2927520"/>
          </a:xfrm>
          <a:prstGeom prst="rect">
            <a:avLst/>
          </a:prstGeom>
          <a:ln w="0">
            <a:noFill/>
          </a:ln>
        </p:spPr>
      </p:pic>
      <p:pic>
        <p:nvPicPr>
          <p:cNvPr id="3177" name="Рисунок 9" descr="7_9.png"/>
          <p:cNvPicPr/>
          <p:nvPr/>
        </p:nvPicPr>
        <p:blipFill>
          <a:blip r:embed="rId4"/>
          <a:stretch/>
        </p:blipFill>
        <p:spPr>
          <a:xfrm>
            <a:off x="571680" y="285840"/>
            <a:ext cx="2143080" cy="2900160"/>
          </a:xfrm>
          <a:prstGeom prst="rect">
            <a:avLst/>
          </a:prstGeom>
          <a:ln w="0">
            <a:noFill/>
          </a:ln>
        </p:spPr>
      </p:pic>
      <p:pic>
        <p:nvPicPr>
          <p:cNvPr id="3178" name="Прямоугольник 10" descr=""/>
          <p:cNvPicPr/>
          <p:nvPr/>
        </p:nvPicPr>
        <p:blipFill>
          <a:blip r:embed="rId5"/>
          <a:stretch/>
        </p:blipFill>
        <p:spPr>
          <a:xfrm>
            <a:off x="1584360" y="2163600"/>
            <a:ext cx="1287360" cy="1524240"/>
          </a:xfrm>
          <a:prstGeom prst="rect">
            <a:avLst/>
          </a:prstGeom>
          <a:ln w="0">
            <a:noFill/>
          </a:ln>
        </p:spPr>
      </p:pic>
      <p:pic>
        <p:nvPicPr>
          <p:cNvPr id="3179" name="Прямоугольник 12" descr=""/>
          <p:cNvPicPr/>
          <p:nvPr/>
        </p:nvPicPr>
        <p:blipFill>
          <a:blip r:embed="rId6"/>
          <a:stretch/>
        </p:blipFill>
        <p:spPr>
          <a:xfrm>
            <a:off x="1657440" y="5237280"/>
            <a:ext cx="1287360" cy="1517400"/>
          </a:xfrm>
          <a:prstGeom prst="rect">
            <a:avLst/>
          </a:prstGeom>
          <a:ln w="0">
            <a:noFill/>
          </a:ln>
        </p:spPr>
      </p:pic>
      <p:pic>
        <p:nvPicPr>
          <p:cNvPr id="3180" name="Прямоугольник 13" descr=""/>
          <p:cNvPicPr/>
          <p:nvPr/>
        </p:nvPicPr>
        <p:blipFill>
          <a:blip r:embed="rId7"/>
          <a:stretch/>
        </p:blipFill>
        <p:spPr>
          <a:xfrm>
            <a:off x="4443480" y="5237280"/>
            <a:ext cx="1287360" cy="15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TextBox 7"/>
          <p:cNvSpPr/>
          <p:nvPr/>
        </p:nvSpPr>
        <p:spPr>
          <a:xfrm>
            <a:off x="324000" y="270828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TextBox 1"/>
          <p:cNvSpPr/>
          <p:nvPr/>
        </p:nvSpPr>
        <p:spPr>
          <a:xfrm>
            <a:off x="357120" y="0"/>
            <a:ext cx="8143920" cy="87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писок использованных источни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ttp://pddmaster.ru/documents/pd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- правила дорожн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светофора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images.yandex.ru/yandsearch?text=%D1%81%D0%B2%D0%B5%D1%82%D0%BE%D1%84%D0%BE%D1%80&amp;fp=0&amp;img_url=http%3A%2F%2Fcs403527.userapi.com%2Fg40611363%2Fe_b4e8b2a8.jpg&amp;pos=3&amp;uinfo=ww-998-wh-591-fw-773-fh-448-pd-1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кота в мешке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images.yandex.ru/yandsearch?text=%D0%BA%D0%BE%D1%82%20%D0%B2%20%D0%BC%D0%B5%D1%88%D0%BA%D0%B5&amp;fp=0&amp;img_url=http%3A%2F%2F4.bp.blogspot.com%2F_SJm3-n4SO0o%2FTKG5KDurxzI%2FAAAAAAAAE8s%2Fp5xUyO8kb7Y%2Fs1600%2F1.JPG&amp;pos=0&amp;uinfo=ww-998-wh-591-fw-773-fh-448-pd-1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знаков дорожного движения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kuruh.ru/dorzn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дорожных ситуаций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avto-russia.ru/pd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ВТОРОЙ</a:t>
            </a:r>
            <a:r>
              <a:rPr b="1" lang="en-US" sz="80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6" name=""/>
          <p:cNvGraphicFramePr/>
          <p:nvPr/>
        </p:nvGraphicFramePr>
        <p:xfrm>
          <a:off x="250920" y="189000"/>
          <a:ext cx="8569080" cy="6721560"/>
        </p:xfrm>
        <a:graphic>
          <a:graphicData uri="http://schemas.openxmlformats.org/drawingml/2006/table">
            <a:tbl>
              <a:tblPr/>
              <a:tblGrid>
                <a:gridCol w="2141280"/>
                <a:gridCol w="2143440"/>
                <a:gridCol w="2141280"/>
                <a:gridCol w="2143080"/>
              </a:tblGrid>
              <a:tr h="1310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ВИЖЕНИЕ ВЕЛОСИПЕДОВ, ПОВОЗОК, МОПЕД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914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НАКИ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8229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ЕЗД ПЕРЕКРЕСТК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0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1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2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ТРЕТИЙ 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TextBox 3"/>
          <p:cNvSpPr/>
          <p:nvPr/>
        </p:nvSpPr>
        <p:spPr>
          <a:xfrm>
            <a:off x="1357200" y="642960"/>
            <a:ext cx="67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КОТ В МЕШ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0" name="Рисунок 4" descr="ca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143080"/>
            <a:ext cx="1738080" cy="1425600"/>
          </a:xfrm>
          <a:prstGeom prst="rect">
            <a:avLst/>
          </a:prstGeom>
          <a:ln w="0">
            <a:noFill/>
          </a:ln>
        </p:spPr>
      </p:pic>
      <p:pic>
        <p:nvPicPr>
          <p:cNvPr id="3081" name="Рисунок 5" descr="ca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357800"/>
            <a:ext cx="1738080" cy="1425600"/>
          </a:xfrm>
          <a:prstGeom prst="rect">
            <a:avLst/>
          </a:prstGeom>
          <a:ln w="0">
            <a:noFill/>
          </a:ln>
        </p:spPr>
      </p:pic>
      <p:pic>
        <p:nvPicPr>
          <p:cNvPr id="3082" name="Рисунок 6" descr="cat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71960" y="4429080"/>
            <a:ext cx="1738440" cy="1425600"/>
          </a:xfrm>
          <a:prstGeom prst="rect">
            <a:avLst/>
          </a:prstGeom>
          <a:ln w="0">
            <a:noFill/>
          </a:ln>
        </p:spPr>
      </p:pic>
      <p:pic>
        <p:nvPicPr>
          <p:cNvPr id="3083" name="Рисунок 7" descr="cat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29280" y="4500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4" name="Рисунок 8" descr="cat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71960" y="2214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5" name="Рисунок 9" descr="ca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0" y="2214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6" name="Прямоугольник 10" descr=""/>
          <p:cNvPicPr/>
          <p:nvPr/>
        </p:nvPicPr>
        <p:blipFill>
          <a:blip r:embed="rId13"/>
          <a:stretch/>
        </p:blipFill>
        <p:spPr>
          <a:xfrm>
            <a:off x="1871640" y="2444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7" name="Прямоугольник 11" descr=""/>
          <p:cNvPicPr/>
          <p:nvPr/>
        </p:nvPicPr>
        <p:blipFill>
          <a:blip r:embed="rId14"/>
          <a:stretch/>
        </p:blipFill>
        <p:spPr>
          <a:xfrm>
            <a:off x="7729560" y="4730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8" name="Прямоугольник 12" descr=""/>
          <p:cNvPicPr/>
          <p:nvPr/>
        </p:nvPicPr>
        <p:blipFill>
          <a:blip r:embed="rId15"/>
          <a:stretch/>
        </p:blipFill>
        <p:spPr>
          <a:xfrm>
            <a:off x="4870440" y="4730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9" name="Прямоугольник 13" descr=""/>
          <p:cNvPicPr/>
          <p:nvPr/>
        </p:nvPicPr>
        <p:blipFill>
          <a:blip r:embed="rId16"/>
          <a:stretch/>
        </p:blipFill>
        <p:spPr>
          <a:xfrm>
            <a:off x="1871640" y="46641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90" name="Прямоугольник 14" descr=""/>
          <p:cNvPicPr/>
          <p:nvPr/>
        </p:nvPicPr>
        <p:blipFill>
          <a:blip r:embed="rId17"/>
          <a:stretch/>
        </p:blipFill>
        <p:spPr>
          <a:xfrm>
            <a:off x="7656480" y="251784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91" name="Прямоугольник 15" descr=""/>
          <p:cNvPicPr/>
          <p:nvPr/>
        </p:nvPicPr>
        <p:blipFill>
          <a:blip r:embed="rId18"/>
          <a:stretch/>
        </p:blipFill>
        <p:spPr>
          <a:xfrm>
            <a:off x="4870440" y="2517840"/>
            <a:ext cx="1285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TextBox 7"/>
          <p:cNvSpPr/>
          <p:nvPr/>
        </p:nvSpPr>
        <p:spPr>
          <a:xfrm>
            <a:off x="0" y="285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МОЛОДЦЫ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5:26:47Z</dcterms:created>
  <dc:creator>U.R.</dc:creator>
  <dc:description/>
  <dc:language>en-US</dc:language>
  <cp:lastModifiedBy>Турова Жанна</cp:lastModifiedBy>
  <dcterms:modified xsi:type="dcterms:W3CDTF">2022-11-13T20:00:08Z</dcterms:modified>
  <cp:revision>93</cp:revision>
  <dc:subject/>
  <dc:title>Слайд 1</dc:title>
</cp:coreProperties>
</file>