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36.jpeg" ContentType="image/jpeg"/>
  <Override PartName="/ppt/media/image40.png" ContentType="image/png"/>
  <Override PartName="/ppt/media/image9.jpeg" ContentType="image/jpeg"/>
  <Override PartName="/ppt/media/image13.png" ContentType="image/png"/>
  <Override PartName="/ppt/media/image37.jpeg" ContentType="image/jpeg"/>
  <Override PartName="/ppt/media/image38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8.jpeg" ContentType="image/jpeg"/>
  <Override PartName="/ppt/media/image39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  <p:sldId id="271" r:id="rId77"/>
    <p:sldId id="272" r:id="rId78"/>
    <p:sldId id="273" r:id="rId79"/>
    <p:sldId id="274" r:id="rId80"/>
    <p:sldId id="275" r:id="rId81"/>
    <p:sldId id="276" r:id="rId82"/>
    <p:sldId id="277" r:id="rId83"/>
    <p:sldId id="278" r:id="rId84"/>
    <p:sldId id="279" r:id="rId85"/>
    <p:sldId id="280" r:id="rId86"/>
    <p:sldId id="281" r:id="rId87"/>
    <p:sldId id="282" r:id="rId88"/>
    <p:sldId id="283" r:id="rId89"/>
    <p:sldId id="284" r:id="rId90"/>
    <p:sldId id="285" r:id="rId91"/>
    <p:sldId id="286" r:id="rId92"/>
    <p:sldId id="287" r:id="rId93"/>
    <p:sldId id="288" r:id="rId94"/>
    <p:sldId id="289" r:id="rId95"/>
    <p:sldId id="290" r:id="rId96"/>
    <p:sldId id="291" r:id="rId97"/>
    <p:sldId id="292" r:id="rId98"/>
    <p:sldId id="293" r:id="rId99"/>
    <p:sldId id="294" r:id="rId100"/>
    <p:sldId id="295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slide" Target="slides/slide16.xml"/><Relationship Id="rId78" Type="http://schemas.openxmlformats.org/officeDocument/2006/relationships/slide" Target="slides/slide17.xml"/><Relationship Id="rId79" Type="http://schemas.openxmlformats.org/officeDocument/2006/relationships/slide" Target="slides/slide18.xml"/><Relationship Id="rId80" Type="http://schemas.openxmlformats.org/officeDocument/2006/relationships/slide" Target="slides/slide19.xml"/><Relationship Id="rId81" Type="http://schemas.openxmlformats.org/officeDocument/2006/relationships/slide" Target="slides/slide20.xml"/><Relationship Id="rId82" Type="http://schemas.openxmlformats.org/officeDocument/2006/relationships/slide" Target="slides/slide21.xml"/><Relationship Id="rId83" Type="http://schemas.openxmlformats.org/officeDocument/2006/relationships/slide" Target="slides/slide22.xml"/><Relationship Id="rId84" Type="http://schemas.openxmlformats.org/officeDocument/2006/relationships/slide" Target="slides/slide23.xml"/><Relationship Id="rId85" Type="http://schemas.openxmlformats.org/officeDocument/2006/relationships/slide" Target="slides/slide24.xml"/><Relationship Id="rId86" Type="http://schemas.openxmlformats.org/officeDocument/2006/relationships/slide" Target="slides/slide25.xml"/><Relationship Id="rId87" Type="http://schemas.openxmlformats.org/officeDocument/2006/relationships/slide" Target="slides/slide26.xml"/><Relationship Id="rId88" Type="http://schemas.openxmlformats.org/officeDocument/2006/relationships/slide" Target="slides/slide27.xml"/><Relationship Id="rId89" Type="http://schemas.openxmlformats.org/officeDocument/2006/relationships/slide" Target="slides/slide28.xml"/><Relationship Id="rId90" Type="http://schemas.openxmlformats.org/officeDocument/2006/relationships/slide" Target="slides/slide29.xml"/><Relationship Id="rId91" Type="http://schemas.openxmlformats.org/officeDocument/2006/relationships/slide" Target="slides/slide30.xml"/><Relationship Id="rId92" Type="http://schemas.openxmlformats.org/officeDocument/2006/relationships/slide" Target="slides/slide31.xml"/><Relationship Id="rId93" Type="http://schemas.openxmlformats.org/officeDocument/2006/relationships/slide" Target="slides/slide32.xml"/><Relationship Id="rId94" Type="http://schemas.openxmlformats.org/officeDocument/2006/relationships/slide" Target="slides/slide33.xml"/><Relationship Id="rId95" Type="http://schemas.openxmlformats.org/officeDocument/2006/relationships/slide" Target="slides/slide34.xml"/><Relationship Id="rId96" Type="http://schemas.openxmlformats.org/officeDocument/2006/relationships/slide" Target="slides/slide35.xml"/><Relationship Id="rId97" Type="http://schemas.openxmlformats.org/officeDocument/2006/relationships/slide" Target="slides/slide36.xml"/><Relationship Id="rId98" Type="http://schemas.openxmlformats.org/officeDocument/2006/relationships/slide" Target="slides/slide37.xml"/><Relationship Id="rId99" Type="http://schemas.openxmlformats.org/officeDocument/2006/relationships/slide" Target="slides/slide38.xml"/><Relationship Id="rId100" Type="http://schemas.openxmlformats.org/officeDocument/2006/relationships/slide" Target="slides/slide39.xml"/><Relationship Id="rId101" Type="http://schemas.openxmlformats.org/officeDocument/2006/relationships/slide" Target="slides/slide40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B6D-CCF0-4936-A87B-620EB081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851-9DAB-4F83-8AF1-F12C7F0A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176D4-06DC-4167-B81D-7889601D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AB605-0C40-4B99-A82E-2012A4F5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FAC9A-39A7-428F-B9BE-7D0327CE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71929-BB2C-4C3E-B33D-595ACDCE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F8FAD-CC52-4F27-AE0B-57F3C121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B18BF-C2F3-4307-8743-A5F69DD8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0689A-528D-4B01-8705-FEE73684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DB1CD-CCAA-4DFE-86EE-86970B59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244F3-6519-4130-BC24-12BE15FE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83C83-ED31-4F87-95C1-FF7B99E7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E42-B82E-435B-BFDB-D3616F66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9C78C-CC50-4E17-9801-9DE6CA5C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FA6B0-9F6F-460D-A07E-9B27387B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FDFD3-5B9F-4103-9DE4-CB17BAC5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7FE50-7673-429F-AF4D-DEC142B2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5DB3E-70EF-4E12-857F-C92C6287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1F429-89A5-492B-8C0A-2E887BBD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95808-023D-46FA-98A9-34B71317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63C9D-1EF9-4816-B2A1-557EF39E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F2515-5E5B-408E-B71D-54DEE3DD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8FAF5-BEE7-42F9-A5A7-A1FE40D6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542-6873-456B-8279-F97FCFC2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191FD-BED7-408B-B66C-6FA939BA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9FA74-6F77-42FC-B6B8-FABABEE1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7E6A3-226B-487D-824E-3139C5C0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8620A-BD21-4B9A-9E39-46EFB0C4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50875-D0D1-41E0-951C-7970C5C4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1125E-1630-4EC5-AF1C-FE4AE144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F0972-C630-4EC0-B522-C20226D9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E0CF3-C23D-45D0-9E03-A0F2F41E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C275D-D8AB-41C4-ABE4-41715654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E5F20-3F34-4689-894C-FF4BB76F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8A54-9B73-4B84-8DA9-B80A13DB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5ED0E-9140-4A63-BF2B-2A455C06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37516-69F3-45D1-81F0-E9A0C0D9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2BCD3-7CBD-4B06-8EFC-7271698B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A1ADA-2877-4B13-AE90-3F164BE6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82868-C680-47FD-A968-A77C248D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1391B-E1B2-45B6-A13E-09C1D0DF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D2C79-ABE8-41F9-9FF2-E9994E22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1C407-D5A8-4410-BA49-400401A1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F1F6A-E0B4-45F6-8FAB-A9988228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787F1-E5F4-4A5A-A7FB-9AE7AA1E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A856-5320-4B11-8FDB-CB554B76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1528E-9A44-4213-9FAF-86A0FA9C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46008-E3F3-4291-99FE-CACE5BA0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EA05F-7EF9-4D69-9FBD-0377E67C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27A25-E4F3-4BAA-B5FA-2A889F67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BF92C-8BA1-4A86-A671-2F2EB567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D20D7-6D77-43F2-BA7F-22E277C6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BE33A-B584-4C42-83B1-0074D9FB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5D3AF-907D-4EB4-9017-24524418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7FE35-1EDA-4758-8B80-41D35397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69C17-3481-4944-AFF6-D3A3EAEB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2482-B38B-4D24-BEE3-E4AE1F5E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41F88-6BCD-4655-ACCC-062AC7D3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AEE3D-B5CC-4564-B4A2-D34D42BA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FB3E4-C644-42DE-8A9C-E70C434A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72101-8B6D-44DC-B2E1-CEAF9E6C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C3F2B-2B32-49C9-80C4-8EE089EB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935D95-B2B7-43D3-BF0F-862C9960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08D0B-D7C5-4759-9ACF-AFD35000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2B8D4-1291-4D92-A5F8-FE86AB0A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BEBB1-9DB0-4F81-AD1B-4BF9BA08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559270-A7F4-4C2F-BB48-F8CF156E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439D-0CF7-483F-820C-7ADD8369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0AC4B-4D7C-484C-9A4C-4791F111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AFA706-B705-4666-BEEE-B037E71A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271A1-2837-47FD-A969-2A4960E3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FD4C5-FABB-4D0B-B1E1-541F86E2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EB6F9-8CBF-431F-9557-89FD2278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F0C5B-C51A-4ACD-8F65-3F657F88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37F2C-9470-4927-AEEE-541314D5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5EB78-5AB3-4220-BB00-3244E678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4E26C-FCF9-438E-94E8-4EEE25AD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34E33-D333-48FB-8E4D-D5FC9DB6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B166-9868-4050-977C-4C59539F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699AB7-3BFD-4155-960A-4D923F0F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CA9017-289B-40D7-BC05-393B3D57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C8C98-AAD6-4A89-B4F2-A68B3886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3AF4E-0804-44DA-926A-C8663CEB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617CA-39FB-4C9A-A227-98EDC286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D4516D-4D63-4F47-86EF-042120FC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B0F745-B358-412C-858F-7F170F8A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9FD5D-F2B7-4F49-B649-21E3BC59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5DB94-9D32-4802-A11C-48DD92B4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2ECE5C-85B7-4100-817C-11DE945F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8B6F-F6AB-491C-9FD3-1D90E0E8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FA8EE-20B0-4DCD-8B22-E79D38E7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60B8E3-E30B-4DE5-A44B-C0713CA0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1ED304-2AAC-4924-BC80-D4D87ABA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E85C4-48A6-4D03-970D-2E80E80C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228D5D-A128-4B61-9025-D3D8F015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4C634-45B7-4311-9EB3-C61E2F31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F3C0D0-09DF-475B-9D6B-DD5932E1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EC43F-978D-434E-82EB-15A6AC26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55F0A2-824D-4833-A51D-3D708856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044C0D-216D-495D-9A35-9B0E8B7D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6C84-9D56-43F7-9B1C-3A1154F1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2A6ECD-BA0E-408E-A056-4E111D5E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FEF086-8807-4099-9715-8CA2AD24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F9DE34-263E-480E-A18D-667D9768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49CC5-2674-4A33-B744-854C7DF5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D99DE-0F86-4AE9-A72B-A7423863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5C768F-720A-4274-9B60-686924DB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B9022B-6B6C-4444-B76A-0BC4D1D1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791BD8-5301-4EED-B3B6-AE9240FE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8DB677-255D-4192-B958-97825872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34DDFA-2856-4825-AE93-DBA9B8B0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24C-B26E-4983-8CEA-79424C5E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1DBC-8978-44E6-B070-7399D7C3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45E440-048E-44DA-8493-42BB1FE1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B5E16E-4884-422F-A443-1BA6B9C9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3CED3-5D73-49E7-8B0F-49A1EF84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7EDB1-2B59-48C2-84B1-931EA84B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3ED2C6-A5F9-4BC4-A5FE-B69E5997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C109E4-9796-4A0E-AA6D-B5DD4173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7BE68-5211-4F4B-A759-96E66EA4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EEAC69-25B0-41B6-8CEB-C4EEDF9D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CBC1C4-7128-409D-9B6C-A719654E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F3932B-1844-46F3-B64A-477C93D4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8B69-8C4D-4238-8106-E0FB910C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3930B7-5B95-4776-AE33-F7425149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879E3A-CF03-47FA-A251-22A40A4D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8F3C87-F74A-4CDE-B21D-98941431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04F78D-DE43-46EE-BF87-18955A4F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02ABC-5639-451B-8450-63EA5E82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D18A92-174B-43AA-AF80-EF4FFF11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7DB9DE-DC35-456F-85C8-27181E5B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5A778F-2940-427F-9280-56AC7D55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66F92C-9447-4D8A-B70D-C4628758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63E61B-24D4-4FE4-915E-C9A2B7BF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5548-7E4D-4A9D-AAE6-7DE8E40F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CB1C86-9544-4873-945F-191E3479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E75EBF-D9DD-40CD-B170-C600C2B8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1E2C70-4216-45DF-81E5-5DD782CF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A6CE8B-8F71-4F9B-8503-7CB79FBE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4BB8F4-7F30-4244-8AA1-FC8D569B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C17AAC-9407-41F0-B8AC-322BDCCD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0A1C7-60EB-457D-A2E6-C360F6BC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662BA4-798F-4A9A-A3C7-D4AF9F21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74098E-F124-4907-9656-7E2478D1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AC308E-4F2C-4006-9862-5739B094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ADA4-09B3-4BF6-A4FB-06D20CCC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453BF9-6A71-459F-8A4F-98AA43C5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9D4E6B-D2B5-4E96-8910-CDA6C960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48363C-BC14-4951-8C43-FD68DF2C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F0FB2E-B6F0-4AF9-827F-27D3C6CE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2C7473-1EA7-481E-A6C3-853CC4E6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6A153C-8E0E-42CD-8F12-EE3B7204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8A013C-4AEF-49DC-952D-EC6AEDDD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35D381-AF55-41B3-8DDF-D81DDED5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34CFFF-A64C-458C-9D1C-3F525CD4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A7C6E2-8625-46D2-80F5-5DB77B64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793C-A26A-47B6-AAEB-8D8CFE2B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C5064A-EF0E-486C-9423-EC4B0FBE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02CB31-92A4-4D1A-896C-033F4F5C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30D8F4-2096-4FF0-A890-546BEC16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DFA441-1273-428E-85AE-667E9C53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AE2691-B3FA-41EC-A64D-BE19ED53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FF8D71-EBDC-4DC1-A5C6-E92C871E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355D94-1EB1-4527-8DDB-CF3BCF8A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2B3D56-56F2-4546-9FEB-EB928811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104E02-E23C-4485-91E9-AA43EB7A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44361D-1F34-4B30-8974-C4AA744A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DA9A7-2947-4E29-BE9F-3531B510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3BA14C-0891-4C94-A4EE-573BEC69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BBED64-3A0C-4BC9-9BED-EAD62C37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3CA5C9-8A19-4C69-B32C-A08BA832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1D4251-622E-40EE-8B17-7AF0EFBF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D2EDB1-F6DC-44D4-99D4-0DD3F121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55DC8B-F2CE-40D1-A11C-8D3666E2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B3F228-4E4E-4C94-936B-52EF4450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278F34-585F-44BB-A476-1DF1AB79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2C4946-2DD8-4D15-9593-18D53265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90DF53-8B0C-4628-A736-4E213C92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D8DB8-31A1-4E45-BDD5-A2636E85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CCCC23-038C-4315-A379-D7881E0E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9EB3E1-DD4A-4126-8D1D-4E646DE0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7A2CF5-03EE-498F-929A-3BE75D78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25E09D-6D07-47DC-A40D-7A70AEDD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47AC6F-3DF5-4E45-8781-EE7EC1E1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D283E4-7F77-40D1-B825-2C39E10E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0DC4B2-E63E-4A80-AF5F-AB7E1603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711F7F-12C5-4048-BD07-1FCEB664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7A34CC-CEE6-4B9C-8CB3-2A9BDEE3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FFC5EC-82D7-4312-99F5-2F775EA3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A25AA-232F-460D-B4B6-D70F56BC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88E848-11D5-483B-A674-302FBF40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46FDB6-398F-42B3-A2DF-FF940C2A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553501-D242-4C8B-883A-C8C0E801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67E3D6-5E6B-4E48-829B-B4EE10FF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D13296-3835-46B0-AC49-5FD76D55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ED5924-BEA1-4E3F-84C8-DB70F82A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E1CBD1-7018-4EF2-A4E0-37819C7D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78C3E9-DF0F-4375-BC8A-6A6AFA53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595962-BF34-4275-9BDF-D6B7711C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2F6619-703F-4C82-AB93-329233A7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01EA-C919-49FF-9BDF-99A61690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1D8BF9-052A-4CA3-9201-06919B73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8A57F8-76CF-4F71-9EA6-AFF3B4E2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72540E-41C0-4DF4-A623-A841B5E9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B92813-F6CE-412B-AC91-87E1171D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2A9D4E-BD78-4AA7-8CDF-D3B071EB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C3614F-A153-4988-BA44-A24F6E89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1629B8-3E68-4F07-902D-D7AF714C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72EB8E-D6C3-4BFB-85A1-FCC47AFC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13D95B-6B80-4479-AC83-144F8F8D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F6BFB8-B464-4F6F-9286-AB6686CC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74A6-5025-4685-99D6-155B6852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33B05B-E857-42E2-9141-27DF0DA3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67BE30-C684-49C1-BA52-C3B10F24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8393E6-17D3-4743-AE61-D9E72AFA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517D43-8260-40EA-AA98-A167C5EA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F024B4-3E86-44E0-AD58-F27371E8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6B04AD-2F6D-45AA-BF43-6621AB16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202604-E136-488D-9C69-406158CA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6A8541-D386-498A-92EF-52A8FF00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C90C02-7803-4185-B98D-2A69BE97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1B7EE5-20CF-4C6D-8AEA-D3CE7E2A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178-5B9A-430D-AAAE-9FE2268C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4E81E-4F05-466E-AD7C-C0101B5A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79C8F8-C8E0-4122-9C50-286BA00A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67A561-B960-48DD-AC5B-3D99FF89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9EF17D-E112-47B8-A88E-28E4D011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632026-9D13-485D-86B0-49560076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2D1605-A133-40AF-A558-C44569DC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FCC258-11A6-4562-8EE7-3399835C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888E25-DC86-4F22-B624-CCFD6022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EA7FE5-BD41-4A55-ACB8-3236E7D6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8B958A-4CD4-4C3B-8565-6510B636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2B7837-1AFB-4E3B-BA56-0CAB5EEB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182EA-F92F-4B54-9DC3-960B9D44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3416A2-7EF0-4DD6-A23B-26C0532D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97C25D-B6E6-41F7-8E92-A29C43F9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3987D5-4A08-4BCF-8C43-5123F8FE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9B7B3A-DE72-4630-842B-C31214D5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24C587-60DD-4035-A2D1-0304FD01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2F194D-D4A1-472B-B16E-047C9BA7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6A6BB8-1DCF-49A6-93B0-8ACD982C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5E0F18-13E0-45CF-B0D8-24D20159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A2CA5E-6B5E-453F-88FD-0D35D45F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567B16-37AF-4F62-8339-90223EE2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3882B-0F86-419B-962E-257BB1EA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5ECE74-A396-4009-9C11-FE0C4F3F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6F859A-AC0C-4D5B-9BDD-F6753760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921CED-B2BD-4512-AF87-1275257A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8715B0-B57D-4914-9683-19CF0A42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B79E82-9C6E-4110-A40A-DF76C7CB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669C11-43B1-433C-82AD-D9033871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630D51-2EDB-4A69-946D-695FD4D3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2932AD-FE76-492C-8F17-B9D2158F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E4D4B3-CD9A-4833-B42C-4F93B5FE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28AB64-41D2-46DC-B249-63001400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23030-1E17-48FE-A51F-3B66AC8B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06D6C0-0022-47D0-B522-79A7588C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E1485C-A05E-43C3-8618-886C92B0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7ECE88-B447-40E1-BA76-406B36EE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8878A4-3910-420D-B3A5-A56153FA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CAB57B-768D-4B1E-BCC3-4E9F8B6D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B359DE-28AB-43C1-9E05-0887097E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F4FFEF-B308-4F31-AFED-FE810368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80EEEF-8B15-4D15-B8D7-FC84C59D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B9502B-DB02-43E3-8555-B9FC6012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8C7B16-7B3E-4A92-B3F3-3D53C9D6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71D11-28B8-4EFB-A310-7F9A13D7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DC34EF-532E-423A-9BB1-3A4C6F1D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8722C4-863B-47AD-83AE-761C2E76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77729C-A110-4CFA-B9AB-3793D3A7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E9A339-EF33-4897-9BB5-17431B9A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40CFF3-35B3-457D-84D0-4FFAB9FB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0D93AD-78B8-4B32-A392-BFFAA3E7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15CAF5-DDEC-4E73-AAF9-427EB0D9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718D16-D236-4603-A7D4-E9CD2FF4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E3F934-1FD2-43C2-B186-534C2B3B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844ABF-4F50-41EA-893C-9FBEBFD2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74E12-4F62-4AA4-94FF-3A557C68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3402D8-8D26-42A1-A9D7-99475C7E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AD7950-A096-4D5D-B960-B9BC20A9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93ED6F-6B14-44AB-8FCE-0AAFB059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4877D5-6810-4C13-8B71-47A75C5A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6C8E6B-EF11-4293-8DFD-7095AF63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61438B-EFD4-41B6-9FA6-906C9622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BEB209-4AFA-4B34-ABA1-2A282A5D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0532E2-C528-456F-9373-6E2523C9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A7A1B3-FA5B-484A-B76D-D2A67663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D420FB-19D3-48B5-9385-6B0A9D16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FDDB6-DF42-4FA5-9B10-BDA846E7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B463C5-5010-463D-B6A1-11E3E6EE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21CA39-ABC1-4D47-B71A-6E3BF8FA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EA625D-715A-471A-88E4-FC84840D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081188-D333-4699-8D4D-78150347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5D857F-AC77-4714-B39F-F5CE3D40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1830DD-F4A9-4BEC-8A5F-9A34CD3C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D24EDA-D7D1-48FA-9DBC-428095DB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4CDBC2-5621-4F3D-AC26-0C58E1D2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BAA8F6-2023-4422-A29F-83D7BD1E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2F4896-6D15-4AFC-9D1D-2FB28797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FF3A9-B449-4ECB-8B56-5558E5A5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00866E-E82C-484C-8A5E-2BD1CE0C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6872CC-B78A-4264-A960-E3CE9DCF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D7AC7E-AB39-41B8-985F-C6AB0EB5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E5095A-7F03-408C-AA46-77AC3D52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F0E820-8D07-4444-BF8F-5BEC96CB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A60D1A-191F-4070-A936-7F7C7C79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3122ED-68D2-4D85-B6EA-27CDF347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738CA3-2840-4D05-828F-682478FF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310DBD-302C-4035-8E45-F8DDBB2F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968D7D-CFF4-4FF2-B1AA-46A1981E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EB3AA-3D54-46DA-AB96-E2B7233A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86A921-DA5B-44B8-89C6-05F29CC5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F1D77F-464F-438A-BEEB-FD6A979B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2245E1-5281-4081-ADA3-D89D402B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16017D-BAA3-4027-ACF1-1D5A9751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812222-FDBE-41CB-B2DB-0BE99B70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47FD5F-1335-47FB-8198-79B84DBC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B43F7A-8D43-47D1-8A3D-6E6D8FAD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B8F6F2-8B48-4054-B1D6-479F59D1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350EB8-0052-4706-862E-C9B199C1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A92500-FF99-47AF-9C65-8F39C637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8FE9A-F3B1-4207-A957-F77DCFD7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1C1288-AE65-40EA-9432-131A329C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1B5E5C-1E3C-42B9-9DE9-DBC6FCAE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344BB1-10A9-4EF8-91F9-CF09B760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3ADF93-1574-404D-9DF2-37864664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A98D69-56F7-4D2A-A519-0413EB87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ADB8CF-3A67-4768-8495-17AD1E6B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84AC36-47A3-4E87-B96B-9B659F82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7D6F04-34CA-4384-A40F-53713FB0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6CC7B9-6A1D-4A50-9EA1-38D1A57F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CD3613-269F-456B-A51F-597F6BB0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D07-F54E-4699-9FFE-49EBF1B2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96B00-C318-4D93-ACB4-269B8261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FE3F08-719E-4B96-9C4A-839C8A4C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2DCDB0-E366-4F57-B581-DD9552A8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73DDB1-863E-41B3-9401-40D75EA4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225CC8-C451-4BCA-A18A-51609B64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D18AC0-C20F-4933-A5A4-4E54EF72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0AAB1D-DCCD-4C60-A326-928A49FB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319230-0C57-4E27-9634-0EDD1960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4AE354-D1FA-43B5-873A-AF86D9A4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5E5FEA-EB83-4BE4-A90F-E792D64A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5489E1-F703-437C-A943-3BD2F3D0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5FF70-A9BF-423A-BA0D-85B306AA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A8E162-338D-439A-8838-D357E84E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9E1152-6E50-4E90-9CAB-5EEF5ED0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57EA04-B361-4A35-89B9-20D702B4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E74FDD-9E0F-4AC8-9CE9-9E8B4DF1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684C5D-088F-44F4-BAF6-6BA9EE36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AA8D779-965E-4574-8EF5-26A0EF01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C61312-16BC-437E-BA8B-0ABD8103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D1B7DE-56D2-42AA-96A0-50600273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482002-E790-49BC-A619-8DB10781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EA37C1-B058-457E-9684-201DFE3E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03866-221A-47A3-898B-7ABEA71B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9EE377-F009-4445-9C2D-B95D32F0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A1CBF9-4F1D-4635-9ABC-6F3D7469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407122-27C1-4086-8E90-9E829751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FBD4A0-C088-4475-8D66-BB18FD96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1FAA27-D437-4379-9298-C44EE4C7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391CBE-63DF-43A6-9D87-E1DC8E58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20FFFF-81FB-455D-BCB6-3CEAE473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89560E-408B-46AC-BE23-7B11BE0F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EC7199-0B96-45AD-92AD-9793C8A6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B89E0D-6E9C-4D69-8E93-0B7A763E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7F5E2-D7CE-406A-B60B-50E24A82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18FBE7-070C-411B-910F-E5EDE9C4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D2ABD3-AD06-4B76-A805-EF40E44B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7FAA75-B1E9-47FD-A155-C2AE5E05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ED510B3-B02C-4680-95AA-613A09E5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21287C9-0B7A-4B82-902A-EAFD757B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F40F6E0-AF82-4500-AEA1-194BDEE3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A3A029-F400-4FCF-9781-F874075F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359863-2E66-4F3C-99DF-6D9145EF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72249A5-BDF7-42EC-950C-1F4E5645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F900130-4B03-4A28-A8FF-BC38A907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2725-C37A-414E-9C22-1D3D4FE4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887012-75FF-4D1B-A94B-AB8607E3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9B1DDF-8A38-418B-B63E-EE48CB9B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B4338A7-DC32-4C07-ACD5-8E62D490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347B2C-B089-4C0C-8998-EF77E9B4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8498EE-3797-4000-B7FC-55E3FA08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0EBE9FB-A22C-4E5C-8ABC-0B1821C0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B1B5F0-FBA1-49E8-A6CA-616FB179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AE9432-4F5E-452B-ABAA-6CB6A394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964740-BA27-4398-99C5-0B8ECF00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7D32EBA-A3AB-4DEE-9366-284805C6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8C7D8-5694-4FCA-8398-EC0E80D8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87026AA-12F6-4D93-8D82-6D308956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7A6D88-E865-4A6E-B495-FE7C145B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CA9D0CE-2DA0-40D8-A419-589C3BF6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F235B41-FB8C-41DD-B68C-35BC2F51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B778EAB-249A-4D02-9B43-D56FEC79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C713321-B1A0-4557-A7D9-C3262C6E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C50F15D-B173-4DC6-AE4E-39AF20D6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2C8BFF-06DF-48ED-90C8-6B1D7CA0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DF52792-AFA1-4A0A-8970-39C463CC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F7F7BC3-E084-4C9D-8524-27C9AE90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30F92-AF52-468B-ADF2-4F93DBE1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6C48B5-BB11-4C92-9B80-3672FEC4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81F3E40-65E8-421A-92D9-DD2FF61A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E3D72E9-842E-415E-8601-BE354B53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0B7390C-3592-4AB1-82D2-D029A43E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0146348-86D2-49CC-8F41-CB522B23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A345DB5-12CB-440C-B0B2-1D2B0C1C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CD8803-5BE3-41C4-AA4A-395E88EA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BAD84B9-937B-4347-BBFA-36FEBF42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C63BFAA-81E1-4621-B04C-BBFB4EBE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C7F7A35-B882-48BB-B035-02A399CB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84F99-2BBE-4768-892C-A48E5D9A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57295E7-7A6E-433D-95C9-22D577F0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455893-E7A7-49B3-9383-59F7B935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BF3B0C2-EDAD-4EF4-933A-57FA6197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C4C9410-5C71-4C39-94EC-89F9D93B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3EFC8D-D83D-46EA-9515-4918373F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E260A81-E847-4AE4-934E-FD76EC23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99BCAC6-5F72-4206-A6BF-13A2FD4B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CDB72AD-270C-46AB-B90F-84732415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9840CB0-0DA1-4707-9D48-7A3CCF8F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97911D0-DD7A-41F0-A3C5-345FEE9F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48CDA-B83E-4F67-9D50-B77C33D2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53400F8-5B44-4BF9-9384-451A71ED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B0B937C-826B-48A8-904F-F1722B8E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C900C19-92AB-4EB9-A5B6-E23BE222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7969941-0B52-46E4-B4DD-C6563562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2442F7-0905-41B5-BB02-5678DAB1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7121F78-B91D-43DC-BE82-86EE9538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AF4D288-87D6-4295-8066-9CBD7B97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7330143-6CF1-4A86-B962-B9FCBDED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4B13A8-502A-4B7E-A024-95208BF7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E4BCC0E-C7E9-4BC4-8CB1-0242C436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1145B-8740-44AF-80BF-307F9C18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ADC61D-856C-4733-AA3F-9C90D0BE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0574CC0-9EAA-4419-80FE-A35E3C9C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58F86A2-A108-45E4-8F75-9BB89B80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E1E3125-A70D-4208-9505-4770C714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6EADBE4-4F76-47E1-AE1D-B698C804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EE416FD-0763-43B0-ADB1-84BDA540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5CBBB0-B0BE-4F33-86F6-D406401E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8844086-87B8-43B9-AC1F-222C5FF8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C852F85-73B3-4A09-AB6C-A8B1D242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1DAE643-E882-4090-95D8-0377E2BB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768-7CC7-4F4D-A264-4EE71EB4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FE483-BFB5-455E-B21E-40ACF28D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C4D399E-E9D4-45F0-8491-8A3243A7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BA516E8-6E2B-4AAE-A282-A6A7BC69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5AD8305-A214-4134-A4D3-B5494B67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16976DE-2F83-416A-AE96-AF5492A6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CBCB24A-3384-4C7B-A694-2E275BB3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F8D0D66-C1CC-42A9-8942-8DBBA476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0D1E09A-888D-4750-9A9B-87AE5FFE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BA8C3AF-63A1-4349-B606-AC0517A1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BABF3CC-8E76-49DE-9068-994ACFC1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80FAD36-B30F-45C2-AD7A-C8DEF247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83BA9-465A-4ACD-9088-15288D79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0BFD5EA-79FC-4201-9C45-83A7756B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805A2B4-23CD-42CF-8EDA-82E4FAB1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6B85E43-1160-4E9E-A450-20AACD1F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199A104-6E76-4C6E-8149-0FA47D13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859294E-B4DC-4428-A896-BC285D91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2B26FA9-194F-47A4-B2BC-B2BDBD8B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2F08FCE-769A-4A5F-932E-FE037A3F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BDCD4F7-37E0-496F-8364-BE164E28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3633452-5574-427E-B58B-B6981EBE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47D3713-B5C8-4901-917F-87F6D280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06458-AA7D-43ED-8214-D923F11B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CDB5EE8-BE78-4497-BC74-7E9987EC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B00079C-9710-4505-A957-2073E4F0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FB5FC13-76E3-47B6-A4D5-75778E1D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5F1D89-88C0-4F2C-B58A-ABBFA761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E73B2B1-765E-4E13-B19D-7DC5E4E7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FD6C46F-A6F9-41FB-85C4-4732ED19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5416299-8D23-4802-980C-1FF703B8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B735835-85FB-4D65-893D-962BA0C1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15CFCEC-1A46-4B85-B2B5-F35BB352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A99E4E4-3FE4-4A11-BAFC-0615A744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7CE70-39C9-4DCE-8705-CF2C7020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F5B9ECF-26A6-413F-BE35-C4283B71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21D95E2-DA21-4298-A5EB-1E07112A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CAD441-97CF-49FF-B033-1F7DB965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4A5AA01-D8FA-4F20-93B0-3C9A13FE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880A19E-63E7-48E2-90EF-6FE41558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D7F927F-825A-4E68-95C1-2A9D8AB6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578D585-0F34-4FBB-830C-66BFEDFC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60CCE0C-6B8F-4BEF-97BA-01045D82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7FFEEA5-8BE5-4B25-8F37-6BECEB82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61F8FC3-7853-4C08-96E6-6425AB40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BC8D3-1D21-4B5F-A9E9-A06A3096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FD22314-484F-47D4-AF4B-9D29C731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EAF5A09-3517-4255-8225-2E33CF9E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6C1DE90-C725-4917-821D-334887AC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0EA3AE0-EDFE-4ABD-BD4F-369B3B87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57D8197-D5DD-4323-B07D-392239F9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5A289C8-14D5-4A5C-A336-A627989F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B8BD0A0-E4CB-48D4-BF47-D0580931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7C2D3D7-0886-4439-B25F-4422AAE1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76143E3-A1FF-4B73-AC78-7CE7AA30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3ACA4B4-1A6D-4E99-8806-95196A4D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02315-DBAF-4DAF-9A06-172B01F1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8578B46-8FAD-4C62-A8DB-B4010C8D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FF3942-8879-42AD-95B8-BA8940F7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2817788-98EF-48FF-B8C2-1BFDCD0B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66CB7F3-92E6-4653-8664-5FF7882E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1BDEA01-7F40-4650-9C66-AFA4E689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A7664DD-924A-42AF-B7CD-C2230567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1F398D8-D3A6-4E1B-B6F3-9BA77F8D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90D56AA-2823-445B-912C-F08D7CE7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9BCA6D2-1579-47FB-87A6-2C981978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DF05003-34BC-41BA-B97D-B15C47C8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C7248-E289-4D8B-8C5E-7B04F045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DB95FFA-4DA8-4463-AB91-26923CFD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CA66B53-49DA-4830-ABD8-296EFA84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58F5D9E-05F5-4A06-84A4-7F38F200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98FAA63-3D4B-46F1-BC11-CA2E4AB8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CF7F054-631C-4617-AAD6-E74FE7B2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6D640D8-E99D-499D-B243-50844A53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13EDA91-1583-4F0A-B851-B842B693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CB452CF-C8F2-4155-BBE7-6CB93848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E899175-D14A-4531-A2E2-3540DF45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CD8DDAE-8FA6-4978-B1EA-F1B859C2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CEEA1-074B-48F5-A841-439B8D4B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E997B4B-F16D-4CA0-8C11-36765329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69E8BAD-A829-46D9-88E9-D5AE17BD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0098EE1-B660-45BC-8142-2EAECDFF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0C3FA77-E9D3-4365-ADCE-06B3771B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A9C2E6B-FBDC-4533-8DE3-B658BF5A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A8F646B-8CC6-4716-BEEE-4D3695DB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E1FBD34-B59B-4D6F-A7F3-4B11A3C1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794D744-1E03-419F-83AE-56E9AA0F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C1D2792-C024-4150-8F78-E0EC4D40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1A041F7-DF74-42D5-8671-0A2AFC1A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F5DDC-3502-426D-AC2D-7B10DF06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D447442-06C3-4896-8E56-60958808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58E9B66-94A4-4996-AB42-99102C44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D11BB3D-8760-4A39-803D-30B350DD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72B7B70-E40B-4E3E-BAE0-72CD0D8E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3EF8E89-8570-4DB8-84BB-E6787017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757CC98-205A-438C-BFBF-EA40DA17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7197F77-F432-4604-8969-FEE4DB5E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ADB8C9E-34FD-4133-AE17-F415E9E7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39F094C-C25F-4A8F-B594-C1CF66C3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18D841D-411D-494D-AE30-AEDEC12C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1DE4B-CF73-4F9B-9A0A-9B393B4A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D522DD2-DE41-47C9-8116-211FFB7E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92FFE9D-76BB-4B14-968D-EE7E2914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B6F77EE-ECB5-42A6-B489-3B7CB4F3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CF4EF91-D92B-4EB1-9C41-6B32FBB7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80D727C-9B66-4F9A-8B4F-3794049F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AA1D3AC-C566-44F3-BE48-D1D23C62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ECC373A-3DB4-430D-A6E7-265E6E40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EE18B9A-EA9D-4BD0-BA19-B40C90FF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B4BEEF3-B86F-4B92-A2D9-ED77150A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D4FC51B-2E00-403E-B62D-F352B6BB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CCB-D773-446E-89AD-383B6ECC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AA7A3-024C-402F-B21D-C8BBACD2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5E27FD6-2380-4A83-899F-3D45D345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EE49236-3684-4490-8E6E-729EA067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098AF92-FE59-49BB-B0E7-4DA5011F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7A2CA56-3CE3-4135-A70E-D63793C8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64C558E-3AF3-40AE-A075-6A953939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7B3210C-B6AE-40D1-A6B6-F1A89D8A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C6D68C8-4457-4BC4-8741-3339434A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74C6CF7-0220-459E-83E6-50AA0091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2297A2B-A88F-4557-82BE-B307FF44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C52FD22-8027-4A01-9DA6-8FB09959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CE2EC-A173-4530-80C1-61B5336F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0682892-5E6B-48F8-A1FE-E5919818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609CB16-4317-4EDC-9EE1-498152D1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9A6D54F-723F-48D0-9690-54CA0A74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A368EBA-287D-4154-93A0-5A9A032E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5D43611-6F02-492F-BA7C-A5DBC11D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346FE7-BF03-42E7-93D3-67749EE7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E1AFED5-8F0F-43CD-9AC0-44FED4B1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7697B75-E7CC-4C93-925B-7E64987F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DCBC0CC-A7F2-40C4-BB4A-0A3FC699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D529957-AEE1-4A08-90A6-B5E1315C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E7414-233F-453B-BAC9-91EFAE8C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9B91874-B987-4450-A2D5-B7F5FEAC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10EF88E-9569-4141-991D-218BF77A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582DAA5-C90E-4E29-90EF-4394C1F3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F29FE38-5049-4F3D-866C-2B3E8357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91556DF-997E-4857-B268-1A6CC006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173EA0C-6805-4F4A-8BFF-4A20895B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E7BE17C-0E76-4E5E-8223-16140093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D50D5AC-630A-4242-9A5D-90EF064F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09BEC8E-9D6B-4EFF-9F0B-36117E68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635245B-CE3E-41A9-99AF-BCA4D716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3A697-B76E-4B14-A5DD-13CED73B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EFC45E-D76A-44F0-8B2B-98ABC16D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FE36875-1B2B-424F-8373-FF2CA96F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23DA64F-6048-43D1-A9D0-B5386B0E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CAD8F85-0DD9-417C-A245-07D3BDBD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DC50A89-564F-4E15-8D67-E7CC2C57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73D3F52-3EB7-4AE5-A591-7BA154EB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3BD9158-F975-4408-9B9F-7490658E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4E9D0AA-ACF8-43EA-A917-328FEDFB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5E6307C-4D23-4661-97AE-4899B4F6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F2F535E-4698-4C50-A62B-7D4763FC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546BB-BF1D-416C-B2F2-F5F0ACE2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8DC4D95-FDB4-4BC9-AD69-FBD43594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966E0D5-BE5E-4C07-91AB-BF52DCFD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B5370E8-07D7-47D1-A015-8C2D5B30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DC7F084-426A-4EB7-B529-92DF330F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AD2926F-81BA-4CF0-9E2E-6F0A1883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6B003CD-0D52-4C5A-A496-F4B6A02C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3A1A0AB-024A-4658-9103-BE107634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66D4CE9-8983-4866-ACEA-9A14F9C6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E300B11-A602-4CDF-A354-3ED323EA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6A00420-7E97-45F7-B034-AE5D6923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05793-A8E2-4031-BCF9-89B8ABFD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FC3C51E-4E65-44B1-B3D2-4649BE8F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1834A42-93D5-4137-9DA4-D75E204C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143D781-439A-4D97-B9CB-BEF894DA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ED88F53-F440-405F-9096-29059A18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E491960-84A3-4539-A589-8A030B6C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320E0D9-A6A0-4F6D-A28D-5E9D40E3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B7E3E46-4F90-4822-9AC6-D7F9B2C2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172940F-3620-43B0-AD3A-1D1A1FD8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269DC9A-0FC3-4351-9EDD-FC5FE2C8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9EBD911-A686-4042-9973-8B9DD836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586A1-A876-4987-A427-55170C66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472D8FF-304E-47FD-B6B0-0F5807BF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731AE1F-50D8-4CDF-9E79-70DB6FFA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91EE7E6-32BE-4E02-90A3-D224972D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8E79063-A399-442E-92B0-7C716D0E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8452DD8-3CFB-4158-86DB-506BEE4C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B340813-050A-4523-B19D-AD4D2BE2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9C7B513-48F0-4E7F-8700-DCB18B05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C5BD362-C5D8-4EBE-BE54-CB317691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D2769CA-5E68-4150-B749-08426207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5683278-46A0-481B-9347-0DC3AD2E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2EDA7-64ED-4A9B-91DF-49BB0E32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E38FBCD-056A-4668-8FD6-14F01595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AE09C58-97D4-4AB3-96EE-9B72F755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A01EA2C-E330-434D-B484-611EF0DA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F3060BE-D0AA-4EE3-B2E5-F7AF6C04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95FB3DD-2501-4F19-9E4E-E50B653E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3593896-8543-4980-9B3D-2F08B337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F8B2E00-FF6D-40F5-9C98-3B912CDE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3149540-66CB-480A-BD6D-A094643D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940187F-3082-4E84-B6CE-801B20DB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54FE9A6-43FE-447C-93EC-1F7B26F6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D7050-8903-4D32-BBC0-696B2553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575817C-AB12-4F83-811F-7F9DD4FF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913EAFB-B0F2-4346-9CEA-BD285849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56BCDC1-2FCB-4681-931E-679E1C13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B750C4D-DD54-48D3-B53C-9D6E8166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1FE603E-50C2-422A-B6E0-6635FFF2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A194D5F-9539-4BC8-98F4-22532F05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7429548-8B53-4C33-AC9F-F4F8C145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26B96E6-FE58-4046-AFE6-3658AEB3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65CB15E-A3BE-4401-9DE3-005CF213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CEE2C79-7308-4D71-85F4-5E0213BB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56340-2E90-4668-A506-D10F2692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0F9691B-1DE9-41C5-B476-7B5518D5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836A9C3-2846-471E-8B1E-55B7956F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A21FDD5-4B18-4CEC-AB4C-BE1616A2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037CA9B-126C-45AB-83EE-82E1D0E6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39F732F-CF3D-4608-9CD3-C804DD3B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9AAA455-21DE-475E-9991-F5EBD0E9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BED3753-B5B3-40EE-967E-1DF3F076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6EB0BCD-BEA0-4720-9F2D-63E464FE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6E8DF8D-A795-4A82-AE0D-4EBF86F4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7615A1A-D870-4E59-9C33-2F0EF318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7DD-20F6-4467-A886-08463A04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1C0ED-0A43-4810-8C83-2CBD1286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8997863-C8FE-4DD6-914A-3AA449F1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02C68D2-9655-4B41-86BC-F3975C5E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B29FAE4-6688-4835-AF15-912124D8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1389B08-BB01-44AE-B5BC-60101DF9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02AF6BE-6886-427E-871A-411D7832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39B935B-DAD9-4413-B14D-692C6C8E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8DBAAA1-EF09-4CC5-ACA9-4B7E1958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CC911EB-0E2D-4E81-BE9D-CD9A351D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DF03DDA-88BA-4C26-984D-41331CFD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54668C9-AB7F-4A42-91E5-D0C10E35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F4FF0-9C99-4EF8-9A26-6A0A9773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72C47F5-F8AB-4426-AA18-C559AB04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D453E4D-35A5-4969-9729-BAE7A414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657BC1F-D928-434F-9530-7080A069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CAA6718-2755-48E4-9E71-026AD5B7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FFA115F-8258-4897-AB66-91DD8DD2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FBB23DA-E133-4890-B97F-446D4260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AB85B77-95FD-42D4-AFC9-710505C3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6F02692-60B8-4D6E-8FCD-350D83DA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6EFF06A-9753-4B5B-9ED4-33A9E193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4A11D59-1EAC-4D0B-8694-9EBE2C88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11F46-1527-44BA-AF01-3229EAD8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F8648B6-CF67-43B6-B65D-837A411B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AB5AF-99FB-4A82-910C-3CB72DC6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6FEC3-A001-49A7-99FD-8382170A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197C6-A954-468F-AD8E-2AA441AF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F62E7-A35A-4027-9041-6B3542BB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B8EC8-2653-405E-ACB5-00DEDA97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34913-13C8-475F-AA18-078AF57A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41565-CCEC-4BE2-B516-66926EDE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C45-A304-431F-8506-B1F46CD3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521D8-1CD4-466A-A3F0-3D6C95E4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EE69D-5705-4D45-8AE5-C324266D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CF3AA-5292-4735-BF6F-25C854EC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54D28-91DC-48EF-91C0-B5959155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B8FED-7E1F-402D-963B-33F558E5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AD15C-F05C-48BC-889E-02F504E4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A7975-0FA3-4846-8181-0CEA4BCF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96ED5-B3F4-4DA8-A47F-82EA7165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AF627-B4F2-425D-A4DC-988231A5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E8314-6DD7-4662-A2DB-67223D35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935-F7D4-4918-B51D-B43A7217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6B13E-167B-47CE-B67E-1A4C16AA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01273-C4F7-43EF-A661-5B79462F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09617-D267-4D7F-8E88-DBF3C5DF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061B2-C229-445E-BF0A-DDF007F8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2322D-EA56-4424-B114-803B53C0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24C21-06D3-4D50-AB7B-17C35EC7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7489C-D221-4383-AF15-6538A822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149FC-00E3-4CE1-B85B-F18C4C76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4E25E-B375-4C17-BB36-B570C525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5F0DD-F27B-4F31-A9F9-73B447CB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D3DE-980B-41DD-AAB9-CC7BD7AFB173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0AE5-B15D-41E5-BD87-AA48DF58549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6BEF-697B-42D1-B4F9-064C1BAAB30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2044-7F6D-4E0D-9AA2-F3E3D0C9722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7C9D-BE54-4930-B7A4-C03C8C68B6A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838C-F93A-4A0F-BD1E-F639FAE8BD8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4F7D-374D-46F3-B5F4-FA49CCF1CF4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045B-4857-44F4-8D49-4A2507394462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B8B6-C7C7-4991-B796-5A8A1724B27F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F302-A5D0-4706-838D-ECA181A99043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FF2A-066A-45F3-A706-E3EFFFF7D3C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419C-BFD6-478D-ABDB-C2315E21082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5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6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9BC7-34DD-4BC6-B565-9D23F4E24FD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2090-8EBC-477C-B335-D3328F83EC4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6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6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DBAF-0723-48A3-BBAF-CDFDAC657A8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1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1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67CB-001A-4307-88FF-AD844F63343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6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6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6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9630-E950-4EF3-8E61-EF2890CF938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1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1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1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sldNum" idx="7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19B9-A7EA-42E1-8127-CB0780229BC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6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6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6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7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D74E-9024-47A7-8273-3FBC03DD70A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1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1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1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8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8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C14A-E3CB-4C11-80DF-9F20FC31E1F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6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7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7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8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8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4D90-0C90-4083-885C-DC0C0237AD0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1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2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2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8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8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6298-D567-4BA0-99BE-7AC2A6B5D2F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C50F-B04C-4267-B8B3-5752DE58148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6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7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7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8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9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C0BC-934C-4EF8-AA82-8082DF4786C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2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2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9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9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13D3-BC6B-4A4B-9453-723B8F172C8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7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7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 type="ftr" idx="9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 type="sldNum" idx="9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BFF7-8492-4794-ACD8-BFC3EC05CFE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62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2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 type="ftr" idx="9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 type="sldNum" idx="9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D127-974D-4088-94CE-F94D6259F7A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67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7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8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 type="ftr" idx="10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 type="sldNum" idx="10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9C96-D390-4E58-B300-EC950B6DAB3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2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2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3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 type="ftr" idx="10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 type="sldNum" idx="10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630A-5449-45E4-9034-76A74259183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7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8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 type="ftr" idx="10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 type="sldNum" idx="10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4691-029B-4E49-9B76-393FC8381BE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3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3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3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 type="ftr" idx="11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 type="sldNum" idx="11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0813-4CD8-4FAA-BC49-52B34E7A71C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8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8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8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ftr" idx="11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 type="sldNum" idx="1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2443-4B56-4D7F-BCD7-F09931BC911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3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3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 type="ftr" idx="11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 type="sldNum" idx="11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64B0-A906-44A3-9467-B3368B9AA36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556E-25DA-4FEA-A50F-A8153D51786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 type="ftr" idx="11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 type="sldNum" idx="12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702E-7D73-4A81-BDE0-0834B9681BD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3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3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 type="ftr" idx="12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 type="sldNum" idx="12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54FF-287D-41C5-A8EB-0A262992E11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12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12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1791-549D-4355-829D-5B4E10DD610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1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 type="ftr" idx="12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5"/>
          <p:cNvSpPr>
            <a:spLocks noGrp="1"/>
          </p:cNvSpPr>
          <p:nvPr>
            <p:ph type="sldNum" idx="12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E62B-DEB9-4D5D-BFF9-03A4011BB21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1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 type="ftr" idx="13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 type="sldNum" idx="13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58AB-42DD-4923-A3C9-C2291122589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2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 type="ftr" idx="13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5"/>
          <p:cNvSpPr>
            <a:spLocks noGrp="1"/>
          </p:cNvSpPr>
          <p:nvPr>
            <p:ph type="sldNum" idx="13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A4A3-A2E9-43CE-89D4-963D315A2A4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2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3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3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F939-B683-4339-87C4-05AA3ED7A44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 type="ftr" idx="14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 type="sldNum" idx="14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2F5D-A5BC-4DC9-9FEC-CC4B9988528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 type="ftr" idx="14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5"/>
          <p:cNvSpPr>
            <a:spLocks noGrp="1"/>
          </p:cNvSpPr>
          <p:nvPr>
            <p:ph type="sldNum" idx="14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A5BB-B56C-469B-A2F5-9A973A28CB3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4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5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 type="ftr" idx="14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 type="sldNum" idx="14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CC50-8743-4753-ABD6-B0A8EFACF02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A7C9-C148-4B3E-87AE-A8E36FAB3E1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9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0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 type="ftr" idx="14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5"/>
          <p:cNvSpPr>
            <a:spLocks noGrp="1"/>
          </p:cNvSpPr>
          <p:nvPr>
            <p:ph type="sldNum" idx="15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C839-709E-47AB-9B4F-D38BD915FCA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4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5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 type="ftr" idx="15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5"/>
          <p:cNvSpPr>
            <a:spLocks noGrp="1"/>
          </p:cNvSpPr>
          <p:nvPr>
            <p:ph type="sldNum" idx="15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C846-7B3F-4287-A625-1FEC4500A0B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0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0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 type="ftr" idx="15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 type="sldNum" idx="15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02A1-6898-4895-9CC4-78F10499C4A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5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5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5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 type="ftr" idx="15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 type="sldNum" idx="15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19CC-F5E8-4CEF-B5BC-1EF1CA3ACB9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70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70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70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 type="ftr" idx="16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 type="sldNum" idx="16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B522-858E-479F-AC6E-8906BF27F3A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75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75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75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 type="ftr" idx="16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5"/>
          <p:cNvSpPr>
            <a:spLocks noGrp="1"/>
          </p:cNvSpPr>
          <p:nvPr>
            <p:ph type="sldNum" idx="16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6A82-CA1A-4B90-8592-DCBAA9B8A31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0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0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0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 type="ftr" idx="16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5"/>
          <p:cNvSpPr>
            <a:spLocks noGrp="1"/>
          </p:cNvSpPr>
          <p:nvPr>
            <p:ph type="sldNum" idx="16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6DBF-C991-41A2-B6EA-2090BA15B32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5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5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 type="ftr" idx="17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 type="sldNum" idx="17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CEA8-054A-4256-BEFF-59D68575D7A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0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1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1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17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17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D9DB-9530-411E-A09E-4A6FDC5947D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5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6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6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 type="ftr" idx="17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5"/>
          <p:cNvSpPr>
            <a:spLocks noGrp="1"/>
          </p:cNvSpPr>
          <p:nvPr>
            <p:ph type="sldNum" idx="17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1056-A9B6-466F-91CF-EEB34C900D4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31DC-2E2E-40E8-BADD-7FF6F40D6B6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0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1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1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 type="ftr" idx="17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5"/>
          <p:cNvSpPr>
            <a:spLocks noGrp="1"/>
          </p:cNvSpPr>
          <p:nvPr>
            <p:ph type="sldNum" idx="18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AC77-5636-465D-AD77-F39DE6B919C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20DB-BF40-445D-ADA5-AEF9065C141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E9D1-10A0-4B25-8027-CC2FAC1A1C7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7D7E-F988-45DD-95BE-5070C77F5B1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file:///&#1055;&#1044;&#1044;2.ppt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#Slide 10" TargetMode="External"/><Relationship Id="rId2" Type="http://schemas.openxmlformats.org/officeDocument/2006/relationships/hyperlink" Target="file:///&#1055;&#1044;&#1044;2.ppt#Slide 11" TargetMode="External"/><Relationship Id="rId3" Type="http://schemas.openxmlformats.org/officeDocument/2006/relationships/hyperlink" Target="file:///&#1055;&#1044;&#1044;2.ppt#Slide 12" TargetMode="External"/><Relationship Id="rId4" Type="http://schemas.openxmlformats.org/officeDocument/2006/relationships/hyperlink" Target="file:///&#1055;&#1044;&#1044;2.ppt#Slide 13" TargetMode="External"/><Relationship Id="rId5" Type="http://schemas.openxmlformats.org/officeDocument/2006/relationships/hyperlink" Target="file:///&#1055;&#1044;&#1044;2.ppt#Slide 14" TargetMode="External"/><Relationship Id="rId6" Type="http://schemas.openxmlformats.org/officeDocument/2006/relationships/hyperlink" Target="file:///&#1055;&#1044;&#1044;2.ppt#Slide 15" TargetMode="External"/><Relationship Id="rId7" Type="http://schemas.openxmlformats.org/officeDocument/2006/relationships/hyperlink" Target="file:///&#1055;&#1044;&#1044;2.ppt#Slide 16" TargetMode="External"/><Relationship Id="rId8" Type="http://schemas.openxmlformats.org/officeDocument/2006/relationships/hyperlink" Target="file:///&#1055;&#1044;&#1044;2.ppt#Slide 17" TargetMode="External"/><Relationship Id="rId9" Type="http://schemas.openxmlformats.org/officeDocument/2006/relationships/hyperlink" Target="file:///&#1055;&#1044;&#1044;2.ppt#Slide 18" TargetMode="External"/><Relationship Id="rId10" Type="http://schemas.openxmlformats.org/officeDocument/2006/relationships/hyperlink" Target="file:///&#1055;&#1044;&#1044;2.ppt#Slide 19" TargetMode="External"/><Relationship Id="rId11" Type="http://schemas.openxmlformats.org/officeDocument/2006/relationships/hyperlink" Target="file:///&#1055;&#1044;&#1044;2.ppt#Slide 20" TargetMode="External"/><Relationship Id="rId12" Type="http://schemas.openxmlformats.org/officeDocument/2006/relationships/hyperlink" Target="file:///&#1055;&#1044;&#1044;2.ppt#Slide 21" TargetMode="External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jpeg"/><Relationship Id="rId3" Type="http://schemas.openxmlformats.org/officeDocument/2006/relationships/image" Target="../media/image7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8.xml"/><Relationship Id="rId8" Type="http://schemas.openxmlformats.org/officeDocument/2006/relationships/slide" Target="slide29.xml"/><Relationship Id="rId9" Type="http://schemas.openxmlformats.org/officeDocument/2006/relationships/slide" Target="slide30.xml"/><Relationship Id="rId10" Type="http://schemas.openxmlformats.org/officeDocument/2006/relationships/slide" Target="slide31.xml"/><Relationship Id="rId11" Type="http://schemas.openxmlformats.org/officeDocument/2006/relationships/slide" Target="slide32.xml"/><Relationship Id="rId12" Type="http://schemas.openxmlformats.org/officeDocument/2006/relationships/slide" Target="slide33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13.png"/><Relationship Id="rId3" Type="http://schemas.openxmlformats.org/officeDocument/2006/relationships/hyperlink" Target="file:///&#1055;&#1044;&#1044;2.ppt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&#1055;&#1044;&#1044;2.ppt" TargetMode="External"/><Relationship Id="rId6" Type="http://schemas.openxmlformats.org/officeDocument/2006/relationships/image" Target="../media/image13.png"/><Relationship Id="rId7" Type="http://schemas.openxmlformats.org/officeDocument/2006/relationships/hyperlink" Target="file:///&#1055;&#1044;&#1044;2.ppt" TargetMode="External"/><Relationship Id="rId8" Type="http://schemas.openxmlformats.org/officeDocument/2006/relationships/image" Target="../media/image13.png"/><Relationship Id="rId9" Type="http://schemas.openxmlformats.org/officeDocument/2006/relationships/hyperlink" Target="file:///&#1055;&#1044;&#1044;2.ppt" TargetMode="External"/><Relationship Id="rId10" Type="http://schemas.openxmlformats.org/officeDocument/2006/relationships/image" Target="../media/image13.png"/><Relationship Id="rId11" Type="http://schemas.openxmlformats.org/officeDocument/2006/relationships/hyperlink" Target="file:///&#1055;&#1044;&#1044;2.ppt" TargetMode="Externa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TextBox 7"/>
          <p:cNvSpPr/>
          <p:nvPr/>
        </p:nvSpPr>
        <p:spPr>
          <a:xfrm>
            <a:off x="324000" y="85716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Правила дорожного движ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2" name="Группа 10"/>
          <p:cNvGrpSpPr/>
          <p:nvPr/>
        </p:nvGrpSpPr>
        <p:grpSpPr>
          <a:xfrm>
            <a:off x="214200" y="2500200"/>
            <a:ext cx="2714760" cy="4140360"/>
            <a:chOff x="214200" y="2500200"/>
            <a:chExt cx="2714760" cy="4140360"/>
          </a:xfrm>
        </p:grpSpPr>
        <p:pic>
          <p:nvPicPr>
            <p:cNvPr id="3063" name="Рисунок 4" descr="1730.gif"/>
            <p:cNvPicPr/>
            <p:nvPr/>
          </p:nvPicPr>
          <p:blipFill>
            <a:blip r:embed="rId1"/>
            <a:stretch/>
          </p:blipFill>
          <p:spPr>
            <a:xfrm>
              <a:off x="214200" y="5215320"/>
              <a:ext cx="928800" cy="13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4" name="Рисунок 5" descr="post-26681-0-37452900-1369904148.jpg"/>
            <p:cNvPicPr/>
            <p:nvPr/>
          </p:nvPicPr>
          <p:blipFill>
            <a:blip r:embed="rId2"/>
            <a:stretch/>
          </p:blipFill>
          <p:spPr>
            <a:xfrm>
              <a:off x="214200" y="3929040"/>
              <a:ext cx="965880" cy="14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5" name="Рисунок 6" descr="hotel.jpg"/>
            <p:cNvPicPr/>
            <p:nvPr/>
          </p:nvPicPr>
          <p:blipFill>
            <a:blip r:embed="rId3"/>
            <a:srcRect l="16251" t="0" r="16251" b="0"/>
            <a:stretch/>
          </p:blipFill>
          <p:spPr>
            <a:xfrm>
              <a:off x="214200" y="2500200"/>
              <a:ext cx="9644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6" name="Рисунок 7" descr="54179480-fuyuitcu1fygcggb.gif"/>
            <p:cNvPicPr/>
            <p:nvPr/>
          </p:nvPicPr>
          <p:blipFill>
            <a:blip r:embed="rId4"/>
            <a:stretch/>
          </p:blipFill>
          <p:spPr>
            <a:xfrm>
              <a:off x="1143000" y="5331240"/>
              <a:ext cx="85716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7" name="Рисунок 8" descr="post-26681-0-37452900-1369904148.jpg"/>
            <p:cNvPicPr/>
            <p:nvPr/>
          </p:nvPicPr>
          <p:blipFill>
            <a:blip r:embed="rId5"/>
            <a:stretch/>
          </p:blipFill>
          <p:spPr>
            <a:xfrm>
              <a:off x="2000160" y="5286600"/>
              <a:ext cx="928800" cy="135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8" name="Рисунок 9" descr="16a.jpg"/>
          <p:cNvPicPr/>
          <p:nvPr/>
        </p:nvPicPr>
        <p:blipFill>
          <a:blip r:embed="rId6"/>
          <a:stretch/>
        </p:blipFill>
        <p:spPr>
          <a:xfrm>
            <a:off x="6931080" y="2498760"/>
            <a:ext cx="1622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Прямоугольник 2"/>
          <p:cNvSpPr/>
          <p:nvPr/>
        </p:nvSpPr>
        <p:spPr>
          <a:xfrm>
            <a:off x="1285920" y="642960"/>
            <a:ext cx="738828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транспортные средства по Правилам относятся к маршрутным транспортным средства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5" name="Рисунок 3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Прямоугольник 2"/>
          <p:cNvSpPr/>
          <p:nvPr/>
        </p:nvSpPr>
        <p:spPr>
          <a:xfrm>
            <a:off x="714240" y="117360"/>
            <a:ext cx="7632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Сколько перекрестков изображено на рисунк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7" name="Рисунок 4" descr="22-1.jpg"/>
          <p:cNvPicPr/>
          <p:nvPr/>
        </p:nvPicPr>
        <p:blipFill>
          <a:blip r:embed="rId1"/>
          <a:stretch/>
        </p:blipFill>
        <p:spPr>
          <a:xfrm>
            <a:off x="928800" y="1000080"/>
            <a:ext cx="7619760" cy="2857680"/>
          </a:xfrm>
          <a:prstGeom prst="rect">
            <a:avLst/>
          </a:prstGeom>
          <a:ln w="0">
            <a:noFill/>
          </a:ln>
        </p:spPr>
      </p:pic>
      <p:pic>
        <p:nvPicPr>
          <p:cNvPr id="3098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228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Прямоугольник 2"/>
          <p:cNvSpPr/>
          <p:nvPr/>
        </p:nvSpPr>
        <p:spPr>
          <a:xfrm>
            <a:off x="785880" y="500040"/>
            <a:ext cx="7745400" cy="12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На каком рисунке изображена дорога с разделительной полос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0" name="Рисунок 3" descr="25-1.jpg"/>
          <p:cNvPicPr/>
          <p:nvPr/>
        </p:nvPicPr>
        <p:blipFill>
          <a:blip r:embed="rId1"/>
          <a:stretch/>
        </p:blipFill>
        <p:spPr>
          <a:xfrm>
            <a:off x="928800" y="1357200"/>
            <a:ext cx="7619760" cy="2857680"/>
          </a:xfrm>
          <a:prstGeom prst="rect">
            <a:avLst/>
          </a:prstGeom>
          <a:ln w="0">
            <a:noFill/>
          </a:ln>
        </p:spPr>
      </p:pic>
      <p:pic>
        <p:nvPicPr>
          <p:cNvPr id="3101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1520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Прямоугольник 2"/>
          <p:cNvSpPr/>
          <p:nvPr/>
        </p:nvSpPr>
        <p:spPr>
          <a:xfrm>
            <a:off x="611280" y="692280"/>
            <a:ext cx="8281800" cy="71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Какой маневр совершает легковой автомобил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3" name="Рисунок 3" descr="33-1.jpg"/>
          <p:cNvPicPr/>
          <p:nvPr/>
        </p:nvPicPr>
        <p:blipFill>
          <a:blip r:embed="rId1"/>
          <a:stretch/>
        </p:blipFill>
        <p:spPr>
          <a:xfrm>
            <a:off x="714240" y="1857240"/>
            <a:ext cx="7620120" cy="2857680"/>
          </a:xfrm>
          <a:prstGeom prst="rect">
            <a:avLst/>
          </a:prstGeom>
          <a:ln w="0">
            <a:noFill/>
          </a:ln>
        </p:spPr>
      </p:pic>
      <p:pic>
        <p:nvPicPr>
          <p:cNvPr id="3104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43920" y="57150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Прямоугольник 2"/>
          <p:cNvSpPr/>
          <p:nvPr/>
        </p:nvSpPr>
        <p:spPr>
          <a:xfrm>
            <a:off x="826920" y="692280"/>
            <a:ext cx="803124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1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По каким частям дороги должны перемещаться пешеход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6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Прямоугольник 2"/>
          <p:cNvSpPr/>
          <p:nvPr/>
        </p:nvSpPr>
        <p:spPr>
          <a:xfrm>
            <a:off x="357120" y="692280"/>
            <a:ext cx="87868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2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Как следует поступить если пешеход не  успел закончить переход дорог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8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Прямоугольник 2"/>
          <p:cNvSpPr/>
          <p:nvPr/>
        </p:nvSpPr>
        <p:spPr>
          <a:xfrm>
            <a:off x="826920" y="692280"/>
            <a:ext cx="8031240" cy="87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Как необходимо двигаться пешеходу при движении по краю проезжей част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0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Прямоугольник 2"/>
          <p:cNvSpPr/>
          <p:nvPr/>
        </p:nvSpPr>
        <p:spPr>
          <a:xfrm>
            <a:off x="714240" y="214200"/>
            <a:ext cx="817272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Как нужно переходить дорогу если в зоне видимости нет пешеходного переход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2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Прямоугольник 2"/>
          <p:cNvSpPr/>
          <p:nvPr/>
        </p:nvSpPr>
        <p:spPr>
          <a:xfrm>
            <a:off x="826920" y="692280"/>
            <a:ext cx="7632720" cy="87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Кто должен быть пристегнут ремнями безопасности  при поездк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4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Прямоугольник 2"/>
          <p:cNvSpPr/>
          <p:nvPr/>
        </p:nvSpPr>
        <p:spPr>
          <a:xfrm>
            <a:off x="324000" y="692280"/>
            <a:ext cx="856908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детям до 12-ти лет ездить на переднем сиденье автомобиля рядом с водителе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6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ПЕРВЫЙ</a:t>
            </a:r>
            <a:r>
              <a:rPr b="1" lang="en-US" sz="80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Прямоугольник 2"/>
          <p:cNvSpPr/>
          <p:nvPr/>
        </p:nvSpPr>
        <p:spPr>
          <a:xfrm>
            <a:off x="468360" y="692280"/>
            <a:ext cx="8675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перевозить детей в возрасте до 12 лет на заднем сиденье мотоцикла если на них есть мотошл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8" name="Рисунок 3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Прямоугольник 2"/>
          <p:cNvSpPr/>
          <p:nvPr/>
        </p:nvSpPr>
        <p:spPr>
          <a:xfrm>
            <a:off x="826920" y="692280"/>
            <a:ext cx="7632720" cy="87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-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Когда можно производить посадку и высадку в/из транспортного средст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0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Прямоугольник 2"/>
          <p:cNvSpPr/>
          <p:nvPr/>
        </p:nvSpPr>
        <p:spPr>
          <a:xfrm>
            <a:off x="826920" y="692280"/>
            <a:ext cx="79599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ДВИЖЕНИЕ ВЕЛОСИПЕДО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ПОВОЗОК, МОПЕДОВ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Прямоугольник 3"/>
          <p:cNvSpPr/>
          <p:nvPr/>
        </p:nvSpPr>
        <p:spPr>
          <a:xfrm>
            <a:off x="358920" y="3071880"/>
            <a:ext cx="87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С какого возраста можно управлять велосипед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3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00960" y="4857840"/>
            <a:ext cx="98100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Прямоугольник 2"/>
          <p:cNvSpPr/>
          <p:nvPr/>
        </p:nvSpPr>
        <p:spPr>
          <a:xfrm>
            <a:off x="826920" y="692280"/>
            <a:ext cx="7632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ДВИЖЕНИЕ ВЕЛОСИПЕДО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ВОЗОК, МОПЕДОВ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</a:rPr>
              <a:t>-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Прямоугольник 3"/>
          <p:cNvSpPr/>
          <p:nvPr/>
        </p:nvSpPr>
        <p:spPr>
          <a:xfrm>
            <a:off x="358920" y="2643120"/>
            <a:ext cx="87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управлять велосипедом или мопедом одной руко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6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Прямоугольник 2"/>
          <p:cNvSpPr/>
          <p:nvPr/>
        </p:nvSpPr>
        <p:spPr>
          <a:xfrm>
            <a:off x="857160" y="301680"/>
            <a:ext cx="76327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ДВИЖЕНИЕ ВЕЛОСИПЕДОВ, ПОВОЗОК, МОПЕДОВ-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Обязан ли водитель автомобиля уступить дорогу велосипедисту, который движется по велосипедной дорожке, пересекающей проезжую ча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8" name="Рисунок 5" descr="velodoroga.jpg"/>
          <p:cNvPicPr/>
          <p:nvPr/>
        </p:nvPicPr>
        <p:blipFill>
          <a:blip r:embed="rId1"/>
          <a:stretch/>
        </p:blipFill>
        <p:spPr>
          <a:xfrm>
            <a:off x="2286000" y="1714680"/>
            <a:ext cx="4768920" cy="1785600"/>
          </a:xfrm>
          <a:prstGeom prst="rect">
            <a:avLst/>
          </a:prstGeom>
          <a:ln w="0">
            <a:noFill/>
          </a:ln>
        </p:spPr>
      </p:pic>
      <p:pic>
        <p:nvPicPr>
          <p:cNvPr id="3129" name="Рисунок 6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8684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Прямоугольник 2"/>
          <p:cNvSpPr/>
          <p:nvPr/>
        </p:nvSpPr>
        <p:spPr>
          <a:xfrm>
            <a:off x="1116000" y="69228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ДВИЖЕНИЕ ВЕЛОСИПЕДОВ, ПОВОЗОК, МОПЕДОВ-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Прямоугольник 3"/>
          <p:cNvSpPr/>
          <p:nvPr/>
        </p:nvSpPr>
        <p:spPr>
          <a:xfrm>
            <a:off x="214200" y="2071800"/>
            <a:ext cx="875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велосипедисту поворачивать налево или разворачиваться на дорогах с трамвайными путя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2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Прямоугольник 2"/>
          <p:cNvSpPr/>
          <p:nvPr/>
        </p:nvSpPr>
        <p:spPr>
          <a:xfrm>
            <a:off x="826920" y="692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2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обозначает этот 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4" name="Рисунок 6" descr="i.jpg"/>
          <p:cNvPicPr/>
          <p:nvPr/>
        </p:nvPicPr>
        <p:blipFill>
          <a:blip r:embed="rId1"/>
          <a:stretch/>
        </p:blipFill>
        <p:spPr>
          <a:xfrm>
            <a:off x="1071720" y="135720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3135" name="Рисунок 7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Прямоугольник 2"/>
          <p:cNvSpPr/>
          <p:nvPr/>
        </p:nvSpPr>
        <p:spPr>
          <a:xfrm>
            <a:off x="785880" y="214200"/>
            <a:ext cx="8358120" cy="71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</a:rPr>
              <a:t>Знаки-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Какой из знаков распространяет свое действие только на ту полосу, над которой он установле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7" name="Рисунок 4" descr="pdd_04_03.jpg"/>
          <p:cNvPicPr/>
          <p:nvPr/>
        </p:nvPicPr>
        <p:blipFill>
          <a:blip r:embed="rId1"/>
          <a:stretch/>
        </p:blipFill>
        <p:spPr>
          <a:xfrm>
            <a:off x="1428840" y="1357200"/>
            <a:ext cx="6545160" cy="2500560"/>
          </a:xfrm>
          <a:prstGeom prst="rect">
            <a:avLst/>
          </a:prstGeom>
          <a:ln w="0">
            <a:noFill/>
          </a:ln>
        </p:spPr>
      </p:pic>
      <p:pic>
        <p:nvPicPr>
          <p:cNvPr id="3138" name="Рисунок 6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86840" y="42148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Прямоугольник 2"/>
          <p:cNvSpPr/>
          <p:nvPr/>
        </p:nvSpPr>
        <p:spPr>
          <a:xfrm>
            <a:off x="324000" y="692280"/>
            <a:ext cx="8640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6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запрещено в зоне действия этого знак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0" name="Рисунок 3" descr="pdd_02_04.jpg"/>
          <p:cNvPicPr/>
          <p:nvPr/>
        </p:nvPicPr>
        <p:blipFill>
          <a:blip r:embed="rId1"/>
          <a:srcRect l="39504" t="6806" r="38000" b="10744"/>
          <a:stretch/>
        </p:blipFill>
        <p:spPr>
          <a:xfrm>
            <a:off x="1000080" y="857160"/>
            <a:ext cx="2500200" cy="3500640"/>
          </a:xfrm>
          <a:prstGeom prst="rect">
            <a:avLst/>
          </a:prstGeom>
          <a:ln w="0">
            <a:noFill/>
          </a:ln>
        </p:spPr>
      </p:pic>
      <p:pic>
        <p:nvPicPr>
          <p:cNvPr id="3141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15200" y="36432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Прямоугольник 2"/>
          <p:cNvSpPr/>
          <p:nvPr/>
        </p:nvSpPr>
        <p:spPr>
          <a:xfrm>
            <a:off x="826920" y="692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8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обозначают эти  знак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3" name="Рисунок 4" descr="B1.jpg"/>
          <p:cNvPicPr/>
          <p:nvPr/>
        </p:nvPicPr>
        <p:blipFill>
          <a:blip r:embed="rId1"/>
          <a:stretch/>
        </p:blipFill>
        <p:spPr>
          <a:xfrm>
            <a:off x="1357200" y="1928880"/>
            <a:ext cx="2344680" cy="2052720"/>
          </a:xfrm>
          <a:prstGeom prst="rect">
            <a:avLst/>
          </a:prstGeom>
          <a:ln w="0">
            <a:noFill/>
          </a:ln>
        </p:spPr>
      </p:pic>
      <p:pic>
        <p:nvPicPr>
          <p:cNvPr id="3144" name="Рисунок 6" descr="151923_w640_h640_23.gif"/>
          <p:cNvPicPr/>
          <p:nvPr/>
        </p:nvPicPr>
        <p:blipFill>
          <a:blip r:embed="rId2"/>
          <a:stretch/>
        </p:blipFill>
        <p:spPr>
          <a:xfrm>
            <a:off x="5572080" y="192888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3145" name="Рисунок 7" descr="16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392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1" name=""/>
          <p:cNvGraphicFramePr/>
          <p:nvPr/>
        </p:nvGraphicFramePr>
        <p:xfrm>
          <a:off x="214200" y="189000"/>
          <a:ext cx="8750520" cy="6492960"/>
        </p:xfrm>
        <a:graphic>
          <a:graphicData uri="http://schemas.openxmlformats.org/drawingml/2006/table">
            <a:tbl>
              <a:tblPr/>
              <a:tblGrid>
                <a:gridCol w="2187720"/>
                <a:gridCol w="2187720"/>
                <a:gridCol w="2187360"/>
                <a:gridCol w="2187720"/>
              </a:tblGrid>
              <a:tr h="914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ЩИЕ ПОЛОЖЕНИ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2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3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4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7621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ЯЗАННОСТИ ПЕШЕХОДО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5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6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7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8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70128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ЯЗАННОСТИ ПАССАЖИР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9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0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1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2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Прямоугольник 2"/>
          <p:cNvSpPr/>
          <p:nvPr/>
        </p:nvSpPr>
        <p:spPr>
          <a:xfrm>
            <a:off x="324000" y="692280"/>
            <a:ext cx="864072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Если на перекрестке работает и светофор и регулировщик, чьи требования должны выполнять участники дорожного движ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7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Прямоугольник 2"/>
          <p:cNvSpPr/>
          <p:nvPr/>
        </p:nvSpPr>
        <p:spPr>
          <a:xfrm>
            <a:off x="179280" y="54936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Прямоугольник 3"/>
          <p:cNvSpPr/>
          <p:nvPr/>
        </p:nvSpPr>
        <p:spPr>
          <a:xfrm>
            <a:off x="250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При движении по нерегулируемому перекрестку кто должен уступить дорогу- водитель автомобиля или водитель трамва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0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3920" y="5643720"/>
            <a:ext cx="642960" cy="96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Прямоугольник 2"/>
          <p:cNvSpPr/>
          <p:nvPr/>
        </p:nvSpPr>
        <p:spPr>
          <a:xfrm>
            <a:off x="571680" y="692280"/>
            <a:ext cx="8393040" cy="71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2" name="Рисунок 5" descr="24-15.jpg"/>
          <p:cNvPicPr/>
          <p:nvPr/>
        </p:nvPicPr>
        <p:blipFill>
          <a:blip r:embed="rId1"/>
          <a:stretch/>
        </p:blipFill>
        <p:spPr>
          <a:xfrm>
            <a:off x="1071720" y="1571760"/>
            <a:ext cx="6858000" cy="2571480"/>
          </a:xfrm>
          <a:prstGeom prst="rect">
            <a:avLst/>
          </a:prstGeom>
          <a:ln w="0">
            <a:noFill/>
          </a:ln>
        </p:spPr>
      </p:pic>
      <p:sp>
        <p:nvSpPr>
          <p:cNvPr id="3153" name="Прямоугольник 6"/>
          <p:cNvSpPr/>
          <p:nvPr/>
        </p:nvSpPr>
        <p:spPr>
          <a:xfrm>
            <a:off x="1071720" y="4303800"/>
            <a:ext cx="72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В каком случае водитель автомобиля должен уступить дорогу пешеход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4" name="Рисунок 7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2280" y="5643720"/>
            <a:ext cx="642960" cy="96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Прямоугольник 2"/>
          <p:cNvSpPr/>
          <p:nvPr/>
        </p:nvSpPr>
        <p:spPr>
          <a:xfrm>
            <a:off x="571680" y="476280"/>
            <a:ext cx="839304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Водитель автомобиля собирается повернуть налево. Кому он должен уступить доро</a:t>
            </a: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гу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6" name="Рисунок 5" descr="22-13.jpg"/>
          <p:cNvPicPr/>
          <p:nvPr/>
        </p:nvPicPr>
        <p:blipFill>
          <a:blip r:embed="rId1"/>
          <a:stretch/>
        </p:blipFill>
        <p:spPr>
          <a:xfrm>
            <a:off x="285840" y="1500120"/>
            <a:ext cx="8572320" cy="3214800"/>
          </a:xfrm>
          <a:prstGeom prst="rect">
            <a:avLst/>
          </a:prstGeom>
          <a:ln w="0">
            <a:noFill/>
          </a:ln>
        </p:spPr>
      </p:pic>
      <p:pic>
        <p:nvPicPr>
          <p:cNvPr id="3157" name="Рисунок 6" descr="16a.jpg"/>
          <p:cNvPicPr/>
          <p:nvPr/>
        </p:nvPicPr>
        <p:blipFill>
          <a:blip r:embed="rId2"/>
          <a:stretch/>
        </p:blipFill>
        <p:spPr>
          <a:xfrm>
            <a:off x="8501040" y="58896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8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59" name="Рисунок 2" descr="0dca325a3df8183b04658f64cfeb3c74.jpg"/>
          <p:cNvPicPr/>
          <p:nvPr/>
        </p:nvPicPr>
        <p:blipFill>
          <a:blip r:embed="rId2"/>
          <a:stretch/>
        </p:blipFill>
        <p:spPr>
          <a:xfrm>
            <a:off x="1500120" y="785880"/>
            <a:ext cx="2409840" cy="5691240"/>
          </a:xfrm>
          <a:prstGeom prst="rect">
            <a:avLst/>
          </a:prstGeom>
          <a:ln w="0">
            <a:noFill/>
          </a:ln>
        </p:spPr>
      </p:pic>
      <p:sp>
        <p:nvSpPr>
          <p:cNvPr id="3160" name="TextBox 3"/>
          <p:cNvSpPr/>
          <p:nvPr/>
        </p:nvSpPr>
        <p:spPr>
          <a:xfrm>
            <a:off x="4143240" y="1285920"/>
            <a:ext cx="5000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 какую сторону разрешает движение такой жест регулировщ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1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62" name="Рисунок 2" descr="post-26681-0-37452900-1369904148.jpg"/>
          <p:cNvPicPr/>
          <p:nvPr/>
        </p:nvPicPr>
        <p:blipFill>
          <a:blip r:embed="rId2"/>
          <a:stretch/>
        </p:blipFill>
        <p:spPr>
          <a:xfrm>
            <a:off x="428760" y="1214280"/>
            <a:ext cx="2939760" cy="4286520"/>
          </a:xfrm>
          <a:prstGeom prst="rect">
            <a:avLst/>
          </a:prstGeom>
          <a:ln w="0">
            <a:noFill/>
          </a:ln>
        </p:spPr>
      </p:pic>
      <p:sp>
        <p:nvSpPr>
          <p:cNvPr id="3163" name="TextBox 3"/>
          <p:cNvSpPr/>
          <p:nvPr/>
        </p:nvSpPr>
        <p:spPr>
          <a:xfrm>
            <a:off x="3786120" y="164304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Что обозначает этот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4" name="Рисунок 1" descr="cat.gif"/>
          <p:cNvPicPr/>
          <p:nvPr/>
        </p:nvPicPr>
        <p:blipFill>
          <a:blip r:embed="rId1"/>
          <a:stretch/>
        </p:blipFill>
        <p:spPr>
          <a:xfrm>
            <a:off x="6929280" y="5000760"/>
            <a:ext cx="1881360" cy="1542960"/>
          </a:xfrm>
          <a:prstGeom prst="rect">
            <a:avLst/>
          </a:prstGeom>
          <a:ln w="0">
            <a:noFill/>
          </a:ln>
        </p:spPr>
      </p:pic>
      <p:pic>
        <p:nvPicPr>
          <p:cNvPr id="3165" name="Рисунок 3" descr="910391-2313fb9273fe50dc.jpg"/>
          <p:cNvPicPr/>
          <p:nvPr/>
        </p:nvPicPr>
        <p:blipFill>
          <a:blip r:embed="rId2"/>
          <a:stretch/>
        </p:blipFill>
        <p:spPr>
          <a:xfrm>
            <a:off x="785880" y="928800"/>
            <a:ext cx="7119720" cy="2714400"/>
          </a:xfrm>
          <a:prstGeom prst="rect">
            <a:avLst/>
          </a:prstGeom>
          <a:ln w="0">
            <a:noFill/>
          </a:ln>
        </p:spPr>
      </p:pic>
      <p:sp>
        <p:nvSpPr>
          <p:cNvPr id="3166" name="TextBox 4"/>
          <p:cNvSpPr/>
          <p:nvPr/>
        </p:nvSpPr>
        <p:spPr>
          <a:xfrm>
            <a:off x="785880" y="4071960"/>
            <a:ext cx="6357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 какую сторону автомобиль может продолжить движ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7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68" name="Рисунок 2" descr="uploads_2010_02_12_02_17_03_1.jpg"/>
          <p:cNvPicPr/>
          <p:nvPr/>
        </p:nvPicPr>
        <p:blipFill>
          <a:blip r:embed="rId2"/>
          <a:stretch/>
        </p:blipFill>
        <p:spPr>
          <a:xfrm>
            <a:off x="2286000" y="714240"/>
            <a:ext cx="4675320" cy="3286440"/>
          </a:xfrm>
          <a:prstGeom prst="rect">
            <a:avLst/>
          </a:prstGeom>
          <a:ln w="0">
            <a:noFill/>
          </a:ln>
        </p:spPr>
      </p:pic>
      <p:sp>
        <p:nvSpPr>
          <p:cNvPr id="3169" name="TextBox 3"/>
          <p:cNvSpPr/>
          <p:nvPr/>
        </p:nvSpPr>
        <p:spPr>
          <a:xfrm>
            <a:off x="357120" y="4500720"/>
            <a:ext cx="6143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Для кого предназначен этот светофо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0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sp>
        <p:nvSpPr>
          <p:cNvPr id="3171" name="TextBox 3"/>
          <p:cNvSpPr/>
          <p:nvPr/>
        </p:nvSpPr>
        <p:spPr>
          <a:xfrm>
            <a:off x="3786120" y="164304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Что обозначает этот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2" name="Рисунок 4" descr="3_010.jpg"/>
          <p:cNvPicPr/>
          <p:nvPr/>
        </p:nvPicPr>
        <p:blipFill>
          <a:blip r:embed="rId2"/>
          <a:stretch/>
        </p:blipFill>
        <p:spPr>
          <a:xfrm>
            <a:off x="428760" y="1571760"/>
            <a:ext cx="3071520" cy="30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3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sp>
        <p:nvSpPr>
          <p:cNvPr id="3174" name="TextBox 3"/>
          <p:cNvSpPr/>
          <p:nvPr/>
        </p:nvSpPr>
        <p:spPr>
          <a:xfrm>
            <a:off x="3714840" y="35712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Какой знак обозначает кемпинг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5" name="Рисунок 7" descr="1002.jpg"/>
          <p:cNvPicPr/>
          <p:nvPr/>
        </p:nvPicPr>
        <p:blipFill>
          <a:blip r:embed="rId2"/>
          <a:srcRect l="16142" t="0" r="16142" b="0"/>
          <a:stretch/>
        </p:blipFill>
        <p:spPr>
          <a:xfrm>
            <a:off x="3429000" y="3429000"/>
            <a:ext cx="2000160" cy="2954160"/>
          </a:xfrm>
          <a:prstGeom prst="rect">
            <a:avLst/>
          </a:prstGeom>
          <a:ln w="0">
            <a:noFill/>
          </a:ln>
        </p:spPr>
      </p:pic>
      <p:pic>
        <p:nvPicPr>
          <p:cNvPr id="3176" name="Рисунок 8" descr="1730.gif"/>
          <p:cNvPicPr/>
          <p:nvPr/>
        </p:nvPicPr>
        <p:blipFill>
          <a:blip r:embed="rId3"/>
          <a:stretch/>
        </p:blipFill>
        <p:spPr>
          <a:xfrm>
            <a:off x="571680" y="3429000"/>
            <a:ext cx="2071440" cy="2927520"/>
          </a:xfrm>
          <a:prstGeom prst="rect">
            <a:avLst/>
          </a:prstGeom>
          <a:ln w="0">
            <a:noFill/>
          </a:ln>
        </p:spPr>
      </p:pic>
      <p:pic>
        <p:nvPicPr>
          <p:cNvPr id="3177" name="Рисунок 9" descr="7_9.png"/>
          <p:cNvPicPr/>
          <p:nvPr/>
        </p:nvPicPr>
        <p:blipFill>
          <a:blip r:embed="rId4"/>
          <a:stretch/>
        </p:blipFill>
        <p:spPr>
          <a:xfrm>
            <a:off x="571680" y="285840"/>
            <a:ext cx="2143080" cy="2900160"/>
          </a:xfrm>
          <a:prstGeom prst="rect">
            <a:avLst/>
          </a:prstGeom>
          <a:ln w="0">
            <a:noFill/>
          </a:ln>
        </p:spPr>
      </p:pic>
      <p:pic>
        <p:nvPicPr>
          <p:cNvPr id="3178" name="Прямоугольник 10" descr=""/>
          <p:cNvPicPr/>
          <p:nvPr/>
        </p:nvPicPr>
        <p:blipFill>
          <a:blip r:embed="rId5"/>
          <a:stretch/>
        </p:blipFill>
        <p:spPr>
          <a:xfrm>
            <a:off x="1584360" y="2163600"/>
            <a:ext cx="1287360" cy="1524240"/>
          </a:xfrm>
          <a:prstGeom prst="rect">
            <a:avLst/>
          </a:prstGeom>
          <a:ln w="0">
            <a:noFill/>
          </a:ln>
        </p:spPr>
      </p:pic>
      <p:pic>
        <p:nvPicPr>
          <p:cNvPr id="3179" name="Прямоугольник 12" descr=""/>
          <p:cNvPicPr/>
          <p:nvPr/>
        </p:nvPicPr>
        <p:blipFill>
          <a:blip r:embed="rId6"/>
          <a:stretch/>
        </p:blipFill>
        <p:spPr>
          <a:xfrm>
            <a:off x="1657440" y="5237280"/>
            <a:ext cx="1287360" cy="1517400"/>
          </a:xfrm>
          <a:prstGeom prst="rect">
            <a:avLst/>
          </a:prstGeom>
          <a:ln w="0">
            <a:noFill/>
          </a:ln>
        </p:spPr>
      </p:pic>
      <p:pic>
        <p:nvPicPr>
          <p:cNvPr id="3180" name="Прямоугольник 13" descr=""/>
          <p:cNvPicPr/>
          <p:nvPr/>
        </p:nvPicPr>
        <p:blipFill>
          <a:blip r:embed="rId7"/>
          <a:stretch/>
        </p:blipFill>
        <p:spPr>
          <a:xfrm>
            <a:off x="4443480" y="5237280"/>
            <a:ext cx="1287360" cy="15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TextBox 7"/>
          <p:cNvSpPr/>
          <p:nvPr/>
        </p:nvSpPr>
        <p:spPr>
          <a:xfrm>
            <a:off x="324000" y="270828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TextBox 1"/>
          <p:cNvSpPr/>
          <p:nvPr/>
        </p:nvSpPr>
        <p:spPr>
          <a:xfrm>
            <a:off x="357120" y="0"/>
            <a:ext cx="8143920" cy="87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писок использованных источни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ttp://pddmaster.ru/documents/pdd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- правила дорожн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светофора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images.yandex.ru/yandsearch?text=%D1%81%D0%B2%D0%B5%D1%82%D0%BE%D1%84%D0%BE%D1%80&amp;fp=0&amp;img_url=http%3A%2F%2Fcs403527.userapi.com%2Fg40611363%2Fe_b4e8b2a8.jpg&amp;pos=3&amp;uinfo=ww-998-wh-591-fw-773-fh-448-pd-1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кота в мешке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images.yandex.ru/yandsearch?text=%D0%BA%D0%BE%D1%82%20%D0%B2%20%D0%BC%D0%B5%D1%88%D0%BA%D0%B5&amp;fp=0&amp;img_url=http%3A%2F%2F4.bp.blogspot.com%2F_SJm3-n4SO0o%2FTKG5KDurxzI%2FAAAAAAAAE8s%2Fp5xUyO8kb7Y%2Fs1600%2F1.JPG&amp;pos=0&amp;uinfo=ww-998-wh-591-fw-773-fh-448-pd-1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знаков дорожного движения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kuruh.ru/dorzn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дорожных ситуаций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avto-russia.ru/pd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ВТОРОЙ</a:t>
            </a:r>
            <a:r>
              <a:rPr b="1" lang="en-US" sz="80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6" name=""/>
          <p:cNvGraphicFramePr/>
          <p:nvPr/>
        </p:nvGraphicFramePr>
        <p:xfrm>
          <a:off x="250920" y="189000"/>
          <a:ext cx="8569080" cy="6721560"/>
        </p:xfrm>
        <a:graphic>
          <a:graphicData uri="http://schemas.openxmlformats.org/drawingml/2006/table">
            <a:tbl>
              <a:tblPr/>
              <a:tblGrid>
                <a:gridCol w="2141280"/>
                <a:gridCol w="2143440"/>
                <a:gridCol w="2141280"/>
                <a:gridCol w="2143080"/>
              </a:tblGrid>
              <a:tr h="1310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ВИЖЕНИЕ ВЕЛОСИПЕДОВ, ПОВОЗОК, МОПЕД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2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914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НАКИ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6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7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8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8229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ЕЗД ПЕРЕКРЕСТКО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9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0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1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2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ТРЕТИЙ 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TextBox 3"/>
          <p:cNvSpPr/>
          <p:nvPr/>
        </p:nvSpPr>
        <p:spPr>
          <a:xfrm>
            <a:off x="1357200" y="642960"/>
            <a:ext cx="67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КОТ В МЕШ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0" name="Рисунок 4" descr="ca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143080"/>
            <a:ext cx="1738080" cy="1425600"/>
          </a:xfrm>
          <a:prstGeom prst="rect">
            <a:avLst/>
          </a:prstGeom>
          <a:ln w="0">
            <a:noFill/>
          </a:ln>
        </p:spPr>
      </p:pic>
      <p:pic>
        <p:nvPicPr>
          <p:cNvPr id="3081" name="Рисунок 5" descr="cat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1720" y="4357800"/>
            <a:ext cx="1738080" cy="1425600"/>
          </a:xfrm>
          <a:prstGeom prst="rect">
            <a:avLst/>
          </a:prstGeom>
          <a:ln w="0">
            <a:noFill/>
          </a:ln>
        </p:spPr>
      </p:pic>
      <p:pic>
        <p:nvPicPr>
          <p:cNvPr id="3082" name="Рисунок 6" descr="cat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71960" y="4429080"/>
            <a:ext cx="1738440" cy="1425600"/>
          </a:xfrm>
          <a:prstGeom prst="rect">
            <a:avLst/>
          </a:prstGeom>
          <a:ln w="0">
            <a:noFill/>
          </a:ln>
        </p:spPr>
      </p:pic>
      <p:pic>
        <p:nvPicPr>
          <p:cNvPr id="3083" name="Рисунок 7" descr="cat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29280" y="4500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4" name="Рисунок 8" descr="cat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71960" y="2214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5" name="Рисунок 9" descr="cat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0" y="2214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6" name="Прямоугольник 10" descr=""/>
          <p:cNvPicPr/>
          <p:nvPr/>
        </p:nvPicPr>
        <p:blipFill>
          <a:blip r:embed="rId13"/>
          <a:stretch/>
        </p:blipFill>
        <p:spPr>
          <a:xfrm>
            <a:off x="1871640" y="2444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7" name="Прямоугольник 11" descr=""/>
          <p:cNvPicPr/>
          <p:nvPr/>
        </p:nvPicPr>
        <p:blipFill>
          <a:blip r:embed="rId14"/>
          <a:stretch/>
        </p:blipFill>
        <p:spPr>
          <a:xfrm>
            <a:off x="7729560" y="4730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8" name="Прямоугольник 12" descr=""/>
          <p:cNvPicPr/>
          <p:nvPr/>
        </p:nvPicPr>
        <p:blipFill>
          <a:blip r:embed="rId15"/>
          <a:stretch/>
        </p:blipFill>
        <p:spPr>
          <a:xfrm>
            <a:off x="4870440" y="4730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9" name="Прямоугольник 13" descr=""/>
          <p:cNvPicPr/>
          <p:nvPr/>
        </p:nvPicPr>
        <p:blipFill>
          <a:blip r:embed="rId16"/>
          <a:stretch/>
        </p:blipFill>
        <p:spPr>
          <a:xfrm>
            <a:off x="1871640" y="46641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90" name="Прямоугольник 14" descr=""/>
          <p:cNvPicPr/>
          <p:nvPr/>
        </p:nvPicPr>
        <p:blipFill>
          <a:blip r:embed="rId17"/>
          <a:stretch/>
        </p:blipFill>
        <p:spPr>
          <a:xfrm>
            <a:off x="7656480" y="251784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91" name="Прямоугольник 15" descr=""/>
          <p:cNvPicPr/>
          <p:nvPr/>
        </p:nvPicPr>
        <p:blipFill>
          <a:blip r:embed="rId18"/>
          <a:stretch/>
        </p:blipFill>
        <p:spPr>
          <a:xfrm>
            <a:off x="4870440" y="2517840"/>
            <a:ext cx="1285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TextBox 7"/>
          <p:cNvSpPr/>
          <p:nvPr/>
        </p:nvSpPr>
        <p:spPr>
          <a:xfrm>
            <a:off x="0" y="285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МОЛОДЦЫ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5:26:47Z</dcterms:created>
  <dc:creator>U.R.</dc:creator>
  <dc:description/>
  <dc:language>en-US</dc:language>
  <cp:lastModifiedBy>Турова Жанна</cp:lastModifiedBy>
  <dcterms:modified xsi:type="dcterms:W3CDTF">2022-11-13T20:00:08Z</dcterms:modified>
  <cp:revision>93</cp:revision>
  <dc:subject/>
  <dc:title>Слайд 1</dc:title>
</cp:coreProperties>
</file>