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13.png" ContentType="image/png"/>
  <Override PartName="/ppt/media/image3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  <p:sldId id="280" r:id="rId86"/>
    <p:sldId id="281" r:id="rId87"/>
    <p:sldId id="282" r:id="rId88"/>
    <p:sldId id="283" r:id="rId89"/>
    <p:sldId id="284" r:id="rId90"/>
    <p:sldId id="285" r:id="rId91"/>
    <p:sldId id="286" r:id="rId92"/>
    <p:sldId id="287" r:id="rId93"/>
    <p:sldId id="288" r:id="rId94"/>
    <p:sldId id="289" r:id="rId95"/>
    <p:sldId id="290" r:id="rId96"/>
    <p:sldId id="291" r:id="rId97"/>
    <p:sldId id="292" r:id="rId98"/>
    <p:sldId id="293" r:id="rId99"/>
    <p:sldId id="294" r:id="rId100"/>
    <p:sldId id="29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slide" Target="slides/slide25.xml"/><Relationship Id="rId87" Type="http://schemas.openxmlformats.org/officeDocument/2006/relationships/slide" Target="slides/slide26.xml"/><Relationship Id="rId88" Type="http://schemas.openxmlformats.org/officeDocument/2006/relationships/slide" Target="slides/slide27.xml"/><Relationship Id="rId89" Type="http://schemas.openxmlformats.org/officeDocument/2006/relationships/slide" Target="slides/slide28.xml"/><Relationship Id="rId90" Type="http://schemas.openxmlformats.org/officeDocument/2006/relationships/slide" Target="slides/slide29.xml"/><Relationship Id="rId91" Type="http://schemas.openxmlformats.org/officeDocument/2006/relationships/slide" Target="slides/slide30.xml"/><Relationship Id="rId92" Type="http://schemas.openxmlformats.org/officeDocument/2006/relationships/slide" Target="slides/slide31.xml"/><Relationship Id="rId93" Type="http://schemas.openxmlformats.org/officeDocument/2006/relationships/slide" Target="slides/slide32.xml"/><Relationship Id="rId94" Type="http://schemas.openxmlformats.org/officeDocument/2006/relationships/slide" Target="slides/slide33.xml"/><Relationship Id="rId95" Type="http://schemas.openxmlformats.org/officeDocument/2006/relationships/slide" Target="slides/slide34.xml"/><Relationship Id="rId96" Type="http://schemas.openxmlformats.org/officeDocument/2006/relationships/slide" Target="slides/slide35.xml"/><Relationship Id="rId97" Type="http://schemas.openxmlformats.org/officeDocument/2006/relationships/slide" Target="slides/slide36.xml"/><Relationship Id="rId98" Type="http://schemas.openxmlformats.org/officeDocument/2006/relationships/slide" Target="slides/slide37.xml"/><Relationship Id="rId99" Type="http://schemas.openxmlformats.org/officeDocument/2006/relationships/slide" Target="slides/slide38.xml"/><Relationship Id="rId100" Type="http://schemas.openxmlformats.org/officeDocument/2006/relationships/slide" Target="slides/slide39.xml"/><Relationship Id="rId101" Type="http://schemas.openxmlformats.org/officeDocument/2006/relationships/slide" Target="slides/slide40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84F-8DCB-498B-B95B-577D6E71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8A2-9FF5-4388-B7DC-24B69FA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1BA93-9975-40AB-9D41-90ECE6AA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DE4C8-1449-4220-A343-EF0FAE6A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6456C-4907-4F07-BDBB-3BBBCB9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97A6-A954-49F0-8E34-A7A7AEA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EE356-B624-46BC-977F-13915231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D6FDA-A29B-47D3-89FD-5E54EBC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0CF98-9448-4F1F-B766-D3690F5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16CCC-F8A1-420A-8A9A-452AAFF7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69CDA-BC6B-4AB9-A4F4-AF1C0D44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FFECC-28A0-4813-BAE0-E2DF055D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77D-1D0B-4A35-AF8C-63F27CBE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C8C05-03A5-4A69-8E2E-0406433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DC4A0-78CE-48FE-AE52-9FACD90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9E849-E5E7-4D57-950D-21A0555A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6FFBA-FBDA-452E-A466-B1D95ADD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35BC0-C5A5-472E-87FF-64B65D3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E4A10-3B89-494A-A07B-168608F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FB88-0555-4E90-9DDF-A3EE0D6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2E253-315D-4E39-8BC9-7094F4C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96E14-6F8D-46B4-B5A1-9D98FBAB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FCAA9-B52A-4EBF-8501-2B5E114E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BB6-9E26-4C43-9286-60AFBAC9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5585E-DB01-430A-B648-04E9EAC1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B12B4-8624-4DC5-A344-16AB6AB0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80665-ADDE-4CF9-A2E7-60A2AD68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14037-B454-4632-B582-EC7D5DF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E96FD-BAB1-4840-81B8-3FFC2F00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67E31-B97D-4E6B-A321-9E108797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5F8DE-3810-4849-A056-43725D0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1D0BF-0AC2-427E-820F-4F8F21A2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F0CE5-3803-4CF1-A5EB-3D43B515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4B240-9B00-47ED-9556-8B60C78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076-A69F-4676-9641-7DD91C16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A49D8-4795-4616-AE30-AD2F299F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DB6FD-B6FA-4F09-AB9E-8AB43757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FB3A-AF52-407C-BF42-51BBCFCC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AF61B-F454-45A8-A0BE-FB0260E2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A8BDC-AD40-419C-A89F-1D2CFFF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82F4C-A39C-4146-A015-AE44475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F2028-DD51-4B96-A784-1233D5F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46FF4-E9F7-4438-8EEF-4A1CB309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2C6EB-CB50-48B5-847D-1607947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AD601-BD27-4A40-B93D-0A96503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B596-4177-4F42-8658-505130E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40305-DBFC-4CA8-A41C-B634F66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90EE7-A3FC-45B1-B6FA-49E310CC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47EB0-6FFA-4797-A1A5-504568EB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8A6A9-DDBD-4470-8558-94A21171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AE25B-676A-4D2E-80C6-8480A838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06484-449E-4334-99FF-A79C644E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80BC7-CD46-4948-9EC4-9120948D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0E207-CCC6-473E-96EF-DC73A90E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A7E7D-371A-4F73-9E38-E8966440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1BD1A-9BDD-4158-B47A-FF85314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68EB-EECB-4991-94DC-887B9AC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DAE1A-161E-48FA-B5C0-CD51875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48439-84CE-4CEB-A4B4-3798A93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DE3FD-95B9-441B-88D8-BCD7945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AB65E-410B-4263-9678-25BE860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B9D34-12A9-4911-BCF7-925C4950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96C90-E9DA-4E4B-8F66-8CA39A99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F3400-FF13-41BA-81E6-4B1B05DC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7F7A8-57B1-4AA5-B4C9-6B346C2D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3D9D5-FCFE-4624-9C5B-9E15EE50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94EE3-137B-4B17-96A1-97B446E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3BE7-F446-4825-8231-727CEBCB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AE0E5-DE9A-4EF0-A73F-4EC03AB4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E0621-1CC9-4E6B-896D-58782E4B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F19A1-9301-4A75-AC25-A6E3315B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213A4-E042-4B36-AB91-695D020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9E11E-5207-4488-B09D-1CE0C7DD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FC425-6C57-4D6E-B88A-45A4BCB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99978-819B-459D-9C9C-E7FD05F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B248C-FF69-43FD-990B-4FAF08F9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FF792-58B7-46CB-A42A-4FE7AB33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46D5A-C6A8-460E-A62C-AF661D7A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8FD-EC57-4BE1-B0B8-38F54405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94A18-335A-4853-8C14-E9D775A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EE5C5-2A79-4520-AFA4-D21552C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0E91F-72E2-45AA-AA5E-DEFA40CE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EC883-C9ED-44CB-B970-F00434D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A52F6-A392-49FC-BC3D-54FFE3B3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E914D-6A08-4700-9D1E-666BF46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C4292-6C59-40A6-B191-730956A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345D6-8C36-45B9-99C2-DBFCC83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09855-9E4F-4678-88A8-7F22A9B6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25FA9-F851-4ADB-994D-7E3431C5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CE3-1C0C-4870-996C-66AF6DB8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FDA31-EAFB-48A1-BE66-DFE7975B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9B902-1B45-4468-8BD9-5BB13475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51BD0-5FED-47B6-9FA9-5BE1F52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2747A-FAF3-4157-8890-515AFD3E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E647F-8191-41ED-BD70-ECD46679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4C33A-B77D-4FB0-B994-A3F0D64F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314AE-717A-4E19-BBCA-4105FE2B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D9090-64C0-43AB-8D94-251388B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BDC5F-0847-4B4C-A1AD-93E4D1DF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CC21B-09F1-4FDB-8464-DA92B166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0A5-51C8-43BC-A807-4824A11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D1CD9-090A-4966-B37C-CF5B5E7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DDFEC-5C82-45D5-95D1-A9A746D0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7D3CE-64ED-404B-8ED4-8EC53A47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9B4EA-548F-4D9D-B414-69A71C06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B1A7E-C036-412F-87F1-BC8C00A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23740-033F-4592-9F3A-B25386D3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68470-7CD7-4338-9329-B0BC16A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3EF6B-CC60-421A-9DD9-252638B1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621C1-90F5-4A37-9418-F9A692B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4F175-9EF0-436F-BC90-91BEC485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386-40CE-4A6B-B747-C309A23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C83D-2C35-4E41-893E-6B789E51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D0482-39FA-412C-867D-97738C58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2178D-4B64-4F23-A11E-396EC15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D050E-0135-4BF4-AA9D-9A0CD20A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46BD8-9BB5-4EB5-A18A-D272E3B5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26ED2-1126-439A-A7DE-7BA72FF8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1AAE0-51CD-402C-B406-454851EA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6E18E-BA74-438B-BCDE-50C45858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DE4F1-48D4-46B1-AFD2-11E8296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86EDF-98F7-4395-8A83-C54810D8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D5526-B41F-4FC4-BF02-C4BBFDBE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08F3-4B1C-4099-8267-8252190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BA7FE-71D6-40D0-9804-34FC5429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ACE2AD-1069-4FB2-8FBA-E365C11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0AF10-A114-4D4E-B034-C341C09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08FDE-242E-4C20-B8EA-40393DC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67E61-EB24-4A95-B938-85D1FCB7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7176B-17DE-4DE8-9F16-437FB132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90F24-4F12-424E-9D3E-BDD9E90C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7C85F-CDB6-4A1B-90F1-3EEA78E1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FF2B9-797C-4CB4-B839-B5DDCDC3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7B786-AE91-4823-850C-DD0D430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07DA-D68F-47CC-A8C7-E1FC25BA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0C5C1-A9DF-4879-9522-F874486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C683C-0EF0-4E74-A4EA-820EFD41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E617D-D417-4A09-95E4-B07E7E7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6AFED-AD2F-4F15-AB69-4F2BE6A1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43371-A3F6-42C0-A42C-543F91C7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BF858-F438-4794-BCB7-558103C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9842D1-A6E0-42CF-8046-8916C12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17B3F-A564-4DA2-96BC-6A2A982C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F03B2-8C9A-42D8-9E9E-154F1233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90484-8CF7-4225-AF55-98C1CECC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AD0-3C86-49C3-A43C-C5D45367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9963B-894B-4FD7-89B5-A4F60DA5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64A9F-12FF-42B5-92CC-FDCC2E50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FCFF4-46DD-48DB-939F-C2DDEBE8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63916-7DE4-4FCE-92A2-5AA6D655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33F19-5CB1-4E0B-B02B-AB7D47F3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CA925-1AF7-4F3D-B6E4-7E16496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0B43C-25CD-4027-889A-F8506B3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30067-0D6D-4309-9E4C-C363C25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105C1-3AA9-421D-88FE-50847489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63F55-7687-4791-86DE-FC7B5999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C969-C625-4E2A-A2B9-D9DA0733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DA469-ACE6-4A11-8E97-6FE3196C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F0A0BD-C400-42C3-BE7A-1F843878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5F1AA-92A4-4ACD-92FE-9C50FFBF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1AB64-99A0-40D6-9FA3-B011C1E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292BE-A9F0-421E-A564-A971D1DE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B9933-210F-4E8B-A35B-C17E743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D5E2F-9509-4EEE-988F-C7A10C4A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428AB-7AB4-45A5-8CE1-3933A49E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D20A0-5C79-4973-8999-BFC565C1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9D2AC-CF43-4987-B7DB-DF355B7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FEA7-CA70-4C87-B966-272623F4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6D88AB-0AEC-4CA3-8E13-4563728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0C7AA-2D77-43B5-8DA6-9CCC097B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726EC-154B-43A7-8D63-20C46597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79FA9-8C5C-4AC7-993C-A32BF995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15F1B7-7EF8-40C0-A27F-2DCD51C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93456C-D0CB-4A6F-BE26-41376950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BA430-CC61-4990-B744-1C50A92E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7ACC3-709F-4782-9586-D835166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7BDA4-2091-4EFE-B2BB-BE0B527E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3A715D-80E5-42E0-AEA7-8C8F436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2334-31ED-459C-B2EB-CAED28A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14A8F6-8FE0-4854-B8EE-BF7020B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7E9669-D543-4897-87B8-C95A0B81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89A13-7172-4D6D-B134-05CDB09A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6FE750-77E9-43A4-A0BE-FA37BC3E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51970-1F44-4D85-AFEC-8ADC8061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2BC59-9B74-4254-B3F8-9070F7C9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AA0F4-5158-497C-868C-0AB446BA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75991-CB1E-49F6-8990-F36210DC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65367B-2A76-4DCA-9628-19A895A5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1F64F-3794-4950-B32E-61270D0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BB24-ED1E-4A9D-AD32-DEED24E4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3B645-1E98-4389-A220-4513C3A8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8C75A-F361-4DEA-909F-99587E4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6BBE2-3DBF-4D00-B0D7-3D0AC21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9A3B34-E8B7-4C60-86E7-5FABA697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275169-6488-4B04-B513-7398936E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E07A22-17A0-4013-AEE7-44568921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5DBC37-26E4-4F76-8E55-0793F23E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6A227-4BCA-4F51-98C2-AE0BE712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17A581-FF67-4895-AE3B-757467D3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2408B-8F80-4C7B-AD16-24A3EE3D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3FE5-9BB5-41D7-8A15-33E4924A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6750B7-F90F-4908-97F2-D19D032A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B7E139-43BF-40C8-833F-680BE8D0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4F51D-B908-49E5-B674-8B110836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6E92EB-827C-4E2E-8FB1-A7BEA813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EF7C8A-9330-467F-8BC1-B6C67F89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39860-0BCB-45D6-A4C7-C6BD93F3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7242A0-23F6-48B8-B4A7-AABF6554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C5891-D169-4895-A402-2A08BC63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DAE4E-3866-4E22-93CA-9471D09E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0CF9E6-3887-4316-9E44-E6C3848D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1AB5-C438-487D-B05B-FFFF68A4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72417D-CF55-4F37-8B49-C4C0BDF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06567E-7D8A-4B77-9896-EE65C623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6AC66A-E310-48A2-A30D-0F1C8DB6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34C89A-25BD-4AC7-BE72-DFD4CE88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4DAC28-DC08-4BCC-8ABC-F477E6BA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E4894E-27CD-491F-B010-4D745704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A457C7-1680-46FA-9F81-368758A7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2518B3-0F8A-4930-995A-1FD293C9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59BC03-10DA-40E2-8090-D66D796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933A66-AA88-460D-86FF-B9449D3A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202-AECD-46E3-AE85-875FE9D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8901-DC17-4071-8AC8-CBFEF5D4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1AD052-3213-4471-A3E0-97534B0E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113EC1-7296-4178-98D2-F89DCD79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449292-4F0E-4C79-A976-85E7097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B2512D-A480-4BC3-87B2-1A7A79EF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2825D5-AAF6-40D4-BAE0-866E085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874919-C9BA-429E-8034-FAA1F939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71BA1F-81FC-4FAF-BC39-D962150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083017-E70D-4FA7-823A-CD7E4C0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BDBFDD-E462-47EE-9F9A-54F9489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D2A3EC-4C04-4E5C-8E04-9340BE8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6800-1424-4A01-8C05-A97B647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E82A4A-3868-4894-91A9-F0B04E83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AB2CB9-BCD1-4A95-9DB4-4E60BBED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47EED-B6CA-4620-B960-4EBD4D48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CA9B7D-A3E6-4682-9DFF-F79864F2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586C6A-3C55-4B62-B232-C35E0222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A0155F-08E6-4F3A-A4FD-A45D6357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4E1DAD-92C2-4267-A985-23FFF79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5F7F8A-F73F-4983-8219-22D4440C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342A71-91D7-459A-A836-845B6D39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DA06F6-89B9-417B-B3A5-FEB0029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AC1D-F0EB-4800-BD4C-62DC8CC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BF8AFE-54D0-4C04-86F2-A505DFEE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BB3B80-DD7D-48A1-A2A5-77DD37D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036812-B4DD-4661-B40C-D4B42BED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60CA74-3BC4-4882-8AED-E6094D57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7F1148-1950-47D0-8C14-7EDA27F0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EC89C0-B64E-4EBC-BAB4-56E96D20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CFCDDB-FA7D-4A60-B42B-3513C531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3DAC1C-B25E-4599-946B-9FE5B1B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1EE454-DA7D-40F4-B1A7-9FC8CC93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60E68D-7B7D-4289-9856-916AF95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789F-1AB0-4CA5-9B00-4750B6A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952A5E-64C2-4378-8CF5-AE27E46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AF8785-F30C-4050-9907-3200565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DD29E5-FA02-4F73-BC6A-B25F485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2672DA-B672-4380-8949-72D46D1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A00669-54F3-4298-A38B-F52B6CDE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C698C1-EB56-49E1-8069-8AF27832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63DA11-8632-4A47-9CCC-6F26D00C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2433A7-A9DB-4446-848C-E6611CD8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CE6EE4-27FE-4E62-BE4D-2B1F427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4E9C52-08AE-49D7-B6AF-ACF0947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793F-8472-4B8F-AAF2-0B272CA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4706FB-1EF1-41A2-B230-ED1601E4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AEC0A1-058B-4B59-84BB-8C6A2D1F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151052-C9B4-405E-B346-CB50BFE8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E44C94-B2F9-45BC-B5F8-2067C05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AD419D-D658-4D93-8ACC-100EEB6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14822A-1B27-4650-AB97-94237B87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FC92AE-4CA5-4925-9ABF-9F33B79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A55B98-BCA8-4936-A628-7BBA536D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AB53FC-1B5D-40F4-8A6E-66608553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A3D642-B253-4F87-BBC3-5036FD65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191C-AB1C-48DB-8B58-E76DEFD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34F53B-6B09-484D-B06D-24E4C469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612624-38EE-460D-A315-FFBFA11C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ED0A14-0947-4E04-9596-1127F702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FB354F-549B-4A59-BE1D-98DCCE3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BF45D6-9F55-40EC-9294-3EB8EB25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11E49A-8D23-4726-91A0-3BE5AB1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CCB80E-1FCD-4894-99BC-EA36D3B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F46F9C-F69A-4363-A904-561859E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352D87-010D-4561-A6D2-6FB25AEF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566A06-8F70-4313-BFE8-985E8FFE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6FF8-F229-41E7-8E0D-74E05D85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B371DD-8DCE-46F7-BC6B-49B1AD18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9255FF-7681-4849-9FA6-B390C52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25F3E1-BAE9-4284-AEBC-20113D94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B8F13-7456-48EB-840B-65D9F4D5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A44422-0CAE-4076-807A-7FE3080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5434C6-5B1A-4CDB-B856-C7760D46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AF9AE9-9897-4528-9D88-3282733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2197CE-0122-4976-90F5-FE92668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A51B2B-1349-490B-9054-63D8677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A942D1-3D56-4FE3-9F24-E7EA444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CD10B-4356-4A49-88E3-13E4B3B9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A4FFBF-184D-46F6-949A-292776A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E24893-6106-44CC-BDC4-732519D7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130A52-AA10-41DA-BCD5-E3A16F0F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3C4F96-9F0B-4D0F-9C63-D3B38CFF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20878B-F68B-4A5E-BD83-8F0662E6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F87E8A-BBE4-4B9C-908C-583F738F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7AAC74-AE53-42AF-8121-044BDFDF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22F0C7-A2B8-4876-B2C5-40AC86DB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0DB38D-E973-4CAF-B14F-81E0C56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C091B8-3128-4CD0-B0EB-979B2F3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AE5D-78B4-443D-8860-50705A2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179F1D-B32D-47CE-BEE9-725D7E72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C75B0C-57B2-48E0-97A3-632F1A1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5A2D53-C378-4B0F-A6BA-C658222C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1A95E2-E14A-4BB7-B44A-B103705C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5C2A8D-17BA-45DE-8464-A0C8FD89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2F2114-4661-49B0-ADE0-2A9C4A37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0CB074-F559-4308-A5AE-21B0F0E5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651CAE-6EDB-40D4-85BC-B10F6DA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0086D7-FD52-4DB4-9306-1D484557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DA6F8B-CD8B-4CFC-8EE7-9671A027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1E6E-6625-454F-81CE-465E85DE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9D358C-E6C9-4002-A45B-2BA558F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836A3F-90B3-4967-BF15-78B9D53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EA89A6-9672-4995-A0C6-72A8126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35EA0C-5F36-481C-ADD3-5D7D214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39E3C0-4167-4DC5-BD0E-4DF42FA4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6986C9-258E-4BFF-9CE1-1D7FCB90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3862E8-E569-40FD-8180-D753CC1A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9ACD8B-46E8-4F7A-98A9-B082F144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8F4A2F-127E-48AB-AAC3-8EF7E736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A6A0BE-A195-44E7-A416-557107D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45A-4D39-4397-B7AB-F46B0BF4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1DA5-2C38-453A-83A1-69AEE83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644B0-121F-46FD-AF52-FF280081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A18C76-1F39-4A3F-B5C2-46AFAFD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F4BF96-900D-44EB-B5C9-A991731C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690C73-3676-498E-9E15-BFD9A0E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49B345-FAF8-427F-B13F-0B7492EA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4BCDA7-4D84-44CB-81F1-3833DEA4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9788E4-D654-45A7-AB65-9FBE892F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660E5F-CFFD-4DDE-8DE3-FA009DB2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6C0DA7-32BD-4DB3-9EC7-0B546832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B91156-C4CA-40CE-B8B6-38F435A7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DA72-4B50-4BEF-B81A-F329A10D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ACE0A6-08BC-4108-AEEC-F74FD58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B2F5B9-C22B-46AE-B298-C28B1CC1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1BE08A-3A9F-453A-81C3-FA29DA5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9FE807-DFB1-427E-B245-828767E7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C3DF48-E3A4-4731-B506-A84E89B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49693B-117B-47DA-860B-CE503EF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5D747E-D36B-44F2-9634-58D86189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D9C40A-DED2-421C-92C4-447296F5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E4B41A-721A-49C3-AE32-F67EEAA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FE8C0A-3125-477C-ABE7-E92A9A92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BBCA-493E-44D4-B2AC-EB575DC4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2F7524-4250-4A01-8F38-504A3D31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2BD5AE-149A-46CC-9168-2C89FB6D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77BF20-96B6-40C9-BD20-61F4DDE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580079-7E4A-4043-8F6A-F5FC7DE4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362EEE-F9CE-4638-9813-FB18487F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64171D-6CA9-4A84-A289-1653DE8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E8ADE7-4261-4FF3-919B-542EE3D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BCAA10-3155-47CD-8E5F-FCD2E4AE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6797FB-04E9-4A53-83E7-5A63CF3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36F65C-5DF5-4F74-831B-A7109C1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9839-C612-41CA-9336-B64ACE5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CD92BA-F5B6-4EAB-A0BF-4EFA9613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948BD2-AE35-4BEB-8031-4A6263B5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6286B5-F922-4B7C-B284-5186232C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031F94-8B37-4FF7-BD31-565FC0EE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5D3685-0E98-42EE-8CA5-A25E724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07C21E-2059-4DBC-A6CF-9EA878D8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B6B1F9-33D9-4EA4-9806-CF50877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DC8A2B-0622-4670-A395-42710039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D0206E-D2C5-470E-8CFA-CF6DA64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196D3C-4FD3-4560-976A-0D299FD8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9990-6FAD-4C6C-BFD3-E3584A0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B89800-F339-4B85-BB0B-78AB3BF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D3F84F-01E0-4B6A-A56A-8E5322E2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D16F81-20F6-4B88-BC87-13C3E61E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EE5816-BABD-409A-AF36-3FBE2E91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4A8DC4-8710-4894-88DA-DED0E801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31C886-682D-487D-8E1E-156E5F9A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4D16AF-DD92-4E06-A069-8087372C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1953F9-3116-4A2C-A0E8-80CA4D00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E9EC79-E999-43AA-A5C1-95578B9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387449-057D-48C3-BC7B-B960376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6085-9853-4886-B0C6-15E2DF7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14E784-E6B2-4616-932A-857150A3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4DB6F1-9D5A-49F9-B340-585E23D2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D0D956-674D-4EAF-AF39-71E8742D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FB2835-7E1A-4220-8D63-C400A94E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54A964-FBDC-461A-B6FC-0EE0F57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50D672-4BE7-4092-8C1C-AED408D3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6145E8-6C95-4054-9324-32DC0F12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2C8978-CF57-4EF8-A4C5-B2E8288E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8C862A-2024-4B44-ADD8-AE38DAC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B7A7C8-7BF6-43C3-B0AC-4C779546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B1687-502C-4AED-8615-8E75ECC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D4DD7C-503B-454B-959C-A13A453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7885C5F-082E-4339-BE96-CFA6663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48B0BD-2E09-4131-85D5-8CA59EA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1171B1-15F2-4391-91F0-461E5AA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ACB1BF-2337-4DDD-9186-2779FC8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C98AAA-C013-43AD-941D-6B778BC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5D77BC-B36A-4E3E-835A-368D6FE9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5CE574-B183-411C-AD94-3711ED11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DFCF7D-1930-4B86-9CC4-29BF525A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9ABFA7-1197-41CB-A1A4-0577B9FB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244E1-6097-460D-91DB-BA181A04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821044-5E1B-4E77-B564-54BEB7CC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D59BE3-857F-4364-A883-3EDCC75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20FA2CB-4043-4C07-A290-C54E167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EEBB97-C5BB-4246-AB2E-E146B54D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BC93F40-79BE-4E12-8FAF-8219F16A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86F8C6-0793-42FA-B4C0-22C0351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FCF7FD-588C-4E8D-BE83-084B57C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969A0F-920F-4E4C-A59D-91748FE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E35432-69CE-4DB6-9DAF-B0D0EA1A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BFE7CC-9E28-427F-9B65-78D4CC07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4B924-5B6B-4EA6-BF55-C3B0F44A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78E7B0-9E01-4B15-8493-0BE68620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488522-2371-42C3-B055-D2DBA71D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39A15D-57D5-4299-9515-80EE10D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B131AC-CE7B-4ADC-B461-3414D47C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32A3B1-270F-41DE-A7DB-7CAD121C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1B78A92-590F-4DBC-84BD-98764430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B28FC5-F76C-4BD1-8983-A9562B0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F73121-791D-438B-8CE3-702A7043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8E7BCB-3C96-4089-899B-47EDD68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7D1956-D019-4B86-8247-3129541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9F3A-9BFB-4F6D-BBDB-109F7BDE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29AAA0-1965-427E-AB1C-0CDB014C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0981523-1766-4CFB-A0B6-CEFD352D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30BA55-D32C-48B9-95D8-7BCE8D49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0BC711-818A-4AE5-A076-4D898B54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565CDA-6F39-4B37-8EC0-A3167789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4D408B-4726-427A-8FC4-A8568B00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85CD64-BDCE-4813-946C-F7C311EF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28A905-5DE4-4840-9AE1-CE7F499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4FD8A95-D3E1-4487-AE14-A8A77980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0590D1-0ED7-4E3A-806F-80112F55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C63-E620-457E-9930-96EE3BB8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AAFA8-4179-4C2D-8C0F-82059C4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38DB6F-4FF8-47D0-B585-FB7A18DF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0C6C65-877C-45D7-806D-D01CD8DF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884827-611F-4B49-8016-6C34582F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141782-F1B8-4E70-AA55-6826B675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C14003-24BB-4C13-9A73-2AAEE6AC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56A597-E0FD-4971-A9C3-1F9B401A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83AC42E-83B9-4203-AB33-C907FA9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468B86-08A1-491E-BE5D-11D1C2BF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DEB4870-7D1D-499F-845E-E5005541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13C795-869D-491E-AA8A-76E860FD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53F8-B237-4271-B16E-879E2AF2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3591B6-E381-4ECB-871E-E43F9A92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73A9AF-2DC2-475D-9113-5F237C15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BA29E4-49D6-4D0F-845A-BE59728D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919681-7077-42B3-9648-8E81B90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728CBE-A0FD-4431-B39D-2467673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0D5ECE-F339-4F84-A9B2-694EA5D3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F2F023-78C0-47E4-AD7E-BA7BF8E7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DF54516-D757-45F0-A8AA-CDEA7F79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7CF921-8430-442D-BA83-B8585BE6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72914A-2D1E-4A30-9027-6AA7A6AB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E23EF-FC10-49F9-865A-2510EF9C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409D85-F9DD-4B56-A8B1-3474B5ED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3E4C9E-B722-4695-9978-27AF53E8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B3D4EE-B60E-493A-87F3-E420D73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5DFAC0-A45C-46EB-97DE-8B7A52C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45780D4-382E-455E-9724-93FC1A06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B5B86C-66B6-49E3-8A1D-E4C7FA73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E5965B-3057-4D60-A3BF-699607F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397BCA-85D2-46DE-969C-E64A8EAE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E57509-CDFF-4721-9FC2-B2064FAA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0A6805-5072-48E3-AD13-A0B3242B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A0F5-8645-42EA-90FD-BD3A47D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846A2F-173E-4416-BF20-DF23811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078B22-AC96-4324-BEA5-8A6CFEF1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C10BF8-903B-4327-92F5-C75DE03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884C13-ECF4-4676-BA4F-9E52293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4167CD-BE05-43FC-9AED-2016E7FC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9AA851-8746-4801-BC14-6B0654F2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FBB987A-EE26-4746-ABD8-97BF9FC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9CC9CAB-2A50-4FE6-BD6C-69AAEE5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24833C2-55AC-442C-8EC0-1440D66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980B9E-CBD9-46ED-BD6C-16B35F17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88FD-7689-4777-B91C-3BA9BD68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918BD2-759A-422C-93A7-C44EC405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4EBAA3-105F-455F-B982-B04B1C1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8137092-BCD7-4338-B615-FD76FC7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BE5571-C092-4B38-81D0-B23F1587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F04654-4859-4012-A7D5-C60E8C10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76C8DC-FF37-4489-A99A-427D0DA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9275F6-1F90-4264-9611-B1D55BD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4426FB-459C-4C9D-BD35-DF73BACB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1ADB37-C968-46C5-8696-C6807B3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294A5A-C476-4847-ADAC-4152340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668B2-02B7-4D9A-93A7-B9AA466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55F910-CAF2-4952-BDAA-8DBCB14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68B5DF-0B83-46B9-9223-A5111871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265997-CEFB-4D46-B2BE-64F696B1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2874F1-0EB1-47A6-B7B2-C4116832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C2B978-44B3-479F-BCD6-8FA58030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1E47AC-82D1-4972-9A08-C2802979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F98F0EC-4953-406B-A4D6-D803431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5249FB4-0F32-407D-B0CB-8B6DE6D5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6D93409-C30D-437F-AF66-4557131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7374DE0-0F59-4DCD-B358-0FBC32F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1A23E-C70F-4C7E-B0CE-2BF28548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993710-D26C-4BB5-B95F-DBB16EA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F6AE27-F7BC-42F1-BDD5-189CBD1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F3F221-9514-4187-A9FB-3D4C8195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E83836-5DCE-499A-83FC-DCE4D7C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30B53C-38E9-4A18-A38E-19CC77A2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232F5A0-EB32-4F32-B61C-260F7EC1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12494D-4525-41A0-A530-8A895C8E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BB9E25-1CC6-4491-98EE-DDDDAC94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E34A71-D234-448C-A378-1B62AF3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D2C910-0EB5-49F3-A670-662C234F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C90F-AAC6-4263-8C90-C4F19E4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23155F-CF2B-43FF-A76F-19321563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2F3BF2-2419-4462-BE64-DA8BB64E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AC8AF5-10BA-4C45-BA0B-6FD4F8F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AD667F-9DA9-494F-96FC-C6AE254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D588EA1-481B-4C87-82A3-657F6618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359326-BCF5-40CB-99EB-E9AD6F97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9B472F-09FE-44C0-B0C8-3EE75598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290CD6D-24D1-4FE6-B1E2-AC9CB3E3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887A9F-60BE-4721-A3EF-5781EA8F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E1B6C1-B587-4C80-8273-8713398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3F0D-9737-4B86-8E1A-372B633D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ECC549-F90D-4BAA-ACC4-0CE8B3B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4A1536-D301-4941-824E-E2AAFEF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B166C1-83DA-4E4C-82F0-F27758B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9B4F693-04AD-48BE-9437-9143CED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9442397-FB5D-4DB8-B844-0D30635D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005C20-0991-4EBB-9E9C-E2A2E58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D810118-56B2-4604-9673-D463BF0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E04744-CD3E-449C-8CCD-FE6D955C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920AB1-E488-45EA-ABBC-5F2FBDD8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9600AD-F994-4C59-8F00-CE8A4FCF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C615-75DD-4521-BD99-638C7C04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AF3F84-5F2F-4B60-82E2-35DDD42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C0FE9D7-41B5-40C7-884E-312FD9B7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8B1E4D-57C4-4EDA-B7CC-AF722923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58167BE-02C5-4A3F-9ADD-E3F539B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DBB71A-3BAF-4D31-963B-2A76E76B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F39F9E-72A3-4E6C-9D06-ED78C21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FC6AAF-1E7B-48FC-A67E-53E30D8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B4C1D9-0B9C-40AB-BE8B-360DECD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460CFB-6BC5-474E-8121-168D615D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CAD028-691C-4A10-8F14-7AF40221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1FE-3287-4B9E-8A40-77CC5130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9884-52E5-48D2-A807-ADD298BB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441348-393C-44BA-8EBA-E2ABFABA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B34A985-D25D-4A1E-8238-B5AD4226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91978B3-6C13-40ED-9854-1EC99E4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9C8384-E467-4D58-8DDF-63152C90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67052F5-1428-4DC3-940D-E1A692B8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6DBB9D-A8A2-42AF-8158-037D2F42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3FB964-60F3-4FD6-9D60-B59A493C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FBDD34A-29DA-49B4-B0AE-72404CF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81B6070-1971-4B5D-930D-B0D4522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9B2293-8355-44F2-A549-09563E8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4ED6-F7F4-46F7-89D1-1858BB73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00CB029-42AE-45FF-A6D6-345F2D38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2D44F57-0C71-4D49-B143-5EE9E021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0EE28BF-5F3C-4D82-884B-5C8D8819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D5E816-D3D3-4E82-8174-A0DEEC97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AAC24F-D6B0-40D3-9ECD-FB405F65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9C68342-E517-4A9B-9D0C-F01DDBF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2195ABF-2EC9-45D6-9EC9-42F1F6E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043ED0-B483-4BC6-9783-CDFAEA8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5676E9-3FDC-46D3-8D5A-721FC4B6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2DA2CF-D046-42AD-9E44-9C9B56E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8559-B307-46DA-9189-81E06AC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6A309B-F167-43C2-9C9A-A0087B66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F0F215F-AC73-46F0-848C-F5C4DD4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D4C4072-EAC9-4AE8-BD9A-05AB0F7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64D67AD-9BA6-4585-B6F3-4998B6A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63866E-1EFD-405B-9335-A5B5A504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68EC3E-A667-43CE-88F3-0C4FC899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9388492-CC5A-47DA-BD87-CD871CE6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90CE8E4-DBE0-4D9F-8DF2-7667BB3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7BD8409-7A7F-4FD4-85F0-10FA2BC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35D1926-EAFE-4AB1-835B-8EBBAA73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4BEF9-E801-4411-A7E7-5093AD0C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75E78E-6221-4E1A-A398-BAED483B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82BB3AF-F124-4BDE-9A4B-730FE7E5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4B0B1D-EBED-4A3C-A0E9-704C205A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58F810-F1F5-4498-979D-FBBB1705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17943DD-C5BC-4703-BCE6-F9100086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D25B0A1-079C-4477-A57A-5F7C49D4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B5AB3B-29D8-4838-8B23-4EC9698A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0EE95B-75F2-444B-A15B-94BCFC51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EAB1C3-A8DB-4EAC-BA16-54F3E6BD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70A985-D18E-44F3-94EA-896398E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CA4F2-6091-453D-A17B-F6A6CDF7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107B77C-2AF2-4B7B-A7C5-C3818EC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1D20E3-EF9B-441B-8EDF-524C111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403C3A-03EB-4F89-A808-A3838D6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A5C75F-E6EE-4004-BB3F-458E57C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500330-6B29-4DB2-81F7-A69784D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55D47E-A78D-4636-8E04-F182BC14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C51CF5-3EED-4AF6-8B9F-D75529F4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8F288F-3A25-45E6-B259-2AF60551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C642506-3EDD-431B-B220-1E197193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23B09EA-44B7-4C02-A4EF-7EA5EE8A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1118-86B3-4EB0-B196-5092B811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19B619C-E527-46B5-BF63-7AD2381A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9669803-5A0B-4C3C-99BC-062C977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21BBAD-521D-4719-A17B-03E74FA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11CAF5A-CE8A-4960-AF09-0AABD98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84C5E8-9104-4ECE-9470-298175F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2989187-2F72-4534-87BC-7052A45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E57208-4D26-4B5A-BF9C-D480C8E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69C6CB-EB8F-42FF-A8B7-A1BEFE6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CAC57AC-260C-4183-B36D-D2B0894B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000AC28-EF6D-4D02-9FA1-F679639F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7C5B-BF06-4394-A9A5-00BB4452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D35D70-59D4-4FFD-8625-D1FA67EC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E360306-5D64-4261-A60E-31FD0A4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3DBB70-D97D-404D-B916-9F5D4CF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036D25-4C2C-40A8-9624-352CBC1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5211AF-C3FB-46EF-8D50-E9EBFA7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0B9CCC-9EAA-4500-8513-144CEE7B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B9EBF4-BC48-4D0B-BB13-4644C696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F0DB140-6F02-48AF-8F9E-01D9694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D14937-B012-4F63-B18D-8EF73C5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223E29-2578-48DF-82B1-F19E353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EF771-6ACA-4682-87B6-341E781A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FC24F0E-FEAD-450F-96BA-179E672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CBD47A-8403-4BA0-ACDE-7E9C428C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7DEFD5-1B63-41B8-BEF7-456B0287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4C4D283-DE44-410B-9E15-068F150B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7135143-C103-4324-BF07-5DBF459D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DE9E9C-D9BA-4108-BB9C-663F454C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6896F68-1E9D-4125-B1FD-E588FD12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20C8AC1-0D94-40F6-A875-637E50AB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1C9461-97A6-4D7B-8D27-F8BB04E6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9DA5450-C390-48AD-AC3B-96FC332C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0D9D-E72B-43D1-90AB-58E018D1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BA3ADE-2B98-4295-A6DE-0E0CB91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4CCC82C-DD90-4E60-88B6-BD908C0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2A4E52-57B7-4AD7-AE79-FFEE4480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B4BB9A8-E4F1-42AB-A0BF-EA9ED829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BE1528B-103D-435C-ADFB-2BAE90AA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C3EE207-24DC-4329-B3F6-959A8AD3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378E79A-B291-4AF9-BE02-2794980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07FE61-E150-4889-BD4E-D3378F9A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DC30E5-8080-4723-A0A9-F13DD59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2FE2479-5E5F-4646-919B-F4F5F057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1B122-CDC3-40C1-8516-38C62F6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DE4C313-19BF-4205-AFD3-4ACA9743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19823E-4AED-4D4A-B8B6-4180BAB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3E85779-5E29-44B0-8443-CEEE5E9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2750505-F19E-49B8-B50E-F878EC06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6602C68-9149-4ACA-BA8C-536417DF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FF23B98-BB4D-4C8E-A571-3079F858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3924B58-0907-470C-8B76-9624C9A3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FE507A5-7A72-4CD3-B265-53F1EE97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B4C105-AC28-45F4-92A5-1F56036D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F3DF52B-328E-46D8-AB1D-87DAF8A7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7DA-536D-46D3-84BF-11DCC941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AF6A-9B32-457D-823F-B386BBE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9EDD3E8-14D5-4514-B70B-CE6EE35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19C316-8F76-4004-8549-FC36B35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642812F-2595-4956-BDE3-C2A9482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733AC12-077C-4B6C-9B30-9CCFBF9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5EC7460-E3F0-48C5-A5AA-ED5A0B9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7308944-D0CA-45AC-8CC1-FE9532E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F931D1E-20AC-41A6-9DDE-327C9BF9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5DEB35F-BD67-4E85-ACC3-5849BCF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53EF46A-5709-4FC3-B27A-2B2E3801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D37EA85-9AA8-4CEB-934C-ED1E946C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D6C9-D7CB-4663-B0D1-21964599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99E44E0-ECE3-43CC-A54A-C7170432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BA9F347-8CFA-4D6A-AF42-98663938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DDFC403-9970-41CE-8A9A-217564DC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202B6BA-F509-491B-966E-DAD1DEB1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4AB5384-84F7-4717-88FB-B36013A6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F353B4-FBAE-4E17-A5D4-44E1160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5F285C9-9685-40A5-99EA-7831FA0C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927EB0-A479-44F4-AAF9-1948A7A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E5412B4-23CD-445C-A2BA-A9BD1D4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A73AB3C-B9D2-4BF1-9D19-BB4354C9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7C65-74E2-46FE-BEAD-C7F2B7BE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B6B8FA9-AF0F-4232-AE0F-D5D5586B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BAF3-B7E3-4E9A-AFA3-49064333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9AB1-350A-4B9A-B5C2-3375278E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0E9D1-0E6E-4585-8504-677C5604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0B30-DE2C-40B0-9149-BCAADC8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0AAA1-464D-4C19-A654-1B6DDF08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B8D5-C500-4AD8-80CF-703AA8C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A570D-C2F9-4727-91FC-AA4C786A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BD4-7206-4DBF-88CB-2DC2C50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9747-9139-4565-8F40-FCD4653B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B159B-FE61-4CFA-9450-CC5B8F0E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CF83-608A-49D1-BF1C-F4BFF362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C787-DBDB-4EF7-90B6-581534FB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0BFEE-8439-4660-A51A-E8050633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4339-5D04-4450-8B2E-23F74EA6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564D-D1C6-4DA0-9CA2-3EEA4CE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5EE9C-D8E6-47DC-9D09-E9B948F5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65417-963D-4F1A-BEF3-B01144DE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C928-DE47-4BB2-B6A0-BC0D2017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59E-5CC3-459C-906C-8B1B2DD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CDC50-2EB6-4A07-B693-9788E869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2884D-0AD7-4D11-975B-4149CF89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7A382-7E12-41C7-97A5-E6F0C6C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E317-85D3-46BB-9957-3B371C7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D3C5-800E-4363-81BD-7191BBD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BFD8-EFDB-43C9-AECC-F36C30FC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782F-618A-4D8A-B5BA-E3804163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5D919-F104-4119-8371-E3ED095D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E9BF4-55BC-4F1B-A446-BB7EA034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EAF28-232F-4677-BBA5-D117B84E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0D0E-E1D5-4779-8861-DAC987CA0142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21DA-C1D5-43DD-A6D2-345FDC348E2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D3E1-D970-4192-8D71-B3CAA40719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6371-D11B-4A4B-BA30-3FCB2FAE894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3311-6224-4E6F-94AE-FE2A6217A28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C51-77D7-4BD3-949C-80B9B32138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1DFE-D6B0-402B-AA14-FFC2B866D5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DE12-9F7B-448D-A84D-8DF7845ED679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2A70-1CA6-4B66-BC0C-EB34F6E465B7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E26A-6018-4EE9-8649-15ABB32A2B34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46E-9431-4BF1-B47E-9C8A2437284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AD7F-6D20-4517-977D-5A78B4524B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DE5E-9565-4E76-94FB-84CD92092A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7FC-497C-4943-8700-20D132E058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A355-C5F6-4B7E-8F8B-EDE34ABE69E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490F-2E50-4DCA-B571-21E34C87742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93F-0399-4F10-9BE9-1E4AADCA1F4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5C7-C280-4BBA-8173-804DF42F9E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6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6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0621-9D65-4B0F-8B8C-3E52CA3DBB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844D-F7EC-4C52-990B-0AF2EF42DA7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3881-ED51-4E45-AA99-6FD7923E072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2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FB98-3EE9-43C3-ACC1-5BFE149B9C9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83D-5516-4A48-8B82-C55FD3AC60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9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C7DF-8AC4-4CC8-A502-01C36A7F58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1D1-7B13-427A-970A-B31396BBCA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70DB-A6DC-4906-AA59-12E86EDFB4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9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79F-6BEE-4BF7-9661-7D18D59752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FEF-88AB-44F2-B827-2F03ADEE8B3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2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3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5D2-682B-47E2-B98C-50DD37F264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FCE-B3E0-4339-A3A5-EBCA3845AFA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5DAA-2A49-417B-B744-27F5BF32151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8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8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3324-D705-4CF3-BBCD-9647A37ABED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1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4A26-099D-46D0-9487-A098E1EA85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10C-E6F2-4C4D-8466-C52ADE16F6F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 type="ftr" idx="1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 type="sldNum" idx="1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64C-73C1-46BF-8D06-26C18C4DAA2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E5AC-EDFA-47BC-8A26-D0ACD305A3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2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0EC-7F84-4992-9CDD-A2A022083D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 type="ftr" idx="1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 type="sldNum" idx="1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E86A-71D4-4232-843E-23C94172645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851-74D9-4F8C-8573-A5348DB0749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3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5E65-54F2-4173-918B-415CC2ABE9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E03D-69CD-484F-A23E-4D368C158C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2B40-5CDD-4B61-8379-5D9FFDB008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C74-59B7-45E4-A853-FCA72F24B66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50D-408D-4970-BF02-8CA221207FF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AF2-9A01-482C-B257-13D42B6F9D0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 type="ftr" idx="1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 type="sldNum" idx="1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827B-18AE-444C-AB4B-E287416711D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5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5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918B-FF61-4DA7-8D7C-652B36B78D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5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5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CE96-173A-436B-804F-F201466D40B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5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5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 type="ftr" idx="15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 type="sldNum" idx="15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B141-7062-47F4-AB62-0452F8F37A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6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6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B8DD-5855-4B9D-A584-5FDC6BC023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89FE-0937-40E4-8A02-AB94DF80D2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0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0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 type="ftr" idx="16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 type="sldNum" idx="16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993E-B03E-4723-BF9E-85862A3893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 type="ftr" idx="17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 type="sldNum" idx="17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111-8AB7-4804-A488-BC9B368BC3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17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17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EBFF-032B-451A-8893-E18591818E6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6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 type="ftr" idx="17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 type="sldNum" idx="17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3211-02EC-4088-9C3D-F84C21B813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BB70-4B1C-4FF7-B8DC-5F7A7ABDBC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 type="ftr" idx="17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 type="sldNum" idx="18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457C-C0AB-45E3-8FDC-1145CFD4139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5ED2-9366-4DF3-894A-030AAA14DA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850F-C9DC-4BCF-8BA1-818D556AB6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A2DF-5CD2-40F8-A3D1-AF48E1573B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#Slide 10" TargetMode="External"/><Relationship Id="rId2" Type="http://schemas.openxmlformats.org/officeDocument/2006/relationships/hyperlink" Target="file:///&#1055;&#1044;&#1044;2.ppt#Slide 11" TargetMode="External"/><Relationship Id="rId3" Type="http://schemas.openxmlformats.org/officeDocument/2006/relationships/hyperlink" Target="file:///&#1055;&#1044;&#1044;2.ppt#Slide 12" TargetMode="External"/><Relationship Id="rId4" Type="http://schemas.openxmlformats.org/officeDocument/2006/relationships/hyperlink" Target="file:///&#1055;&#1044;&#1044;2.ppt#Slide 13" TargetMode="External"/><Relationship Id="rId5" Type="http://schemas.openxmlformats.org/officeDocument/2006/relationships/hyperlink" Target="file:///&#1055;&#1044;&#1044;2.ppt#Slide 14" TargetMode="External"/><Relationship Id="rId6" Type="http://schemas.openxmlformats.org/officeDocument/2006/relationships/hyperlink" Target="file:///&#1055;&#1044;&#1044;2.ppt#Slide 15" TargetMode="External"/><Relationship Id="rId7" Type="http://schemas.openxmlformats.org/officeDocument/2006/relationships/hyperlink" Target="file:///&#1055;&#1044;&#1044;2.ppt#Slide 16" TargetMode="External"/><Relationship Id="rId8" Type="http://schemas.openxmlformats.org/officeDocument/2006/relationships/hyperlink" Target="file:///&#1055;&#1044;&#1044;2.ppt#Slide 17" TargetMode="External"/><Relationship Id="rId9" Type="http://schemas.openxmlformats.org/officeDocument/2006/relationships/hyperlink" Target="file:///&#1055;&#1044;&#1044;2.ppt#Slide 18" TargetMode="External"/><Relationship Id="rId10" Type="http://schemas.openxmlformats.org/officeDocument/2006/relationships/hyperlink" Target="file:///&#1055;&#1044;&#1044;2.ppt#Slide 19" TargetMode="External"/><Relationship Id="rId11" Type="http://schemas.openxmlformats.org/officeDocument/2006/relationships/hyperlink" Target="file:///&#1055;&#1044;&#1044;2.ppt#Slide 20" TargetMode="External"/><Relationship Id="rId12" Type="http://schemas.openxmlformats.org/officeDocument/2006/relationships/hyperlink" Target="file:///&#1055;&#1044;&#1044;2.ppt#Slide 21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55;&#1044;&#1044;2.ppt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&#1055;&#1044;&#1044;2.ppt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&#1055;&#1044;&#1044;2.ppt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&#1055;&#1044;&#1044;2.ppt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7"/>
          <p:cNvSpPr/>
          <p:nvPr/>
        </p:nvSpPr>
        <p:spPr>
          <a:xfrm>
            <a:off x="324000" y="8571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Группа 10"/>
          <p:cNvGrpSpPr/>
          <p:nvPr/>
        </p:nvGrpSpPr>
        <p:grpSpPr>
          <a:xfrm>
            <a:off x="214200" y="2500200"/>
            <a:ext cx="2714760" cy="4140360"/>
            <a:chOff x="214200" y="2500200"/>
            <a:chExt cx="2714760" cy="4140360"/>
          </a:xfrm>
        </p:grpSpPr>
        <p:pic>
          <p:nvPicPr>
            <p:cNvPr id="3063" name="Рисунок 4" descr="1730.gif"/>
            <p:cNvPicPr/>
            <p:nvPr/>
          </p:nvPicPr>
          <p:blipFill>
            <a:blip r:embed="rId1"/>
            <a:stretch/>
          </p:blipFill>
          <p:spPr>
            <a:xfrm>
              <a:off x="214200" y="5215320"/>
              <a:ext cx="9288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4" name="Рисунок 5" descr="post-26681-0-37452900-1369904148.jpg"/>
            <p:cNvPicPr/>
            <p:nvPr/>
          </p:nvPicPr>
          <p:blipFill>
            <a:blip r:embed="rId2"/>
            <a:stretch/>
          </p:blipFill>
          <p:spPr>
            <a:xfrm>
              <a:off x="214200" y="3929040"/>
              <a:ext cx="965880" cy="14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5" name="Рисунок 6" descr="hotel.jpg"/>
            <p:cNvPicPr/>
            <p:nvPr/>
          </p:nvPicPr>
          <p:blipFill>
            <a:blip r:embed="rId3"/>
            <a:srcRect l="16251" t="0" r="16251" b="0"/>
            <a:stretch/>
          </p:blipFill>
          <p:spPr>
            <a:xfrm>
              <a:off x="214200" y="2500200"/>
              <a:ext cx="964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6" name="Рисунок 7" descr="54179480-fuyuitcu1fygcggb.gif"/>
            <p:cNvPicPr/>
            <p:nvPr/>
          </p:nvPicPr>
          <p:blipFill>
            <a:blip r:embed="rId4"/>
            <a:stretch/>
          </p:blipFill>
          <p:spPr>
            <a:xfrm>
              <a:off x="1143000" y="5331240"/>
              <a:ext cx="8571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7" name="Рисунок 8" descr="post-26681-0-37452900-1369904148.jpg"/>
            <p:cNvPicPr/>
            <p:nvPr/>
          </p:nvPicPr>
          <p:blipFill>
            <a:blip r:embed="rId5"/>
            <a:stretch/>
          </p:blipFill>
          <p:spPr>
            <a:xfrm>
              <a:off x="2000160" y="5286600"/>
              <a:ext cx="928800" cy="13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8" name="Рисунок 9" descr="16a.jpg"/>
          <p:cNvPicPr/>
          <p:nvPr/>
        </p:nvPicPr>
        <p:blipFill>
          <a:blip r:embed="rId6"/>
          <a:stretch/>
        </p:blipFill>
        <p:spPr>
          <a:xfrm>
            <a:off x="6931080" y="2498760"/>
            <a:ext cx="162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Прямоугольник 2"/>
          <p:cNvSpPr/>
          <p:nvPr/>
        </p:nvSpPr>
        <p:spPr>
          <a:xfrm>
            <a:off x="1285920" y="642960"/>
            <a:ext cx="7388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транспортные средства по Правилам относятся к маршрутным транспортным средства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Прямоугольник 2"/>
          <p:cNvSpPr/>
          <p:nvPr/>
        </p:nvSpPr>
        <p:spPr>
          <a:xfrm>
            <a:off x="714240" y="117360"/>
            <a:ext cx="763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Сколько перекрестков изображено на рисун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Рисунок 4" descr="22-1.jpg"/>
          <p:cNvPicPr/>
          <p:nvPr/>
        </p:nvPicPr>
        <p:blipFill>
          <a:blip r:embed="rId1"/>
          <a:stretch/>
        </p:blipFill>
        <p:spPr>
          <a:xfrm>
            <a:off x="928800" y="100008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098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Прямоугольник 2"/>
          <p:cNvSpPr/>
          <p:nvPr/>
        </p:nvSpPr>
        <p:spPr>
          <a:xfrm>
            <a:off x="785880" y="500040"/>
            <a:ext cx="7745400" cy="12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На каком рисунке изображена дорога с разделительной полос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0" name="Рисунок 3" descr="25-1.jpg"/>
          <p:cNvPicPr/>
          <p:nvPr/>
        </p:nvPicPr>
        <p:blipFill>
          <a:blip r:embed="rId1"/>
          <a:stretch/>
        </p:blipFill>
        <p:spPr>
          <a:xfrm>
            <a:off x="928800" y="135720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10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Прямоугольник 2"/>
          <p:cNvSpPr/>
          <p:nvPr/>
        </p:nvSpPr>
        <p:spPr>
          <a:xfrm>
            <a:off x="611280" y="692280"/>
            <a:ext cx="82818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маневр совершает легковой автомоби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Рисунок 3" descr="33-1.jpg"/>
          <p:cNvPicPr/>
          <p:nvPr/>
        </p:nvPicPr>
        <p:blipFill>
          <a:blip r:embed="rId1"/>
          <a:stretch/>
        </p:blipFill>
        <p:spPr>
          <a:xfrm>
            <a:off x="714240" y="1857240"/>
            <a:ext cx="7620120" cy="2857680"/>
          </a:xfrm>
          <a:prstGeom prst="rect">
            <a:avLst/>
          </a:prstGeom>
          <a:ln w="0">
            <a:noFill/>
          </a:ln>
        </p:spPr>
      </p:pic>
      <p:pic>
        <p:nvPicPr>
          <p:cNvPr id="3104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43920" y="57150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Прямоугольник 2"/>
          <p:cNvSpPr/>
          <p:nvPr/>
        </p:nvSpPr>
        <p:spPr>
          <a:xfrm>
            <a:off x="826920" y="692280"/>
            <a:ext cx="80312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По каким частям дороги должны перемещаться пешех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Прямоугольник 2"/>
          <p:cNvSpPr/>
          <p:nvPr/>
        </p:nvSpPr>
        <p:spPr>
          <a:xfrm>
            <a:off x="357120" y="69228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2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 следует поступить если пешеход не  успел закончить переход дорог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Прямоугольник 2"/>
          <p:cNvSpPr/>
          <p:nvPr/>
        </p:nvSpPr>
        <p:spPr>
          <a:xfrm>
            <a:off x="826920" y="692280"/>
            <a:ext cx="8031240" cy="87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еобходимо двигаться пешеходу при движении по краю проезжей част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Прямоугольник 2"/>
          <p:cNvSpPr/>
          <p:nvPr/>
        </p:nvSpPr>
        <p:spPr>
          <a:xfrm>
            <a:off x="714240" y="214200"/>
            <a:ext cx="81727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ужно переходить дорогу если в зоне видимости нет пешеходного перех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2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то должен быть пристегнут ремнями безопасности  при поезд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Прямоугольник 2"/>
          <p:cNvSpPr/>
          <p:nvPr/>
        </p:nvSpPr>
        <p:spPr>
          <a:xfrm>
            <a:off x="324000" y="692280"/>
            <a:ext cx="8569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детям до 12-ти лет ездить на переднем сиденье автомобиля рядом с водител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Прямоугольник 2"/>
          <p:cNvSpPr/>
          <p:nvPr/>
        </p:nvSpPr>
        <p:spPr>
          <a:xfrm>
            <a:off x="468360" y="69228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перевозить детей в возрасте до 12 лет на заднем сиденье мотоцикла если на них есть мотош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огда можно производить посадку и высадку в/из транспортного сред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Прямоугольник 2"/>
          <p:cNvSpPr/>
          <p:nvPr/>
        </p:nvSpPr>
        <p:spPr>
          <a:xfrm>
            <a:off x="826920" y="692280"/>
            <a:ext cx="795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ОВОЗОК, МОПЕД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Прямоугольник 3"/>
          <p:cNvSpPr/>
          <p:nvPr/>
        </p:nvSpPr>
        <p:spPr>
          <a:xfrm>
            <a:off x="358920" y="30718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С какого возраста можно управлять велосипед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3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00960" y="4857840"/>
            <a:ext cx="98100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Прямоугольник 2"/>
          <p:cNvSpPr/>
          <p:nvPr/>
        </p:nvSpPr>
        <p:spPr>
          <a:xfrm>
            <a:off x="826920" y="692280"/>
            <a:ext cx="76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ОК, МОПЕД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-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Прямоугольник 3"/>
          <p:cNvSpPr/>
          <p:nvPr/>
        </p:nvSpPr>
        <p:spPr>
          <a:xfrm>
            <a:off x="358920" y="2643120"/>
            <a:ext cx="87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управлять велосипедом или мопедом одной ру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Прямоугольник 2"/>
          <p:cNvSpPr/>
          <p:nvPr/>
        </p:nvSpPr>
        <p:spPr>
          <a:xfrm>
            <a:off x="857160" y="301680"/>
            <a:ext cx="76327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язан ли водитель автомобиля уступить дорогу велосипедисту, который движется по велосипедной дорожке, пересекающей проезжую ч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Рисунок 5" descr="velodoroga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68920" cy="1785600"/>
          </a:xfrm>
          <a:prstGeom prst="rect">
            <a:avLst/>
          </a:prstGeom>
          <a:ln w="0">
            <a:noFill/>
          </a:ln>
        </p:spPr>
      </p:pic>
      <p:pic>
        <p:nvPicPr>
          <p:cNvPr id="3129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Прямоугольник 2"/>
          <p:cNvSpPr/>
          <p:nvPr/>
        </p:nvSpPr>
        <p:spPr>
          <a:xfrm>
            <a:off x="1116000" y="6922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Прямоугольник 3"/>
          <p:cNvSpPr/>
          <p:nvPr/>
        </p:nvSpPr>
        <p:spPr>
          <a:xfrm>
            <a:off x="214200" y="2071800"/>
            <a:ext cx="875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велосипедисту поворачивать налево или разворачиваться на дорогах с трамвайными путя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2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ет этот 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4" name="Рисунок 6" descr="i.jpg"/>
          <p:cNvPicPr/>
          <p:nvPr/>
        </p:nvPicPr>
        <p:blipFill>
          <a:blip r:embed="rId1"/>
          <a:stretch/>
        </p:blipFill>
        <p:spPr>
          <a:xfrm>
            <a:off x="1071720" y="135720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3135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Прямоугольник 2"/>
          <p:cNvSpPr/>
          <p:nvPr/>
        </p:nvSpPr>
        <p:spPr>
          <a:xfrm>
            <a:off x="785880" y="214200"/>
            <a:ext cx="835812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Знаки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акой из знаков распространяет свое действие только на ту полосу, над которой он установ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7" name="Рисунок 4" descr="pdd_04_03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45160" cy="2500560"/>
          </a:xfrm>
          <a:prstGeom prst="rect">
            <a:avLst/>
          </a:prstGeom>
          <a:ln w="0">
            <a:noFill/>
          </a:ln>
        </p:spPr>
      </p:pic>
      <p:pic>
        <p:nvPicPr>
          <p:cNvPr id="3138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42148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Прямоугольник 2"/>
          <p:cNvSpPr/>
          <p:nvPr/>
        </p:nvSpPr>
        <p:spPr>
          <a:xfrm>
            <a:off x="324000" y="69228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6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запрещено в зоне действия этого знак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0" name="Рисунок 3" descr="pdd_02_04.jpg"/>
          <p:cNvPicPr/>
          <p:nvPr/>
        </p:nvPicPr>
        <p:blipFill>
          <a:blip r:embed="rId1"/>
          <a:srcRect l="39504" t="6806" r="38000" b="10744"/>
          <a:stretch/>
        </p:blipFill>
        <p:spPr>
          <a:xfrm>
            <a:off x="1000080" y="857160"/>
            <a:ext cx="2500200" cy="3500640"/>
          </a:xfrm>
          <a:prstGeom prst="rect">
            <a:avLst/>
          </a:prstGeom>
          <a:ln w="0">
            <a:noFill/>
          </a:ln>
        </p:spPr>
      </p:pic>
      <p:pic>
        <p:nvPicPr>
          <p:cNvPr id="314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36432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8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ют эти  зна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3" name="Рисунок 4" descr="B1.jpg"/>
          <p:cNvPicPr/>
          <p:nvPr/>
        </p:nvPicPr>
        <p:blipFill>
          <a:blip r:embed="rId1"/>
          <a:stretch/>
        </p:blipFill>
        <p:spPr>
          <a:xfrm>
            <a:off x="1357200" y="1928880"/>
            <a:ext cx="2344680" cy="2052720"/>
          </a:xfrm>
          <a:prstGeom prst="rect">
            <a:avLst/>
          </a:prstGeom>
          <a:ln w="0">
            <a:noFill/>
          </a:ln>
        </p:spPr>
      </p:pic>
      <p:pic>
        <p:nvPicPr>
          <p:cNvPr id="3144" name="Рисунок 6" descr="151923_w640_h640_23.gif"/>
          <p:cNvPicPr/>
          <p:nvPr/>
        </p:nvPicPr>
        <p:blipFill>
          <a:blip r:embed="rId2"/>
          <a:stretch/>
        </p:blipFill>
        <p:spPr>
          <a:xfrm>
            <a:off x="557208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145" name="Рисунок 7" descr="16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1" name=""/>
          <p:cNvGraphicFramePr/>
          <p:nvPr/>
        </p:nvGraphicFramePr>
        <p:xfrm>
          <a:off x="214200" y="189000"/>
          <a:ext cx="8750520" cy="649296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  <a:gridCol w="2187720"/>
              </a:tblGrid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ИЕ ПОЛОЖ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62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ЕШЕХОД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012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АССАЖИР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Прямоугольник 2"/>
          <p:cNvSpPr/>
          <p:nvPr/>
        </p:nvSpPr>
        <p:spPr>
          <a:xfrm>
            <a:off x="324000" y="692280"/>
            <a:ext cx="86407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Если на перекрестке работает и светофор и регулировщик, чьи требования должны выполнять участники дорожного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7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Прямоугольник 2"/>
          <p:cNvSpPr/>
          <p:nvPr/>
        </p:nvSpPr>
        <p:spPr>
          <a:xfrm>
            <a:off x="179280" y="54936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Прямоугольник 3"/>
          <p:cNvSpPr/>
          <p:nvPr/>
        </p:nvSpPr>
        <p:spPr>
          <a:xfrm>
            <a:off x="250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При движении по нерегулируемому перекрестку кто должен уступить дорогу- водитель автомобиля или водитель трамв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0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92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Прямоугольник 2"/>
          <p:cNvSpPr/>
          <p:nvPr/>
        </p:nvSpPr>
        <p:spPr>
          <a:xfrm>
            <a:off x="571680" y="692280"/>
            <a:ext cx="839304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2" name="Рисунок 5" descr="24-15.jpg"/>
          <p:cNvPicPr/>
          <p:nvPr/>
        </p:nvPicPr>
        <p:blipFill>
          <a:blip r:embed="rId1"/>
          <a:stretch/>
        </p:blipFill>
        <p:spPr>
          <a:xfrm>
            <a:off x="1071720" y="1571760"/>
            <a:ext cx="6858000" cy="2571480"/>
          </a:xfrm>
          <a:prstGeom prst="rect">
            <a:avLst/>
          </a:prstGeom>
          <a:ln w="0">
            <a:noFill/>
          </a:ln>
        </p:spPr>
      </p:pic>
      <p:sp>
        <p:nvSpPr>
          <p:cNvPr id="3153" name="Прямоугольник 6"/>
          <p:cNvSpPr/>
          <p:nvPr/>
        </p:nvSpPr>
        <p:spPr>
          <a:xfrm>
            <a:off x="1071720" y="43038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В каком случае водитель автомобиля должен уступить дорогу пешех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4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Прямоугольник 2"/>
          <p:cNvSpPr/>
          <p:nvPr/>
        </p:nvSpPr>
        <p:spPr>
          <a:xfrm>
            <a:off x="571680" y="476280"/>
            <a:ext cx="83930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одитель автомобиля собирается повернуть налево. Кому он должен уступить доро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гу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Рисунок 5" descr="22-1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3214800"/>
          </a:xfrm>
          <a:prstGeom prst="rect">
            <a:avLst/>
          </a:prstGeom>
          <a:ln w="0">
            <a:noFill/>
          </a:ln>
        </p:spPr>
      </p:pic>
      <p:pic>
        <p:nvPicPr>
          <p:cNvPr id="3157" name="Рисунок 6" descr="16a.jpg"/>
          <p:cNvPicPr/>
          <p:nvPr/>
        </p:nvPicPr>
        <p:blipFill>
          <a:blip r:embed="rId2"/>
          <a:stretch/>
        </p:blipFill>
        <p:spPr>
          <a:xfrm>
            <a:off x="8501040" y="58896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59" name="Рисунок 2" descr="0dca325a3df8183b04658f64cfeb3c74.jpg"/>
          <p:cNvPicPr/>
          <p:nvPr/>
        </p:nvPicPr>
        <p:blipFill>
          <a:blip r:embed="rId2"/>
          <a:stretch/>
        </p:blipFill>
        <p:spPr>
          <a:xfrm>
            <a:off x="1500120" y="785880"/>
            <a:ext cx="2409840" cy="5691240"/>
          </a:xfrm>
          <a:prstGeom prst="rect">
            <a:avLst/>
          </a:prstGeom>
          <a:ln w="0">
            <a:noFill/>
          </a:ln>
        </p:spPr>
      </p:pic>
      <p:sp>
        <p:nvSpPr>
          <p:cNvPr id="3160" name="TextBox 3"/>
          <p:cNvSpPr/>
          <p:nvPr/>
        </p:nvSpPr>
        <p:spPr>
          <a:xfrm>
            <a:off x="4143240" y="1285920"/>
            <a:ext cx="5000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разрешает движение такой жест регулиров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1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2" name="Рисунок 2" descr="post-26681-0-37452900-1369904148.jpg"/>
          <p:cNvPicPr/>
          <p:nvPr/>
        </p:nvPicPr>
        <p:blipFill>
          <a:blip r:embed="rId2"/>
          <a:stretch/>
        </p:blipFill>
        <p:spPr>
          <a:xfrm>
            <a:off x="428760" y="1214280"/>
            <a:ext cx="2939760" cy="4286520"/>
          </a:xfrm>
          <a:prstGeom prst="rect">
            <a:avLst/>
          </a:prstGeom>
          <a:ln w="0">
            <a:noFill/>
          </a:ln>
        </p:spPr>
      </p:pic>
      <p:sp>
        <p:nvSpPr>
          <p:cNvPr id="3163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4" name="Рисунок 1" descr="cat.gif"/>
          <p:cNvPicPr/>
          <p:nvPr/>
        </p:nvPicPr>
        <p:blipFill>
          <a:blip r:embed="rId1"/>
          <a:stretch/>
        </p:blipFill>
        <p:spPr>
          <a:xfrm>
            <a:off x="6929280" y="5000760"/>
            <a:ext cx="1881360" cy="1542960"/>
          </a:xfrm>
          <a:prstGeom prst="rect">
            <a:avLst/>
          </a:prstGeom>
          <a:ln w="0">
            <a:noFill/>
          </a:ln>
        </p:spPr>
      </p:pic>
      <p:pic>
        <p:nvPicPr>
          <p:cNvPr id="3165" name="Рисунок 3" descr="910391-2313fb9273fe50dc.jpg"/>
          <p:cNvPicPr/>
          <p:nvPr/>
        </p:nvPicPr>
        <p:blipFill>
          <a:blip r:embed="rId2"/>
          <a:stretch/>
        </p:blipFill>
        <p:spPr>
          <a:xfrm>
            <a:off x="785880" y="928800"/>
            <a:ext cx="7119720" cy="2714400"/>
          </a:xfrm>
          <a:prstGeom prst="rect">
            <a:avLst/>
          </a:prstGeom>
          <a:ln w="0">
            <a:noFill/>
          </a:ln>
        </p:spPr>
      </p:pic>
      <p:sp>
        <p:nvSpPr>
          <p:cNvPr id="3166" name="TextBox 4"/>
          <p:cNvSpPr/>
          <p:nvPr/>
        </p:nvSpPr>
        <p:spPr>
          <a:xfrm>
            <a:off x="785880" y="407196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автомобиль может продолжить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8" name="Рисунок 2" descr="uploads_2010_02_12_02_17_03_1.jpg"/>
          <p:cNvPicPr/>
          <p:nvPr/>
        </p:nvPicPr>
        <p:blipFill>
          <a:blip r:embed="rId2"/>
          <a:stretch/>
        </p:blipFill>
        <p:spPr>
          <a:xfrm>
            <a:off x="2286000" y="714240"/>
            <a:ext cx="4675320" cy="3286440"/>
          </a:xfrm>
          <a:prstGeom prst="rect">
            <a:avLst/>
          </a:prstGeom>
          <a:ln w="0">
            <a:noFill/>
          </a:ln>
        </p:spPr>
      </p:pic>
      <p:sp>
        <p:nvSpPr>
          <p:cNvPr id="3169" name="TextBox 3"/>
          <p:cNvSpPr/>
          <p:nvPr/>
        </p:nvSpPr>
        <p:spPr>
          <a:xfrm>
            <a:off x="357120" y="4500720"/>
            <a:ext cx="614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Для кого предназначен этот светоф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0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1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2" name="Рисунок 4" descr="3_01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715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4" name="TextBox 3"/>
          <p:cNvSpPr/>
          <p:nvPr/>
        </p:nvSpPr>
        <p:spPr>
          <a:xfrm>
            <a:off x="3714840" y="357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акой знак обозначает кемпин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Рисунок 7" descr="1002.jpg"/>
          <p:cNvPicPr/>
          <p:nvPr/>
        </p:nvPicPr>
        <p:blipFill>
          <a:blip r:embed="rId2"/>
          <a:srcRect l="16142" t="0" r="16142" b="0"/>
          <a:stretch/>
        </p:blipFill>
        <p:spPr>
          <a:xfrm>
            <a:off x="3429000" y="3429000"/>
            <a:ext cx="2000160" cy="2954160"/>
          </a:xfrm>
          <a:prstGeom prst="rect">
            <a:avLst/>
          </a:prstGeom>
          <a:ln w="0">
            <a:noFill/>
          </a:ln>
        </p:spPr>
      </p:pic>
      <p:pic>
        <p:nvPicPr>
          <p:cNvPr id="3176" name="Рисунок 8" descr="1730.gif"/>
          <p:cNvPicPr/>
          <p:nvPr/>
        </p:nvPicPr>
        <p:blipFill>
          <a:blip r:embed="rId3"/>
          <a:stretch/>
        </p:blipFill>
        <p:spPr>
          <a:xfrm>
            <a:off x="571680" y="3429000"/>
            <a:ext cx="2071440" cy="2927520"/>
          </a:xfrm>
          <a:prstGeom prst="rect">
            <a:avLst/>
          </a:prstGeom>
          <a:ln w="0">
            <a:noFill/>
          </a:ln>
        </p:spPr>
      </p:pic>
      <p:pic>
        <p:nvPicPr>
          <p:cNvPr id="3177" name="Рисунок 9" descr="7_9.png"/>
          <p:cNvPicPr/>
          <p:nvPr/>
        </p:nvPicPr>
        <p:blipFill>
          <a:blip r:embed="rId4"/>
          <a:stretch/>
        </p:blipFill>
        <p:spPr>
          <a:xfrm>
            <a:off x="571680" y="285840"/>
            <a:ext cx="2143080" cy="2900160"/>
          </a:xfrm>
          <a:prstGeom prst="rect">
            <a:avLst/>
          </a:prstGeom>
          <a:ln w="0">
            <a:noFill/>
          </a:ln>
        </p:spPr>
      </p:pic>
      <p:pic>
        <p:nvPicPr>
          <p:cNvPr id="3178" name="Прямоугольник 10" descr=""/>
          <p:cNvPicPr/>
          <p:nvPr/>
        </p:nvPicPr>
        <p:blipFill>
          <a:blip r:embed="rId5"/>
          <a:stretch/>
        </p:blipFill>
        <p:spPr>
          <a:xfrm>
            <a:off x="1584360" y="2163600"/>
            <a:ext cx="1287360" cy="1524240"/>
          </a:xfrm>
          <a:prstGeom prst="rect">
            <a:avLst/>
          </a:prstGeom>
          <a:ln w="0">
            <a:noFill/>
          </a:ln>
        </p:spPr>
      </p:pic>
      <p:pic>
        <p:nvPicPr>
          <p:cNvPr id="3179" name="Прямоугольник 12" descr=""/>
          <p:cNvPicPr/>
          <p:nvPr/>
        </p:nvPicPr>
        <p:blipFill>
          <a:blip r:embed="rId6"/>
          <a:stretch/>
        </p:blipFill>
        <p:spPr>
          <a:xfrm>
            <a:off x="1657440" y="5237280"/>
            <a:ext cx="1287360" cy="1517400"/>
          </a:xfrm>
          <a:prstGeom prst="rect">
            <a:avLst/>
          </a:prstGeom>
          <a:ln w="0">
            <a:noFill/>
          </a:ln>
        </p:spPr>
      </p:pic>
      <p:pic>
        <p:nvPicPr>
          <p:cNvPr id="3180" name="Прямоугольник 13" descr=""/>
          <p:cNvPicPr/>
          <p:nvPr/>
        </p:nvPicPr>
        <p:blipFill>
          <a:blip r:embed="rId7"/>
          <a:stretch/>
        </p:blipFill>
        <p:spPr>
          <a:xfrm>
            <a:off x="4443480" y="5237280"/>
            <a:ext cx="12873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Box 7"/>
          <p:cNvSpPr/>
          <p:nvPr/>
        </p:nvSpPr>
        <p:spPr>
          <a:xfrm>
            <a:off x="324000" y="270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Box 1"/>
          <p:cNvSpPr/>
          <p:nvPr/>
        </p:nvSpPr>
        <p:spPr>
          <a:xfrm>
            <a:off x="357120" y="0"/>
            <a:ext cx="8143920" cy="87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pddmaster.ru/documents/pd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правила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светофор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1%81%D0%B2%D0%B5%D1%82%D0%BE%D1%84%D0%BE%D1%80&amp;fp=0&amp;img_url=http%3A%2F%2Fcs403527.userapi.com%2Fg40611363%2Fe_b4e8b2a8.jpg&amp;pos=3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кота в мешке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0%BA%D0%BE%D1%82%20%D0%B2%20%D0%BC%D0%B5%D1%88%D0%BA%D0%B5&amp;fp=0&amp;img_url=http%3A%2F%2F4.bp.blogspot.com%2F_SJm3-n4SO0o%2FTKG5KDurxzI%2FAAAAAAAAE8s%2Fp5xUyO8kb7Y%2Fs1600%2F1.JPG&amp;pos=0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знаков дорожного движения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kuruh.ru/dorzn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дорожных ситуаций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avto-russia.ru/pd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ВТОРО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6" name=""/>
          <p:cNvGraphicFramePr/>
          <p:nvPr/>
        </p:nvGraphicFramePr>
        <p:xfrm>
          <a:off x="250920" y="189000"/>
          <a:ext cx="8569080" cy="67215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1310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ВИЖЕНИЕ ВЕЛОСИПЕДОВ, ПОВОЗОК, МОПЕД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К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822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ЕЗД ПЕРЕКРЕСТК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ТРЕТИЙ 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Box 3"/>
          <p:cNvSpPr/>
          <p:nvPr/>
        </p:nvSpPr>
        <p:spPr>
          <a:xfrm>
            <a:off x="1357200" y="6429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Рисунок 4" descr="ca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1" name="Рисунок 5" descr="ca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35780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2" name="Рисунок 6" descr="ca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429080"/>
            <a:ext cx="1738440" cy="1425600"/>
          </a:xfrm>
          <a:prstGeom prst="rect">
            <a:avLst/>
          </a:prstGeom>
          <a:ln w="0">
            <a:noFill/>
          </a:ln>
        </p:spPr>
      </p:pic>
      <p:pic>
        <p:nvPicPr>
          <p:cNvPr id="3083" name="Рисунок 7" descr="ca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500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4" name="Рисунок 8" descr="cat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5" name="Рисунок 9" descr="ca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6" name="Прямоугольник 10" descr=""/>
          <p:cNvPicPr/>
          <p:nvPr/>
        </p:nvPicPr>
        <p:blipFill>
          <a:blip r:embed="rId13"/>
          <a:stretch/>
        </p:blipFill>
        <p:spPr>
          <a:xfrm>
            <a:off x="1871640" y="2444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7" name="Прямоугольник 11" descr=""/>
          <p:cNvPicPr/>
          <p:nvPr/>
        </p:nvPicPr>
        <p:blipFill>
          <a:blip r:embed="rId14"/>
          <a:stretch/>
        </p:blipFill>
        <p:spPr>
          <a:xfrm>
            <a:off x="772956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8" name="Прямоугольник 12" descr=""/>
          <p:cNvPicPr/>
          <p:nvPr/>
        </p:nvPicPr>
        <p:blipFill>
          <a:blip r:embed="rId15"/>
          <a:stretch/>
        </p:blipFill>
        <p:spPr>
          <a:xfrm>
            <a:off x="487044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9" name="Прямоугольник 13" descr=""/>
          <p:cNvPicPr/>
          <p:nvPr/>
        </p:nvPicPr>
        <p:blipFill>
          <a:blip r:embed="rId16"/>
          <a:stretch/>
        </p:blipFill>
        <p:spPr>
          <a:xfrm>
            <a:off x="1871640" y="46641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0" name="Прямоугольник 14" descr=""/>
          <p:cNvPicPr/>
          <p:nvPr/>
        </p:nvPicPr>
        <p:blipFill>
          <a:blip r:embed="rId17"/>
          <a:stretch/>
        </p:blipFill>
        <p:spPr>
          <a:xfrm>
            <a:off x="7656480" y="251784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1" name="Прямоугольник 15" descr=""/>
          <p:cNvPicPr/>
          <p:nvPr/>
        </p:nvPicPr>
        <p:blipFill>
          <a:blip r:embed="rId18"/>
          <a:stretch/>
        </p:blipFill>
        <p:spPr>
          <a:xfrm>
            <a:off x="4870440" y="2517840"/>
            <a:ext cx="1285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Box 7"/>
          <p:cNvSpPr/>
          <p:nvPr/>
        </p:nvSpPr>
        <p:spPr>
          <a:xfrm>
            <a:off x="0" y="285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6:47Z</dcterms:created>
  <dc:creator>U.R.</dc:creator>
  <dc:description/>
  <dc:language>en-US</dc:language>
  <cp:lastModifiedBy>Турова Жанна</cp:lastModifiedBy>
  <dcterms:modified xsi:type="dcterms:W3CDTF">2022-11-13T20:00:08Z</dcterms:modified>
  <cp:revision>93</cp:revision>
  <dc:subject/>
  <dc:title>Слайд 1</dc:title>
</cp:coreProperties>
</file>